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97C-033D-4D31-B435-7892C041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75A-1C10-4D69-8CBA-0D020CBA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2C0-1138-43F1-BB0A-2ED447C6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BB4-DB88-46B2-81C3-0E19AE41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8C16-8843-4958-BD84-6C457243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E017-08B9-4FE6-9066-596C15BC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9A24-E0F0-4BDD-AE8C-46C94E9B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7889-B25A-40D3-9B04-D74C777D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33BB-949A-42ED-A46E-14BC5617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3972-5819-4854-9DFC-7757426F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8406-70CF-4A45-AE53-BD67109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610-A55D-434B-8801-B87150C9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3400-ABEC-4478-B716-97EC511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5C2E-BEC5-48D3-80C3-DF5EAD6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094B-9604-464B-B500-AA23A3DC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7F85-44CF-4D08-B781-FD414361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5348-48C8-4D90-8BBF-BED49EBD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1C2-BF27-47B6-B18C-B7CC89A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D9A-F19B-499D-94EE-D1DFAAFB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9A7-F1F4-49B7-BF46-E59C1C5E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291-90D9-41CD-9D21-E6A0DB7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835-84F7-4958-8A63-CC911EB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739-573E-46B4-8EFA-4EB83369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DEC-9622-4A0D-BDDD-315E987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9E65-B2FE-472B-825D-5C8FCF7E3BAB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A57A-1934-4574-A7AF-B9CFCD2444DC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erecho de la 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Solución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Utilizar mecanismos Regulator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erecho Antimonopolios (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Antitrust Law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or qué hablar de Libre Competenci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Problema 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autoritaria, dirigida, planificada (centralmen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de libre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interacción Oferta y Demanda (</a:t>
            </a:r>
            <a:r>
              <a:rPr b="0" i="1" lang="es-ES" sz="2600" spc="-1" strike="noStrike">
                <a:solidFill>
                  <a:srgbClr val="000000"/>
                </a:solidFill>
                <a:latin typeface="Garamond"/>
              </a:rPr>
              <a:t>Mano invisible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Varios e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 (Sist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Competencia (Interés - Mecanismos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tor de la Econom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nsumidores reciben Bs y 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alidad, Cantidad y Pre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ferentes recibe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ductos, Costos e Ingre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Fundamentos Económicos: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Modelo de Competencia Perfec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Gran Número de Oferentes y Demand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ducto Homogén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ibre Movilidad de los Factores Produ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metría de Información (Comple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Competencia Perfecta: Consecuenc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s Empresas intervinientes son Precio-Aceptantes o Tomadoras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Grado de Elasticidad es A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No Existen Barreras Legales o Financi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stos de Transacción bajos o n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95280" y="277920"/>
            <a:ext cx="8748720" cy="6178320"/>
            <a:chOff x="395280" y="277920"/>
            <a:chExt cx="8748720" cy="6178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95280" y="277920"/>
              <a:ext cx="8748720" cy="61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395280" y="277920"/>
              <a:ext cx="8748720" cy="617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8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uando Ingresos Marginales (IMg) = P = Costos Marginales (CMg), se detiene la P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logra eficiencia privada y social (Pare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UMg = P = CM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, cantidades y rentas (no hay alternativa más satisfactori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2 Teoremas bás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Pero </a:t>
            </a:r>
            <a:r>
              <a:rPr b="1" i="1" lang="es-ES" sz="4200" spc="-1" strike="noStrike">
                <a:solidFill>
                  <a:srgbClr val="000000"/>
                </a:solidFill>
                <a:latin typeface="Garamond"/>
              </a:rPr>
              <a:t>al final del día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 Oferta (Demanda) tiende a concentra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xisten Inelastic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Hay Barr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Fuertes Asimetrías de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petencia Imperfec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nopolio Pu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cionar producto canasta consu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s Sustitutos – Competencia poten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mpetencia Monopol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Varios empresarios. Bs diferen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lig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1:30:47Z</dcterms:created>
  <dc:creator>Sebastian Spolmann</dc:creator>
  <dc:description/>
  <dc:language>en-US</dc:language>
  <cp:lastModifiedBy>Sebastian Spolmann</cp:lastModifiedBy>
  <dcterms:modified xsi:type="dcterms:W3CDTF">2007-03-09T06:10:48Z</dcterms:modified>
  <cp:revision>26</cp:revision>
  <dc:subject/>
  <dc:title>Fundamentos Económicos: Modelo de Competencia Perfecta</dc:title>
</cp:coreProperties>
</file>