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E6626-0DD9-47DA-A4BC-979AC2C59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297A8-261E-46AA-BC90-B16701834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51F83-BF84-4495-9769-6E3FA28CA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3EBDF-1566-4C6A-BBD3-82CAD5BBC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CE924-C513-475B-A329-462960EFC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7E734-25C4-4539-B097-A83E875D7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AFF15-C9E7-495C-9B68-48EF26A7C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FB1B4-DE49-4C9D-9D53-759F1658E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3AE0F-DD54-4990-AF7F-76F5E23D2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A817B-5F79-4E77-B607-4DC670F1A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40F3E-5803-4B2D-B0AF-F374FCBBD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34AA7-93DC-44F6-B660-C6D9FB36A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320E-6D46-4DFC-81FE-A6392F8D14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EDIDAS DE SEGURIDAD</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ctavio Pino Rey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a:rPr>
              <a:t>Hasta la dictación de la Ley 18.857 de 1989</a:t>
            </a:r>
            <a:r>
              <a:rPr b="0" lang="es-CL"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Crímenes y reiteración de delitos: Internación por tiempo indefinid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Delitos menos graves: Entrega a la familia con fianza de custo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Código de Procedimiento Penal</a:t>
            </a:r>
            <a:r>
              <a:rPr b="0" lang="es-CL" sz="2800" spc="-1" strike="noStrike">
                <a:solidFill>
                  <a:srgbClr val="000000"/>
                </a:solidFill>
                <a:latin typeface="Arial"/>
              </a:rPr>
              <a:t>, art. 682 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ajenado mental peligroso y no peligros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Curable e incurab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El criterio de peligrosidad está dado por la circunstancia de que, producto de la enfermedad pueda el sujeto atentar contra si mismo o contra terceros, según pronóstico médico leg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Existe límite temporal, pero luego de cumplida podrá pasar a autoridad sanitaria si subsiste la peligrosidad del suje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Medidas de seguridad en el Código Procesal Penal</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ibro IV Título VII artículos 455 y siguientes Código Procesal Penal “Procedimiento para aplicación exclusiva de medidas de seguridad”; y Título VIII, párrafo IV del mismo libro “Ejecución de Medidas de Segurida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aplican a un sujeto inimputable por enajenación metal. Artículo 10 N° 1 Código Pe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Presupuestos de procedencia</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istencia de un hecho típico y antijurídico: Se descartan medidas predelictu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istencia de antecedentes calificados que permitan establecer la peligrosidad del sujeto (que atente contra si mismo u otras personas): Peligrosidad reemplaza a culpabil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 aplicación se debe dar en el marco del proceso pe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Tipos de medidas de seguridad</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gún la gravedad del caso (del hecho cometido y de los futuros vs. del hecho cometido) se podrá impo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ternación en un establecimiento psiquiátr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stodia y tratamiento: familia, guardador, institución pública o particular de benefice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Arial"/>
              </a:rPr>
              <a:t>Instituciones</a:t>
            </a:r>
            <a:r>
              <a:rPr b="0" lang="es-MX" sz="2800" spc="-1" strike="noStrike">
                <a:solidFill>
                  <a:srgbClr val="000000"/>
                </a:solidFill>
                <a:latin typeface="Arial"/>
              </a:rPr>
              <a:t>: No se puede llevar a cabo en establecimiento carcelario. Si no hay recinto especial, en el hospital público más cercano se habilitará un recinto espec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Arial"/>
              </a:rPr>
              <a:t>Requerimiento</a:t>
            </a:r>
            <a:r>
              <a:rPr b="0" lang="es-MX" sz="2800" spc="-1" strike="noStrike">
                <a:solidFill>
                  <a:srgbClr val="000000"/>
                </a:solidFill>
                <a:latin typeface="Arial"/>
              </a:rPr>
              <a:t>: Ministerio Públi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Arial"/>
              </a:rPr>
              <a:t>Imposición</a:t>
            </a:r>
            <a:r>
              <a:rPr b="0" lang="es-MX" sz="2800" spc="-1" strike="noStrike">
                <a:solidFill>
                  <a:srgbClr val="000000"/>
                </a:solidFill>
                <a:latin typeface="Arial"/>
              </a:rPr>
              <a:t>: El Tribunal en la sentencia al disponer la internación, o medida de custodia y tratamiento, debe determinar la forma y condiciones en que se ejecutará la medida.</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Duración</a:t>
            </a:r>
            <a:r>
              <a:rPr b="0" lang="es-CL" sz="2800" spc="-1" strike="noStrike">
                <a:solidFill>
                  <a:srgbClr val="000000"/>
                </a:solidFill>
                <a:latin typeface="Arial"/>
              </a:rPr>
              <a:t>: Mientras subsistan las condiciones que las hayan hecho necesarias. No podrán extenderse más allá de la sanción privativa de libertad que hubiere podido imponérse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 Solo es procedente cuando procedan penas privativas de libertad (ppio. Proporcionalida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 Situación juicio simplifica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 Transcurrido el plazo máximo de duración, el sistema penal pierde toda potestad respecto del enajenado mental a quien se aplicó la medida.</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ntro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Información semestral entregada por la persona o institución que tenga a su cargo al enajenado mental, respecto de la evolución de su condición, al Ministerio Público y a su curador o familia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 La obligación que se impone al Min. Público de inspeccionar cada 6 meses los establecimientos psiquiátricos o instituciones en que se encuentra internos o se hallen cumpliendo tratamiento los enajenados mentales. El MP debe informar al Juez de Garantía. El defensor según 466 CPP puede realizar las mismas peticiones al J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las de procedimiento</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rtículo 458.- </a:t>
            </a:r>
            <a:r>
              <a:rPr b="0" lang="es-ES_tradnl" sz="2800" spc="-1" strike="noStrike">
                <a:solidFill>
                  <a:srgbClr val="000000"/>
                </a:solidFill>
                <a:latin typeface="Arial"/>
              </a:rPr>
              <a:t>Cuando en el curso del procedimiento aparecieren antecedentes que permitieren presumir la inimputabilidad por enajenación mental del imputado, el ministerio público o juez de garantía, de oficio o a petición de parte, solicitará el informe psiquiátrico correspondiente, explicitando la conducta punible que se investiga en relación a éste. El juez ordenará la suspensión del procedimiento hasta tanto no se remitiere el informe requerido, sin perjuicio de continuarse respecto de los demás coimputados, si los hubie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rtículo 460.- Actuación del ministerio público.</a:t>
            </a:r>
            <a:r>
              <a:rPr b="0" lang="es-ES_tradnl" sz="2000" spc="-1" strike="noStrike">
                <a:solidFill>
                  <a:srgbClr val="000000"/>
                </a:solidFill>
                <a:latin typeface="Arial"/>
              </a:rPr>
              <a:t> Si el fiscal hallare mérito para sobreseer temporal o definitivamente la causa, efectuará la solicitud respectiva al momento del cierre de investigació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al concluir su investigación, el fiscal estimare concurrente la causal de extinción de responsabilidad criminal prevista en el artículo 10, número 1°, del Código Penal y, además, considerare aplicable una medida de seguridad, deberá así requerirl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rtículo 461.- Requerimiento de medidas de seguridad. </a:t>
            </a:r>
            <a:r>
              <a:rPr b="0" lang="es-ES_tradnl" sz="2000" spc="-1" strike="noStrike">
                <a:solidFill>
                  <a:srgbClr val="000000"/>
                </a:solidFill>
                <a:latin typeface="Arial"/>
              </a:rPr>
              <a:t>El fiscal requerirá la medida de seguridad, mediante solicitud escrita, que deberá cumplir con las exigencias del escrito de acusació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fiscal no podrá solicitar la aplicación del procedimiento abreviado o la suspensión condicional del procedimient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querellante podrá acompañar al escrito a que se refiere el artículo 261 los antecedentes que considerare demostrativos de la imputabilidad de la persona requerid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Evolución históric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u="sng">
                <a:solidFill>
                  <a:srgbClr val="000000"/>
                </a:solidFill>
                <a:uFillTx/>
                <a:latin typeface="Arial"/>
              </a:rPr>
              <a:t>Se distinguen 3 periodos</a:t>
            </a:r>
            <a:r>
              <a:rPr b="0" lang="es-CL"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les del siglo X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ienzos del siglo X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gunda mitad siglo XX hasta ho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tículo 462.- Resolución del requerimiento.</a:t>
            </a:r>
            <a:r>
              <a:rPr b="0" lang="es-ES_tradnl" sz="1800" spc="-1" strike="noStrike">
                <a:solidFill>
                  <a:srgbClr val="000000"/>
                </a:solidFill>
                <a:latin typeface="Arial"/>
              </a:rPr>
              <a:t> El juez de garantía deberá declarar si el sujeto es imputable o inimputable. Si estima que los antecedentes no permiten establecer con certeza la inimputabilidad, rechazará el requerimiento.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lo acepta, dispondrá que la acusación se formulare por el querellante, siempre que éste se hubiere opuesto al requerimiento del fiscal. En caso contrario, ordenará al ministerio público la formulación de la acusació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escritos de acusación podrán contener peticiones subsidiarias relativas a la imposición de medidas de segurida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tículo 463.- Reglas especiales relativas a la aplicación de medidas de segurida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El procedimiento no se podrá seguir conjuntamente contra sujetos enajenados mentales y otros que no lo fuere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El juicio se realizará a puerta cerrada, sin la presencia del enajenado mental, cuando su estado imposibilite la audiencia, 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La sentencia absolverá si no se constatare la existencia de un hecho típico y antijurídico o la participación del imputado en él, o, en caso contrario, podrá imponer al inimputable una medida de segurid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tículo 464.- Internación provisional del imputado.</a:t>
            </a:r>
            <a:r>
              <a:rPr b="0" lang="es-ES_tradnl" sz="1800" spc="-1" strike="noStrike">
                <a:solidFill>
                  <a:srgbClr val="000000"/>
                </a:solidFill>
                <a:latin typeface="Arial"/>
              </a:rPr>
              <a:t> Durante el procedimiento el tribunal podrá ordenar, a petición de alguno de los intervinientes, la internación provisional del imputado en un establecimiento asistencial, cuando concurrieren los requisitos señalados en los artículos 140 y 141, y el informe psiquiátrico practicado al imputado señalare que éste sufre una grave alteración o insuficiencia en sus facultades mentales que hicieren temer que atentará contra sí o contra otras persona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tículo 465.- Imputado que cae en enajenación mental. </a:t>
            </a:r>
            <a:r>
              <a:rPr b="0" lang="es-ES_tradnl" sz="1800" spc="-1" strike="noStrike">
                <a:solidFill>
                  <a:srgbClr val="000000"/>
                </a:solidFill>
                <a:latin typeface="Arial"/>
              </a:rPr>
              <a:t>Si, después de iniciado el procedimiento, el imputado cayere en enajenación mental, el juez de garantía decretará, a petición del fiscal o de cualquiera de los intervinientes, previo informe psiquiátrico, el sobreseimiento temporal del procedimiento hasta que desapareciere la incapacidad del imputado o el sobreseimiento definitivo si se tratare de una enajenación mental incurab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regla anterior sólo se aplicará cuando no procediere la terminación del procedimiento por cualquier otra caus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en el momento de caer en enajenación el imputado se hubiere formalizado la investigación o se hubiere deducido acusación en su contra, y se estimare que corresponde adoptar una medida de seguridad, se aplicará lo señalado anteriorme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rtículo 466.- Intervinientes. </a:t>
            </a:r>
            <a:r>
              <a:rPr b="0" lang="es-ES_tradnl" sz="2000" spc="-1" strike="noStrike">
                <a:solidFill>
                  <a:srgbClr val="000000"/>
                </a:solidFill>
                <a:latin typeface="Arial"/>
              </a:rPr>
              <a:t>Durante la ejecución de la pena o de la medida de seguridad, sólo podrán intervenir ante el competente juez de garantía el ministerio público, el imputado y su defenso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denado o el curador, en su caso, podrán ejercer durante la ejecución de la pena o medida de seguridad todos los derechos y facultades que la normativa penal y penitenciaria le otorga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rtículo 482.- Condenado que cae en enajenación mental. </a:t>
            </a:r>
            <a:r>
              <a:rPr b="0" lang="es-ES_tradnl" sz="2000" spc="-1" strike="noStrike">
                <a:solidFill>
                  <a:srgbClr val="000000"/>
                </a:solidFill>
                <a:latin typeface="Arial"/>
              </a:rPr>
              <a:t>Si después de dictada la sentencia, el condenado cayere en enajenación mental, el tribunal, oyendo al fiscal y al defensor, dictará una resolución fundada declarando que no se deberá cumplir la sanción restrictiva o privativa de libertad y dispondrá, según el caso, la medida de seguridad que correspondiere. El tribunal velará por el inmediato cumplimiento de su resolu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0560" y="620280"/>
            <a:ext cx="84358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Critica</a:t>
            </a:r>
            <a:endParaRPr b="0" lang="en-US" sz="4000" spc="-1" strike="noStrike">
              <a:solidFill>
                <a:srgbClr val="000000"/>
              </a:solidFill>
              <a:latin typeface="Arial"/>
            </a:endParaRPr>
          </a:p>
        </p:txBody>
      </p:sp>
      <p:sp>
        <p:nvSpPr>
          <p:cNvPr id="86" name="PlaceHolder 2"/>
          <p:cNvSpPr>
            <a:spLocks noGrp="1"/>
          </p:cNvSpPr>
          <p:nvPr>
            <p:ph/>
          </p:nvPr>
        </p:nvSpPr>
        <p:spPr>
          <a:xfrm>
            <a:off x="457200" y="1916280"/>
            <a:ext cx="8229600" cy="37051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intervención del Juez de garantía, resulta tenue y confusa, pues no se establece un procedimiento de verdadero control, ni los mecanismos procesales para requerir la intervención de este juez, degradando esa posibilidad al entregar a los fiscales del ministerio público el control y supervisión  del cumplimiento de estas medidas y la realización de ciertas “visitas semestrales”, a los recientos donde las cumpl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s órganos encargados de la persecución penal se les entrega una función supervisora de las medidas de seguridad en el Art. 481 del Código Procesal Penal, lo cual no aparece como un mecanismo suficiente para la protección de los derechos de las personas sometidas a este tipo de medid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PUESTA</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enmarca en la necesidad de la dictación de una ley de ejecución de penas que contenga la figura del juez de ejecución de penas, un magistrado que pertenezca al orden judicial, el cual será el encargado de la aplicación de dichas leyes, que contemplarán en general un trato diferenciado a las distintas clases de infractores, favoreciendo todas aquellas acciones destinadas a la reinserción social del condenado, con ello se tenderá a superar los graves conflictos penitenciarios, que con frecuencia nos informan los medios de comunic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necesidad más urgente de reforma de nuestro ordenamiento positivo debe hacerse en cuanto al tema del catálogo de  penas, de su cuantía, su determinación y especialmente su ejecución.</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peramos que ello ocurra prontamente a fin de profundizar en un sistema democrático que aborde racionalmente el tema de la respuesta a la criminalidad</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ebe rodear las medidas de seguridad de un mínimo de garantías, tanto sustantivas como adjetiv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Análisis de caso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uspensión del procedimiento y prisión preventiv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curso de amparo IC. Talca, 26/03/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curso de amparo IC. Concepción, 08/04/0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Primer period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 monista. Sólo prevé un tipo de reacción penal como consecuencia jurídica del deli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es posible atribuir responsabilidad penal al sujeto no culp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reacción penal respecto de inimputables queda entregada a las vías administ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Segundo períod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dualista o de doble vía. Se establece clara distinción entre pena y medida de segur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ace con positivismo criminológic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medidas de seguridad son entendidas como una consecuencia jurídico penal del deli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 finalidad es el tratamiento y corrección del delincu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e sujeta a los limites tradicionales de la pena, sino a la peligrosidad del sujeto (prevención espec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duración indetermin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Tercer período</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 vicarial o Sistema unitario de consecuencias jurídicas (Bus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suprime distinción entre pena (fin preventivo general y especial en ejecución de la pena) y medida de seguridad (fin preventivo especial), siendo ambas una consecuencia jurídica del deli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rigen ambas por principio de proporcionalida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Concepto</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la consecuencia jurídica de la declaración o comprobación de la “peligrosidad criminal” del sujeto inculp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ivación o restricción de bienes jurídicos aplicadas en función de la peligrosidad del sujeto que ha cometido un hecho definido en la ley como delito, orientadas a la prevención especial y aplicadas por órganos jurisdicciona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didas asegurativas: Resocializa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didas educativas: Reeduca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didas terapéuticas: Curación del su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Presupuesto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a:rPr>
              <a:t>Comisión de un hecho previsto como delito</a:t>
            </a:r>
            <a:r>
              <a:rPr b="0" lang="es-CL" sz="3200" spc="-1" strike="noStrike">
                <a:solidFill>
                  <a:srgbClr val="000000"/>
                </a:solidFill>
                <a:latin typeface="Arial"/>
              </a:rPr>
              <a:t>: Se descartan medidas predelictua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a:rPr>
              <a:t>Peligrosidad criminal de su autor</a:t>
            </a:r>
            <a:r>
              <a:rPr b="0" lang="es-CL" sz="3200" spc="-1" strike="noStrike">
                <a:solidFill>
                  <a:srgbClr val="000000"/>
                </a:solidFill>
                <a:latin typeface="Arial"/>
              </a:rPr>
              <a:t>: Algunos: “hechos que pueda cometer en el futuro”; otros: “naturaleza y entidad del hecho cometido”. (Silva Sanch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Límite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incipio de legalida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hibición de retroactivida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Garantía de Jurisdicción (proceso previo)</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Garantía de ejecució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porcionalidad e intervención mínima: Idoneidad, necesidad, proporcionalida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incipio de necesidad: No puede exceder tiempo necesario para prevenir peligros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Las medidas de seguridad en el sistema chileno</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a:rPr>
              <a:t>Hasta la dictación de ley 19.313 de 1994</a:t>
            </a:r>
            <a:r>
              <a:rPr b="0" lang="es-CL"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xistía sistema dual, con penas y medidas de segurida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xistían medidas predelictuales “Ley de Estados Antisociales” de 195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20:01:55Z</dcterms:created>
  <dc:creator>Defensoria</dc:creator>
  <dc:description/>
  <dc:language>en-US</dc:language>
  <cp:lastModifiedBy>Defensoria</cp:lastModifiedBy>
  <dcterms:modified xsi:type="dcterms:W3CDTF">2007-05-31T14:16:45Z</dcterms:modified>
  <cp:revision>4</cp:revision>
  <dc:subject/>
  <dc:title>MEDIDAS DE SEGURIDAD</dc:title>
</cp:coreProperties>
</file>