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539D6-B8B1-4B28-A980-A8543517A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3B594-65B5-43C1-9A5D-651B52184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B02DF-BFF2-433D-A161-58ED6ED57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3A7DAC-C5A8-4D0A-B92D-00936E98C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E867A-E8D2-460E-8F5C-341DD3130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3773C-ED94-49EC-9A87-67B58EE70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98AD-8BF6-4716-B865-8C79DCA07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ECB5D-800A-4219-BFBA-857620EE6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CAD182-471A-40E3-A48E-63180E9FC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FFD66-142F-431A-91C3-F51F351A5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F4997-D6AE-44D6-92BB-F38C682D0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DEBD6-9512-45E2-A377-E99F79AF5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3231E-DC53-4470-BE4C-9690E7184C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620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Interaccionismo</a:t>
            </a:r>
            <a:endParaRPr b="0" lang="en-US" sz="4000" spc="-1" strike="noStrike">
              <a:solidFill>
                <a:srgbClr val="000000"/>
              </a:solidFill>
              <a:latin typeface="Arial"/>
            </a:endParaRPr>
          </a:p>
        </p:txBody>
      </p:sp>
      <p:sp>
        <p:nvSpPr>
          <p:cNvPr id="42" name="PlaceHolder 2"/>
          <p:cNvSpPr>
            <a:spLocks noGrp="1"/>
          </p:cNvSpPr>
          <p:nvPr>
            <p:ph type="subTitle"/>
          </p:nvPr>
        </p:nvSpPr>
        <p:spPr>
          <a:xfrm>
            <a:off x="1042920" y="2565000"/>
            <a:ext cx="6400800" cy="13194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Abre nuevas perspectivas de investigación</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Llama la atención a los órganos del control social</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Instituciones totales ( cárceles, manicomios,  campos de concentración, ejército)</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 </a:t>
            </a:r>
            <a:r>
              <a:rPr b="0" lang="es-ES" sz="1800" spc="-1" strike="noStrike">
                <a:solidFill>
                  <a:srgbClr val="333399"/>
                </a:solidFill>
                <a:latin typeface="Arial"/>
              </a:rPr>
              <a:t>Elabora los conceptos de etiquetaje y estereotipos de delincuente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tudia el carácter selectivo de la policía y la elaboración y pronunciamiento de las sentencias</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Es el origen de la criminología crítica</a:t>
            </a:r>
            <a:endParaRPr b="0" lang="en-US" sz="1800" spc="-1" strike="noStrike">
              <a:solidFill>
                <a:srgbClr val="000000"/>
              </a:solidFill>
              <a:latin typeface="Arial"/>
            </a:endParaRPr>
          </a:p>
          <a:p>
            <a:pPr algn="ctr">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99"/>
                </a:solidFill>
                <a:latin typeface="Arial"/>
              </a:rPr>
              <a:t>Representantes Chapman, Becker.  Goffma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El realismo de izquierda (reduccionista)</a:t>
            </a:r>
            <a:endParaRPr b="0" lang="en-US" sz="4000" spc="-1" strike="noStrike">
              <a:solidFill>
                <a:srgbClr val="000000"/>
              </a:solidFill>
              <a:latin typeface="Arial"/>
            </a:endParaRPr>
          </a:p>
        </p:txBody>
      </p:sp>
      <p:sp>
        <p:nvSpPr>
          <p:cNvPr id="60" name="PlaceHolder 2"/>
          <p:cNvSpPr>
            <a:spLocks noGrp="1"/>
          </p:cNvSpPr>
          <p:nvPr>
            <p:ph/>
          </p:nvPr>
        </p:nvSpPr>
        <p:spPr>
          <a:xfrm>
            <a:off x="324000" y="155736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e abre un nuevo debate sobr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A.- Las causas del deli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Un nuevo análisis porque las condiciones de la sociedad capitalista no son la única causal del delit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El grado de pobreza no se correlaciona con el porcentaje de los delit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 </a:t>
            </a:r>
            <a:r>
              <a:rPr b="0" lang="en-US" sz="1800" spc="-1" strike="noStrike">
                <a:solidFill>
                  <a:srgbClr val="ff5050"/>
                </a:solidFill>
                <a:latin typeface="Arial"/>
              </a:rPr>
              <a:t>Hay otros factores que entran como el individualismo, competitividad , machismo, deseo de  o necesidad de bienes materiales, violencia estructural e institu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SOLUCIÓN.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Intervenir en las causas del delito y establecer un buen control con una Política Criminal que abarque la Política social </a:t>
            </a:r>
            <a:endParaRPr b="0" lang="en-US" sz="1800" spc="-1" strike="noStrike">
              <a:solidFill>
                <a:srgbClr val="000000"/>
              </a:solidFill>
              <a:latin typeface="Arial"/>
            </a:endParaRPr>
          </a:p>
          <a:p>
            <a:pPr marL="343080" indent="-343080">
              <a:lnSpc>
                <a:spcPct val="80000"/>
              </a:lnSpc>
              <a:spcBef>
                <a:spcPts val="45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Preocupación por nuevos delitos( contaminación, tráfico automotor, seguridad industria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5050"/>
                </a:solidFill>
                <a:latin typeface="Arial"/>
              </a:rPr>
              <a:t>NO BASTA  COMBATIR EL CRIMEN SINO LUCHAR  CONTRA LA DESIGUALDAD Y LA SUBORDINIÓ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de Izquierda ( cont)</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B.- El delito como problema real: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principalmente contra las clases bajas( intraclasista y no interclas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Si el delito es intraclasista hace enfrentarse  a los desprotegidos entre si, olvidando al enemigo real que es la injusta sociedad capitalist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considerar que la gente ve al delito como un problema real y por lo tanto esta de acuerdo con que sean sancionados la mayor parte de los delit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Arial"/>
              </a:rPr>
              <a:t>Hay que rechazar la simpatía por el desviado, pero desenmascarar situaciones de situaciones y sufrimientos re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alismo de Izquierda ( cont) </a:t>
            </a:r>
            <a:br>
              <a:rPr sz="4000"/>
            </a:b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C.- Víctima del delito</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Al haberse abandonado su estudio los grupos de mayor riesgo son víctimas porqu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Sectores desposeídos padecen mas delitos( mayor impacto) </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Temor de las víctimas golpea y desorganiza mas a la clase pobre</a:t>
            </a:r>
            <a:endParaRPr b="0" lang="en-US" sz="2800" spc="-1" strike="noStrike">
              <a:solidFill>
                <a:srgbClr val="000000"/>
              </a:solidFill>
              <a:latin typeface="Arial"/>
            </a:endParaRPr>
          </a:p>
          <a:p>
            <a:pPr marL="343080" indent="-343080">
              <a:lnSpc>
                <a:spcPct val="90000"/>
              </a:lnSpc>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 clase trabajadora pide mas protección porque la imagen del delito es real y no exagerad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alismo e  Izquierda ( cont)</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opuesta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control penal y extensión de otras áreas  ( asaltos, abuso de menores, violencia sexual y racial, delitos del Estad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inserción de los delincuentes buscando medidas alternativas ( como resarcir daños, servicios comunidad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isuasión preventiva ( grupos de cooperación cuidadana, patrullas juveniles, mayor vigilancia, mas contacto con la comunidad ,atención barrios marginados, responsabilidad democrática de la policí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la prisión debe ser mantenida solo en  extremas circunstancias, en tal caso la vida intramuros debe ser normal ( relación familia, comunidad, arrestos de fin de seman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Críticas al  Neorealismo de izquierda</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as críticas a la cárcel  son las mismas .no han  variado las  condiciones</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Los problemas sociales son definidos como criminales y no pueden ser enfrentados con la represión penal sino con la trasformación de las relaciones sociales inherentes a los problemas </a:t>
            </a:r>
            <a:endParaRPr b="0" lang="en-US" sz="2800" spc="-1" strike="noStrike">
              <a:solidFill>
                <a:srgbClr val="000000"/>
              </a:solidFill>
              <a:latin typeface="Arial"/>
            </a:endParaRPr>
          </a:p>
          <a:p>
            <a:pPr marL="343080" indent="-343080">
              <a:spcBef>
                <a:spcPts val="700"/>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50"/>
                </a:solidFill>
                <a:latin typeface="Arial"/>
              </a:rPr>
              <a:t>  </a:t>
            </a:r>
            <a:r>
              <a:rPr b="0" lang="en-US" sz="2800" spc="-1" strike="noStrike">
                <a:solidFill>
                  <a:srgbClr val="ff5050"/>
                </a:solidFill>
                <a:latin typeface="Arial"/>
              </a:rPr>
              <a:t>Los instrumentos del control social  deben ser activos y no reactivos para desarrollar la trasformación so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Minimalismo</a:t>
            </a:r>
            <a:endParaRPr b="0" lang="en-US" sz="4400" spc="-1" strike="noStrike">
              <a:solidFill>
                <a:srgbClr val="000000"/>
              </a:solidFill>
              <a:latin typeface="Arial"/>
            </a:endParaRPr>
          </a:p>
        </p:txBody>
      </p:sp>
      <p:sp>
        <p:nvSpPr>
          <p:cNvPr id="70" name="PlaceHolder 2"/>
          <p:cNvSpPr>
            <a:spLocks noGrp="1"/>
          </p:cNvSpPr>
          <p:nvPr>
            <p:ph/>
          </p:nvPr>
        </p:nvSpPr>
        <p:spPr>
          <a:xfrm>
            <a:off x="611280" y="162864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la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ización del sistema de garantías pena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Sistema Penal es funcional a la reproducción material e ideológica de las relaciones de poder y de propiedad existent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e trasformarse y reducirse al mínim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ley penal puede y debe representar al mas débil frente a la reacción desmedida del Est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 campos de atención deben ser el control penal, la Política Criminal altern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uestas en materia de Política Criminal</a:t>
            </a:r>
            <a:endParaRPr b="0" lang="en-US" sz="4000" spc="-1" strike="noStrike">
              <a:solidFill>
                <a:srgbClr val="000000"/>
              </a:solidFill>
              <a:latin typeface="Arial"/>
            </a:endParaRPr>
          </a:p>
        </p:txBody>
      </p:sp>
      <p:sp>
        <p:nvSpPr>
          <p:cNvPr id="72" name="PlaceHolder 2"/>
          <p:cNvSpPr>
            <a:spLocks noGrp="1"/>
          </p:cNvSpPr>
          <p:nvPr>
            <p:ph/>
          </p:nvPr>
        </p:nvSpPr>
        <p:spPr>
          <a:xfrm>
            <a:off x="25092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Trasformación radical de la sociedad( social e institucional para desarrollar igualdad)</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Reducción del sistema penal y extensión a otras áreas </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olíticas de decriminalización o criminalización según las consideraciones de las necesidades de trabajadores y marginados</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Defensa de un Poder Público que defienda los intereses sectores mas débiles, comprometiendo a la sociedad civil organizad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Implantación de un nuevo Derecho Penal fragmentario, accesorio y ultima rati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 </a:t>
            </a:r>
            <a:r>
              <a:rPr b="0" lang="es-ES" sz="2000" spc="-1" strike="noStrike">
                <a:solidFill>
                  <a:srgbClr val="ff5050"/>
                </a:solidFill>
                <a:latin typeface="Arial"/>
              </a:rPr>
              <a:t>como paso intermedio implantar medidas alternativas tradicionales que minimicen el paso por el sistem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Abolición del derecho Penal a largo plaz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licionismo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Postulado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Hay que desmantelar el Derecho Penal vig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actual ha contribuido a reforzar las desigualdades en las relaciones de poder</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stas desigualdades pueden disminuir si se utilizan prácticas informales y comunitarias de auto gestión , resolución de conflictos y problemas sociales,</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no cumple con las funciones de la pena, ni contiene los conflictos sociales, por el contrario, crea mas Violencia</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El Derecho Penal expropia el conflicto a la víctim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l abolicionismo</a:t>
            </a:r>
            <a:endParaRPr b="0" lang="en-US" sz="4400" spc="-1" strike="noStrike">
              <a:solidFill>
                <a:srgbClr val="000000"/>
              </a:solidFill>
              <a:latin typeface="Arial"/>
            </a:endParaRPr>
          </a:p>
        </p:txBody>
      </p:sp>
      <p:sp>
        <p:nvSpPr>
          <p:cNvPr id="76"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 una teoría, sino un discurso académico,</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No están dadas las condiciones políticas y culturales para llevarlo a cabo  ni a corto ni a mediano plazo, </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 </a:t>
            </a:r>
            <a:r>
              <a:rPr b="0" lang="en-US" sz="2400" spc="-1" strike="noStrike">
                <a:solidFill>
                  <a:srgbClr val="ff5050"/>
                </a:solidFill>
                <a:latin typeface="Arial"/>
              </a:rPr>
              <a:t>El temor a que el Derecho Penal sea reemplazado por otros mecanismos mas represivos e irracionales, puesto que en América Latina no hay sociedades igualitarias ni  hemos podido abolir los conflictos primeramente</a:t>
            </a:r>
            <a:endParaRPr b="0" lang="en-US" sz="2400" spc="-1" strike="noStrike">
              <a:solidFill>
                <a:srgbClr val="000000"/>
              </a:solidFill>
              <a:latin typeface="Arial"/>
            </a:endParaRPr>
          </a:p>
          <a:p>
            <a:pPr marL="343080" indent="-343080">
              <a:lnSpc>
                <a:spcPct val="90000"/>
              </a:lnSpc>
              <a:spcBef>
                <a:spcPts val="601"/>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5050"/>
                </a:solidFill>
                <a:latin typeface="Arial"/>
              </a:rPr>
              <a:t>Se perdería la oportunidad a que un Derecho Penal mas democrático pueda  disminuir los niveles de violencia institucional y social que distancian a los grup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cia una criminología de los Derechos Humanos</a:t>
            </a:r>
            <a:endParaRPr b="0" lang="en-US" sz="4000" spc="-1" strike="noStrike">
              <a:solidFill>
                <a:srgbClr val="000000"/>
              </a:solidFill>
              <a:latin typeface="Arial"/>
            </a:endParaRPr>
          </a:p>
        </p:txBody>
      </p:sp>
      <p:sp>
        <p:nvSpPr>
          <p:cNvPr id="78" name="PlaceHolder 2"/>
          <p:cNvSpPr>
            <a:spLocks noGrp="1"/>
          </p:cNvSpPr>
          <p:nvPr>
            <p:ph/>
          </p:nvPr>
        </p:nvSpPr>
        <p:spPr>
          <a:xfrm>
            <a:off x="611280" y="148428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ff5050"/>
                </a:solidFill>
                <a:latin typeface="Arial"/>
              </a:rPr>
              <a:t>Implantación de un nuevo Derecho penal a corto plazo que garantice  los derechos humanos fundamentales (principios de Zaffaroni y Baratta).</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Evitar los efectos de la pena privativa de libertad  con  el uso del Derecho Penal Mínimo</a:t>
            </a:r>
            <a:endParaRPr b="0" lang="en-US" sz="2000" spc="-1" strike="noStrike">
              <a:solidFill>
                <a:srgbClr val="000000"/>
              </a:solidFill>
              <a:latin typeface="Arial"/>
            </a:endParaRPr>
          </a:p>
          <a:p>
            <a:pPr marL="343080" indent="-343080">
              <a:lnSpc>
                <a:spcPct val="80000"/>
              </a:lnSpc>
              <a:spcBef>
                <a:spcPts val="499"/>
              </a:spcBef>
              <a:buClr>
                <a:srgbClr val="ff5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5050"/>
                </a:solidFill>
                <a:latin typeface="Arial"/>
              </a:rPr>
              <a:t>Priorizar la solución de conflictos por la vía pacífic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333399"/>
                </a:solidFill>
                <a:latin typeface="Arial"/>
              </a:rPr>
              <a:t>El Derecho Penal humanitario que queremos deb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preocuparse por todas las situaciones dañinas criminalizadas o no, como de las victimas y de todas las personas que presenten situaciones problemáticas. Para ello hay que trasladar la Criminología al estudio y solución de los problemas económicos y sociales mediante una relación interdisciplinaria con otras ciencias, y en luchar por incorporar esos principios en una Política Criminal Alternativ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tiquetamiento</a:t>
            </a:r>
            <a:endParaRPr b="0" lang="en-US" sz="4400" spc="-1" strike="noStrike">
              <a:solidFill>
                <a:srgbClr val="000000"/>
              </a:solidFill>
              <a:latin typeface="Arial"/>
            </a:endParaRPr>
          </a:p>
        </p:txBody>
      </p:sp>
      <p:sp>
        <p:nvSpPr>
          <p:cNvPr id="44"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lvl="4" marL="2057400" indent="-228600">
              <a:lnSpc>
                <a:spcPct val="90000"/>
              </a:lnSpc>
              <a:spcBef>
                <a:spcPts val="451"/>
              </a:spcBef>
              <a:buClr>
                <a:srgbClr val="333399"/>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JEMPLOS:</a:t>
            </a:r>
            <a:endParaRPr b="0" lang="en-US" sz="1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niño que fracasa en la escuela, el joven que va al reformatorio</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joven que apedrea en una manifestación</a:t>
            </a: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detenido por sospecha de deli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ste proceso de etiquetamiento  predispone y conduce al asumir el rol delincuencial y será asignado fatalmente a la carera crimin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l acto calificado como desviado depende de quien lo come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Interaccionismo ( cont)</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desviación es vista como una reacción a las respuestas del “otr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Desviado es aquel llamado así por la gente</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Hay  muchas conductas en la sociedad que son reprobadas dañosas, pero nadie se queja o las reprueba expresamente, ej .(robos en supermercados , alteraciones  cuentas de luz ,teléfono.)</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La aplicación de las normas son cuestiones políticas ( no representarían los intereses de la comunidad )</a:t>
            </a:r>
            <a:endParaRPr b="0" lang="en-US" sz="2400" spc="-1" strike="noStrike">
              <a:solidFill>
                <a:srgbClr val="000000"/>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99"/>
                </a:solidFill>
                <a:latin typeface="Arial"/>
              </a:rPr>
              <a:t>Quienes hacen las leyes.? : viejos para jóvenes, hombres para mujeres, blancos para indígenas, ricos para pobres,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mientos radicales o crítico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Antecedentes históricos: sucesos socio políticos , época 1960-1970):</a:t>
            </a: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 </a:t>
            </a:r>
            <a:r>
              <a:rPr b="0" lang="es-ES" sz="2000" spc="-1" strike="noStrike">
                <a:solidFill>
                  <a:srgbClr val="333399"/>
                </a:solidFill>
                <a:latin typeface="Arial"/>
              </a:rPr>
              <a:t>Movimientos sociales de jipies, anti bélicos, negros, estudiantiles,  carcelarios, anti psiquiátricos, contra culturas ,política exterior  estadounidense (Vietnam ), corrupción  de Nixon, revolución cubana, gobiernos de  izquierda latinoamericano, revolución cultural de Mao,  muertes de Kennedy,Luther King, che Guevara, invasión de Checoeslovaqu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Nacimiento  en USA ( Berkeley) e Inglaterra (National Desviance Conferen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Representantes: Platt, Schwendinger, Takagi, Quinney, Baratta, Taylor, Walton,You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99"/>
                </a:solidFill>
                <a:latin typeface="Arial"/>
              </a:rPr>
              <a:t>Lema Estudiantil: La imaginación al poder: seamos realistas, pidamos lo imposi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stulados de las teorías críticas o radicales</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uestionamiento de la ley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o hay igualdad en la aplicación de la ley</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La ley no protege por igual los bienes de los ciudadano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eocupación por los sectores marginado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spenalizar ciertas conductas</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mocratizar sectores punitivos del estado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ueva forma de definir objeto y términos de la cuestión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Utilización del método marxista por ser histórico y político de interpretación ( escuela de Frankfurt)</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a Política Criminal alternativ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ortes de  la Criminología Crítica</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Superación paradigma etiológic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mitificación del Derech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opone medidas alternativas para decriminaliz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olición de la prisión</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Justicia popular</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y deslegitimiza el  Derecho Pe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 </a:t>
            </a:r>
            <a:r>
              <a:rPr b="0" lang="es-ES" sz="2400" spc="-1" strike="noStrike">
                <a:solidFill>
                  <a:srgbClr val="009999"/>
                </a:solidFill>
                <a:latin typeface="Arial"/>
              </a:rPr>
              <a:t>Denuncia horrores del sistema carcelari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las medidas de seguridad  por ser sentencias indeterminad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uestiona el poder y el saber de la épo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íticas a la Criminología Critic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onstruye el concepto mismo del delito( toda la razón de ser de la Criminología)</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Abandono de la Criminología por la Sociología ( la convierte en Sociología Criminal)</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scarta el objetivo central ( estudio de las causas de la delincuencia convencional para dedicarse sólo a los delitos propios de la sociedad capitalista , de las E.T o del propio Estado)</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redominio del idealismo, optimismo ,utopías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Políticamente irresponsable por su negatividad</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Deja afuera la delincuencia callejera .</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9999"/>
                </a:solidFill>
                <a:latin typeface="Arial"/>
              </a:rPr>
              <a:t>Convierte al delincuente en una especie de Robin Hood</a:t>
            </a:r>
            <a:r>
              <a:rPr b="0" lang="es-E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puesta a la Criminología Crítica: el Realismo de Derecha)</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Antecedent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 </a:t>
            </a:r>
            <a:r>
              <a:rPr b="0" lang="es-ES" sz="2000" spc="-1" strike="noStrike">
                <a:solidFill>
                  <a:srgbClr val="009999"/>
                </a:solidFill>
                <a:latin typeface="Arial"/>
              </a:rPr>
              <a:t>nace por la recesión económica y el incremento de la delincuencia callejera marginación grandes masas , especialmente jóvenes que provoca antisociabilidad, nacen los conceptos de racionalización de la economía y eficiencia, corte medidas sociales. fin del Estado benefactor, teoría del chorreo, auge partidos  conservadores que cortan huelgas, socavan poder gremi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Thatcher. Reagan, Guilian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PREMIS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LA RESPONSABILIDAD ES PERS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9999"/>
                </a:solidFill>
                <a:latin typeface="Arial"/>
              </a:rPr>
              <a:t>EL CASTIGO DEBE SER LA RESPUESTA ANTE EL CRIM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cuencias  en la Política Criminal</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9999"/>
                </a:solidFill>
                <a:latin typeface="Arial"/>
              </a:rPr>
              <a:t>POLÍTICA DE LA LEY EL ORDEN ( NACIONAL, DOMÉSTICA E INTERNACIONA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Uso de medios coercitivos necesario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esplazan los temas de Derechos Human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Guerra al crimen</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taques al desorden de la sociedad,</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Incremento de policías pers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 </a:t>
            </a:r>
            <a:r>
              <a:rPr b="0" lang="en-US" sz="2000" spc="-1" strike="noStrike">
                <a:solidFill>
                  <a:srgbClr val="009999"/>
                </a:solidFill>
                <a:latin typeface="Arial"/>
              </a:rPr>
              <a:t>Sentencias largas, </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cárceles, sobrepoblación penitenciari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umento en los presupuestos, especialmente para la policía</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uelta a los valores tradicionale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s responsabilidad de los jóvenes y mas represión hacia ellos</a:t>
            </a:r>
            <a:endParaRPr b="0" lang="en-US" sz="2000" spc="-1" strike="noStrike">
              <a:solidFill>
                <a:srgbClr val="000000"/>
              </a:solidFill>
              <a:latin typeface="Arial"/>
            </a:endParaRPr>
          </a:p>
          <a:p>
            <a:pPr marL="343080" indent="-343080">
              <a:lnSpc>
                <a:spcPct val="8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ecrudece el uso de armas de fuego, medios de comunicación y electrón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4T14:27:02Z</dcterms:created>
  <dc:creator>mvillegas</dc:creator>
  <dc:description/>
  <dc:language>en-US</dc:language>
  <cp:lastModifiedBy>mvillegas</cp:lastModifiedBy>
  <dcterms:modified xsi:type="dcterms:W3CDTF">2007-06-07T17:19:57Z</dcterms:modified>
  <cp:revision>9</cp:revision>
  <dc:subject/>
  <dc:title>CORRIENTE SOCIOLÓGICAS  2ª PARTE( el Interaccionismo)</dc:title>
</cp:coreProperties>
</file>