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6D1-D98C-41D5-9DC2-6912BDD7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8F9-EA37-416F-AEE0-48BD54F1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B56-A91D-4427-9076-BBDF428F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705-4504-463E-A733-54031089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888-58E4-42F1-A5B4-7995B107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DA4-683A-421F-84F5-A0016056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012-3E0E-449C-9E96-6450D6A8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883-4490-4C4F-8054-2BEEE083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C07-25BF-416F-AC8A-D5223711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E2C-B099-470F-9D41-BB453F9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30D-3887-44A7-9ED2-9C3EEF0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A01-CE94-4FA9-A010-0CEFDF64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987F-7078-42C4-81C7-F5765F3F97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 compone 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mo actúa el Control Social Infor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yendo la actitud crítica o div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ndo actitud confor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ando al indiv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endo el statu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informal y 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0000" y="3933360"/>
            <a:ext cx="712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ción conven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olenc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ipulación decisiones sobre educación, opción sexual, deporte, música, relig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es sobre internamientos para las conductas desvi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ción de los roles  productores y reproductores (géne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trol social : la educación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rigida a las expectativas de profesionalizaciòn de acuerdo a la pertenencia a clas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o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riminación sexual, étnica, social, econó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olerancia ( por ej, a los Derechos sexuales y reproductivos como el embarazo de adolesc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trol social y trabajo( según tipo de Poder se determina los demás tipos ( social, económico, politic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idad reflejada en la aprendizaje técnica y su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 de seguir perteneciendo a la clase productora , `por ende  al salario, a la seguridad social, a la 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n la produ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y 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smiten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n sesgadamente( seleccionan realidad crimi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smiten pánico por la inseguridad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gmatizan a los desviados entre”malos y buen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197080" y="1053720"/>
            <a:ext cx="1346184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y relig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973440" y="2603160"/>
            <a:ext cx="1108548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utorita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rol sexu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fuerza roles productores y reproducto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ivilegian la confor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mpiden concienci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6:05:56Z</dcterms:created>
  <dc:creator>mvillegas</dc:creator>
  <dc:description/>
  <dc:language>en-US</dc:language>
  <cp:lastModifiedBy>xvidal</cp:lastModifiedBy>
  <dcterms:modified xsi:type="dcterms:W3CDTF">2007-03-22T13:28:26Z</dcterms:modified>
  <cp:revision>3</cp:revision>
  <dc:subject/>
  <dc:title>CONTROL SOCIAL INFORMAL</dc:title>
</cp:coreProperties>
</file>