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DEDB-9883-4FEB-A53B-1BB6DA934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F268-100A-46DC-9456-A9D26F23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0140-37DE-4B21-8620-3F47D50E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00B9-27F6-4C46-A1D6-20E888F8D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8101-3B3C-401B-AAD2-1FF76C13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83E4-6B2C-4B7B-AFD1-F45CF721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B8ED-4730-4419-BACE-4BA2DDE7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5D67-8788-456E-938F-C08FAE77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C8E9-3A52-4544-9690-9A073CDA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A22D-03D1-4E6F-9D75-2AEF8291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E658-A759-467F-B022-5E80E584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3B09-7A00-44FB-8483-DEA90297E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E058-C089-42D0-A0F3-59BE9D3F9C9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SOCIAL INFORM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  compone de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mi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cue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ig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os de comun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ómo actúa el Control Social Informa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yendo la actitud crítica o diverg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ndo actitud conform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iplinando al individ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teniendo el statu qu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social informal y la famil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00000" y="3933360"/>
            <a:ext cx="712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oritaris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ación convenc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olenci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ipulación decisiones sobre educación, opción sexual, deporte, música, religió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es sobre internamientos para las conductas desviad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ación de los roles  productores y reproductores (géner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ontrol social : la educación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dirigida a las expectativas de profesionalizaciòn de acuerdo a la pertenencia a clase so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403280" y="450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iol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utoritar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criminación sexual, étnica, social, económ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tolerancia ( por ej, a los Derechos sexuales y reproductivos como el embarazo de adolescen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ontrol social y trabajo( según tipo de Poder se determina los demás tipos ( social, económico, politico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ridad reflejada en la aprendizaje técnica y su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bilidad  de seguir perteneciendo a la clase productora , `por ende  al salario, a la seguridad social, a la es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gilancia en la productiv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social y medios de comun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smiten viol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o de aprendiz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n sesgadamente( seleccionan realidad crimi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ipula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smiten pánico por la inseguridad ciudad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gmatizan a los desviados entre”malos y bueno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2197080" y="1053720"/>
            <a:ext cx="13461840" cy="25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social y relig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-973440" y="2603160"/>
            <a:ext cx="11085480" cy="30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utoritar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ontrol sexu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Refuerza roles productores y reproducto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Privilegian la conform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mpiden conciencia cr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6:05:56Z</dcterms:created>
  <dc:creator>mvillegas</dc:creator>
  <dc:description/>
  <dc:language>en-US</dc:language>
  <cp:lastModifiedBy>xvidal</cp:lastModifiedBy>
  <dcterms:modified xsi:type="dcterms:W3CDTF">2007-03-22T13:28:26Z</dcterms:modified>
  <cp:revision>3</cp:revision>
  <dc:subject/>
  <dc:title>CONTROL SOCIAL INFORMAL</dc:title>
</cp:coreProperties>
</file>