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47A-9DE4-4BFA-A173-7D30CE2C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1F0-12C3-4BE3-A131-5EB3434E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863-8FD3-488F-B691-3B29A7F0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AF6-ADA7-42CC-8099-19C3E858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127-8FA7-495A-841A-FEC8FD6D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F84-83CC-4922-A662-2E85C0A5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BAC-85BB-47EB-896D-04E9243D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906-38C0-4168-BBD7-EF8E29F4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78F-6F57-43C3-BEAB-4D23F1EF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418-C041-4B73-811A-4526BF3F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5C2-384C-4F14-B240-6B6A20F1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E04-0051-4578-9D26-BDEA079A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D08E-2721-4C9C-9F92-6830D8F3CC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OCIAL IN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 compone 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u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g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ómo actúa el Control Social Infor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yendo la actitud crítica o div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ndo actitud conform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iplinando al individ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niendo el statu q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ocial informal y la fam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00000" y="3933360"/>
            <a:ext cx="712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ritaris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ación conven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olenc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ipulación decisiones sobre educación, opción sexual, deporte, música, religió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es sobre internamientos para las conductas desvi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ación de los roles  productores y reproductores (géne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trol social : la educación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irigida a las expectativas de profesionalizaciòn de acuerdo a la pertenencia a clase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iol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ritar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riminación sexual, étnica, social, económ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olerancia ( por ej, a los Derechos sexuales y reproductivos como el embarazo de adolesce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trol social y trabajo( según tipo de Poder se determina los demás tipos ( social, económico, politico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ridad reflejada en la aprendizaje técnica y su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bilidad  de seguir perteneciendo a la clase productora , `por ende  al salario, a la seguridad social, a la es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en la productiv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ocial y medios de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smiten vio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n sesgadamente( seleccionan realidad crimi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smiten pánico por la inseguridad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gmatizan a los desviados entre”malos y buen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2197080" y="1053720"/>
            <a:ext cx="1346184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ocial y relig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-973440" y="2603160"/>
            <a:ext cx="1108548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utoritar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ntrol sexu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fuerza roles productores y reproducto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rivilegian la conform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mpiden conciencia cr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6:05:56Z</dcterms:created>
  <dc:creator>mvillegas</dc:creator>
  <dc:description/>
  <dc:language>en-US</dc:language>
  <cp:lastModifiedBy>xvidal</cp:lastModifiedBy>
  <dcterms:modified xsi:type="dcterms:W3CDTF">2007-03-22T13:28:26Z</dcterms:modified>
  <cp:revision>3</cp:revision>
  <dc:subject/>
  <dc:title>CONTROL SOCIAL INFORMAL</dc:title>
</cp:coreProperties>
</file>