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6839-905F-4E99-AE84-44116376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4A11-1DC6-466F-AE70-8545B32A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F78C-44FF-415B-BE03-FDB78095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C2A5-AABD-4FB4-9F1F-01C80D68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6013-8460-43B4-935E-D8DB7F7D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FA81-F08E-42A8-8F63-4C9532F2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21DD-635B-4DCF-8F05-DA0D2DA9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148B-705A-40FA-897B-36B02B11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D6FC-046C-45C4-A7E1-66D740E5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6185-4066-439F-A502-89B4D99E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74A-0602-41EB-B48D-C6CCE845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EE67-E73C-4AE2-B344-19ECF720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96E1-201D-43CD-8D78-55197013D83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SOCIAL IN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 compone 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ue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g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os de comun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ómo actúa el Control Social Inform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yendo la actitud crítica o dive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ndo actitud conform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iplinando al individ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teniendo el statu q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social informal y la fami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00000" y="3933360"/>
            <a:ext cx="712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oritaris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ación conven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olenc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ipulación decisiones sobre educación, opción sexual, deporte, música, religió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es sobre internamientos para las conductas desvi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ación de los roles  productores y reproductores (géne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ntrol social : la educación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irigida a las expectativas de profesionalizaciòn de acuerdo a la pertenencia a clase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iol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toritar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criminación sexual, étnica, social, económ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olerancia ( por ej, a los Derechos sexuales y reproductivos como el embarazo de adolesce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ntrol social y trabajo( según tipo de Poder se determina los demás tipos ( social, económico, politico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ridad reflejada en la aprendizaje técnica y su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bilidad  de seguir perteneciendo a la clase productora , `por ende  al salario, a la seguridad social, a la es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gilancia en la productiv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social y medios de comun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smiten viol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de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n sesgadamente( seleccionan realidad crimi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smiten pánico por la inseguridad ciudad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gmatizan a los desviados entre”malos y buen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2197080" y="1053720"/>
            <a:ext cx="13461840" cy="25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social y relig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-973440" y="2603160"/>
            <a:ext cx="1108548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utoritar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ontrol sexu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fuerza roles productores y reproducto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Privilegian la conform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mpiden conciencia cr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6:05:56Z</dcterms:created>
  <dc:creator>mvillegas</dc:creator>
  <dc:description/>
  <dc:language>en-US</dc:language>
  <cp:lastModifiedBy>xvidal</cp:lastModifiedBy>
  <dcterms:modified xsi:type="dcterms:W3CDTF">2007-03-22T13:28:26Z</dcterms:modified>
  <cp:revision>3</cp:revision>
  <dc:subject/>
  <dc:title>CONTROL SOCIAL INFORMAL</dc:title>
</cp:coreProperties>
</file>