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3812-84DC-4946-B8F0-0798B46E8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B5F5-6BB6-4ED1-AE6C-73CBC132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44B9-5772-4CD0-BC54-654383288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AC84-EDFA-4A0A-867B-C82130CC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FC70-1EC2-42AE-9566-582058A68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4999-86EC-4E7A-B7E3-BB414A7B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A09-664E-41E3-BC81-CEE44F08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2B9-9D6F-4D92-BD63-EBF0A18F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3F0-799E-4FBD-BDF7-6D180F29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89F3-8DD6-4C93-9E2A-26E7481E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A782-98F9-4E63-9BA3-94398131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C442-DF3E-4A23-AD31-2F6D3CB0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81978-5063-4936-9F2E-EBAC8C001C5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 sistema encargado de aplicar las ley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s operadores s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Jue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Defens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i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sonal auxili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Abog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eri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acterísticas de la administración de Justi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835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rimin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mé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r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r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expe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ca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RANTÍAS CONSTITUCION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igualdad (No habrán diferencias arbitr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incipio de protección en el ejercicio de los derech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ensa juríd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eso  a la justicia ( expedita, gratuita, igualita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ímites en la aplica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incipio de legal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Intervención Mín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Fragmentariedad ( selección rigurosa de las conductas que deben ser tipificadas y sancionadas como delit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Subsidariedad ( tutela penal indispensable ( no puede ser utilizada por otras ví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Proporcionalidad en las pe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Última rat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15:54:51Z</dcterms:created>
  <dc:creator>mvillegas</dc:creator>
  <dc:description/>
  <dc:language>en-US</dc:language>
  <cp:lastModifiedBy>xvidal</cp:lastModifiedBy>
  <dcterms:modified xsi:type="dcterms:W3CDTF">2007-03-29T15:24:50Z</dcterms:modified>
  <cp:revision>3</cp:revision>
  <dc:subject/>
  <dc:title>Administración de Justicia</dc:title>
</cp:coreProperties>
</file>