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D4F-8502-4C0E-B551-894716D1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892-575F-4086-B8E3-463521F3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263-3618-49D4-AF7E-9B419407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4F9-F161-4F3E-9CC3-2AD6FE2B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CF3-76C0-46FA-9C74-3F2C5FF7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13D-337C-4BE7-816D-CB085B7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5E8-7974-471E-955E-FBBF8A8E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381-CEAC-42D1-9A0E-42BE2D6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CF8-6C4E-4B9A-BB60-DEF0AD7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B5B-00D8-451A-B7A1-9BB4192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D40-1A1A-4829-ABE7-D135870C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AF5-0A8D-47AB-A4AE-A7CC6154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616A-8B8B-45E8-9FA5-F4C6FAF329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 sistema encargado de aplicar las ley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s operadores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Jue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Def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i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sonal aux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Abog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la 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imin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r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xpe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a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ANTÍAS CONSTITU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igualdad (No habrán diferencias arbitr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protección en el ejercicio de los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ensa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eso  a la justicia ( expedita, gratuita, igualita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ímites en la aplica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incipio de leg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Intervención Mín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ragmentariedad ( selección rigurosa de las conductas que deben ser tipificadas y sancionadas como deli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sidariedad ( tutela penal indispensable ( no puede ser utilizada por otras ví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oporcionalidad en las p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Última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54:51Z</dcterms:created>
  <dc:creator>mvillegas</dc:creator>
  <dc:description/>
  <dc:language>en-US</dc:language>
  <cp:lastModifiedBy>xvidal</cp:lastModifiedBy>
  <dcterms:modified xsi:type="dcterms:W3CDTF">2007-03-29T15:24:50Z</dcterms:modified>
  <cp:revision>3</cp:revision>
  <dc:subject/>
  <dc:title>Administración de Justicia</dc:title>
</cp:coreProperties>
</file>