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1A49-2902-4993-B45A-4625A3AC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3CB7-9C0E-4E47-8071-96593D3E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E12B-3774-4F63-9A30-748D32B9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7971-4D92-4381-8064-D656EF424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7C6E-163A-423D-8522-A42918A7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D57A-5A01-4AD4-A52D-589EE1CA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7D18-E17A-4DC5-ACDF-9840F839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F987-3C11-47FC-AB1A-2521062B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97E8-E465-4725-A426-D3561FB6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8964-906C-46E5-B6C2-3192FEFD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F4E5-397E-4282-BE7A-004C2E7A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F439-84FD-4D29-9DCC-F76E144B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6F5A-64EA-49AA-A064-184368DAAF6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ministración de Justi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Sub sistema encargado de aplicar las ley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Sus operadores s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Jue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Defens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Fi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Personal auxili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Abog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Per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acterísticas de la administración de Justi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83528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iminato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rmé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rit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ro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exped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a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ANTÍAS CONSTITUCION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incipio de igualdad (No habrán diferencias arbitrar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incipio de protección en el ejercicio de los derec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efensa jurí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cceso  a la justicia ( expedita, gratuita, igualitar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ímites en la aplicación de la p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Principio de leg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Intervención Míni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Fragmentariedad ( selección rigurosa de las conductas que deben ser tipificadas y sancionadas como deli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Subsidariedad ( tutela penal indispensable ( no puede ser utilizada por otras ví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Proporcionalidad en las pe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Última rat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5:54:51Z</dcterms:created>
  <dc:creator>mvillegas</dc:creator>
  <dc:description/>
  <dc:language>en-US</dc:language>
  <cp:lastModifiedBy>xvidal</cp:lastModifiedBy>
  <dcterms:modified xsi:type="dcterms:W3CDTF">2007-03-29T15:24:50Z</dcterms:modified>
  <cp:revision>3</cp:revision>
  <dc:subject/>
  <dc:title>Administración de Justicia</dc:title>
</cp:coreProperties>
</file>