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720-0724-4270-B2E9-CB6B8262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693-A10B-44B5-8124-6CC53CF8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08F-FB37-4C0D-A88C-618B2F92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322-69C0-42B1-97F2-3A4EAC92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DCE-67B2-4708-AE5A-04E8CEE3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07-7761-45A9-A6F0-E3D88C56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C89-8513-4D9B-9B60-63E4F50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1AB-7913-4E72-9412-1CA8E69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A9D-4D9D-4D3A-95AA-DFE24273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FF7-9670-4BA8-AD82-196DB4DE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DD4-EE38-4690-A95E-E8A43E1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2D2-E948-4ECB-8079-2D25421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0049-0735-4975-A442-5ED37B4F1B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 sistema encargado de aplicar las l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s operadore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Ju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Def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sonal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Abo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la 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imin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xpe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a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ANTÍAS CONSTITU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igualdad (No habrán diferencias arbitr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protección en el ejercicio de l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ensa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o  a la justicia ( expedita, gratuita, igualit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ímites en la aplica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incipio de leg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Intervención 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ragmentariedad ( selección rigurosa de las conductas que deben ser tipificadas y sancionadas como deli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sidariedad ( tutela penal indispensable ( no puede ser utilizada por otras ví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oporcionalidad en las p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Última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4:51Z</dcterms:created>
  <dc:creator>mvillegas</dc:creator>
  <dc:description/>
  <dc:language>en-US</dc:language>
  <cp:lastModifiedBy>xvidal</cp:lastModifiedBy>
  <dcterms:modified xsi:type="dcterms:W3CDTF">2007-03-29T15:24:50Z</dcterms:modified>
  <cp:revision>3</cp:revision>
  <dc:subject/>
  <dc:title>Administración de Justicia</dc:title>
</cp:coreProperties>
</file>