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095-EF4C-453F-9569-55D49031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3C9A-11A3-4A8B-847A-96016DE9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843-87B9-4FFD-9712-F7AD579C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36C-2F8C-4AF8-A6FB-7DF3EA18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62A-8D2F-4FEB-B16E-65180FFF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74B-A20C-49E1-BAC7-6AEC7035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DC6-1F76-47F1-808D-1D15165F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E72-1A7D-41ED-9E99-89A744E5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80A-A220-498B-9D3F-8DCE54E7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935-79D7-458D-B709-10AE1791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8405-58FC-41CA-9002-80FD6CF0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B06-2318-480A-9B4A-9748BF3A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8369-CCC1-4F82-BB40-DBA50D156B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ación de Just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Sub sistema encargado de aplicar las ley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Sus operadores s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Jue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Defen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Fi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ersonal auxil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Abog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er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 de la administración de Just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35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imin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m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ri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r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xped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a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ANTÍAS CONSTITU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ncipio de igualdad (No habrán diferencias arbitra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ncipio de protección en el ejercicio de los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ensa jurí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ceso  a la justicia ( expedita, gratuita, igualita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ímites en la aplica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rincipio de leg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Intervención Mín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Fragmentariedad ( selección rigurosa de las conductas que deben ser tipificadas y sancionadas como deli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Subsidariedad ( tutela penal indispensable ( no puede ser utilizada por otras ví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roporcionalidad en las pe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Última rat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5:54:51Z</dcterms:created>
  <dc:creator>mvillegas</dc:creator>
  <dc:description/>
  <dc:language>en-US</dc:language>
  <cp:lastModifiedBy>xvidal</cp:lastModifiedBy>
  <dcterms:modified xsi:type="dcterms:W3CDTF">2007-03-29T15:24:50Z</dcterms:modified>
  <cp:revision>3</cp:revision>
  <dc:subject/>
  <dc:title>Administración de Justicia</dc:title>
</cp:coreProperties>
</file>