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1BF-1518-40A3-86AA-444D7E7E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420-12C5-4D80-BB83-D01EEBEB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FE3-02D4-4E3A-9E38-B97D0832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EBA-014B-4FE0-A433-F3C0A9F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2F-3583-4F44-A98A-560A8F9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F72-EC79-4314-A0E1-2406CE2F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4A3-6FD4-4CB2-846E-0F630EAB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B11C-8995-4C39-839B-5FB65C07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635-F9C5-4E3B-9832-8689278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19A-F1EB-4FBF-A2BA-E8E394B0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357-E2EB-4760-B48B-78D3992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C0B9-C30F-42A0-92C3-BEBD1F26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C9C-9D4E-4B8A-964D-E93B7E7E6E5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63291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nunc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s mujeres son mayoritariamente las víctimas de los de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demás son revictimizadas ( victimización secundar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buso de  Poder en la esfera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derecho Penal 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ficiente , insuficiente, irregular en su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Sexista porque  ha sido dominado por los hombres con valores machistas, a veces xenofóbic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poder punitivo ha creado el Poder de vigilancia sobre las mujeres como control y vigilancia necesaria para una sociedad machista y mercantilista( Zaffar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ste Poder Punitivo instala un discurso discriminatorio, peyorativo y represivo contra la mu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é significa la perspectiva de gé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Reformas legales penales y proce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mplimiento de los Tratado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Establecer la igualdad real entre hombres y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Un análisis científico jurídico que aba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1.- examen de los aspectos político cri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2.- Examen de los aspectos crimi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3.- Examen de los aspectos sustitativos penales y dog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iciones movimientos feminis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Significa una revalorización cultural, cambio civilizatorio , universos de complementariedad y solución de las inequ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one el acento en lo “diverso”: (homosexuales, lesbianas, menores , alcohólicos, indios, drogadictos, prostitutas,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reación de nuevos espacios y rasgos diferenciales que no signifiquen desvalorización asociada a determinado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ntroducción de la perspectiva de género en las Políticas Criminales, en los operadores de justicia y en todo el sistema p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5:10:42Z</dcterms:created>
  <dc:creator>mvillegas</dc:creator>
  <dc:description/>
  <dc:language>en-US</dc:language>
  <cp:lastModifiedBy>mvillegas</cp:lastModifiedBy>
  <dcterms:modified xsi:type="dcterms:W3CDTF">2007-06-06T16:10:23Z</dcterms:modified>
  <cp:revision>4</cp:revision>
  <dc:subject/>
  <dc:title>Corrientes feministas (década 1960 adelante)</dc:title>
</cp:coreProperties>
</file>