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973A-007A-4CA8-930D-B236394D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0A2-1217-4B52-A7E7-CDD1F8CD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12E-1DD1-4BE6-BEFC-B3F66DCC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DEE0-D92B-4A1C-9942-CECECC7D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8C7C-50DD-45B5-8173-922EC72D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B60B-5184-46E6-A2AE-93CDD9214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8509-1A8F-4B22-8F02-AED4B204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F39A-074F-495A-A8DC-AD960243D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C7D7-6F25-466B-9532-6B8FA600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784-66D2-4877-945B-70CD1983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FEA9-F4A5-4EFD-A402-8B8F65E9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1E88-1CB8-46F7-9920-65053781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F7F6-B5F7-4F22-86B8-ED2C72207A9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ientes feministas (década 1960 adelan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2349000"/>
            <a:ext cx="6329160" cy="23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Denunci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Las mujeres son mayoritariamente las víctimas de los del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Además son revictimizadas ( victimización secundari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Abuso de  Poder en la esfera priv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El derecho Penal  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Deficiente , insuficiente, irregular en su a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Sexista porque  ha sido dominado por los hombres con valores machistas, a veces xenofóbic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El poder punitivo ha creado el Poder de vigilancia sobre las mujeres como control y vigilancia necesaria para una sociedad machista y mercantilista( Zaffaro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ff"/>
                </a:solidFill>
                <a:latin typeface="Arial"/>
              </a:rPr>
              <a:t>Este Poder Punitivo instala un discurso discriminatorio, peyorativo y represivo contra la muj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ientes feministas (década 1960 adelant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é significa la perspectiva de géner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Reformas legales penales y proce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Cumplimiento de los Tratados Inter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Establecer la igualdad real entre hombres y muj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Un análisis científico jurídico que abar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1.- examen de los aspectos político crim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2.- Examen de los aspectos criminológ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3.- Examen de los aspectos sustitativos penales y dog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iciones movimientos feminista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Significa una revalorización cultural, cambio civilizatorio , universos de complementariedad y solución de las inequ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Pone el acento en lo “diverso”: (homosexuales, lesbianas, menores , alcohólicos, indios, drogadictos, prostitutas,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Creación de nuevos espacios y rasgos diferenciales que no signifiquen desvalorización asociada a determinado gé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ff"/>
                </a:solidFill>
                <a:latin typeface="Arial"/>
              </a:rPr>
              <a:t>Introducción de la perspectiva de género en las Políticas Criminales, en los operadores de justicia y en todo el sistema pe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15:10:42Z</dcterms:created>
  <dc:creator>mvillegas</dc:creator>
  <dc:description/>
  <dc:language>en-US</dc:language>
  <cp:lastModifiedBy>mvillegas</cp:lastModifiedBy>
  <dcterms:modified xsi:type="dcterms:W3CDTF">2007-06-06T16:10:23Z</dcterms:modified>
  <cp:revision>4</cp:revision>
  <dc:subject/>
  <dc:title>Corrientes feministas (década 1960 adelante)</dc:title>
</cp:coreProperties>
</file>