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AB9-9C59-48DD-9CB8-6DA73324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CF3-6410-429D-BA0C-8BF6C8F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D3F-74C6-4E9C-BCC3-BC3FA7AD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E03-7141-450E-A042-4A92EB57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07F-0674-44F7-A35F-D7B6EE0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6EE-0345-4F30-A34A-3E7FCF1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E26-FF58-42EA-83D9-D850D93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C54-FA11-44E6-B5E5-21ACBF5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2C7-600A-4F9E-930D-60535CE8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E6F-1DC6-4EBE-A1DB-82AEC1E2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9E0-7D89-4A2E-A12D-12AEBCE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906-BF98-44BF-84EA-7459EA4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E91-8CD0-4785-A811-48E5AD7213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63291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nunc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s mujeres son mayoritariamente las víctimas de los de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demás son revictimizadas ( victimización secundar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buso de  Poder en la esfera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derecho Penal 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ficiente , insuficiente, irregular en su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Sexista porque  ha sido dominado por los hombres con valores machistas, a veces xenofóbic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poder punitivo ha creado el Poder de vigilancia sobre las mujeres como control y vigilancia necesaria para una sociedad machista y mercantilista( Zaffar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ste Poder Punitivo instala un discurso discriminatorio, peyorativo y represivo contra la mu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é significa la perspectiva de gé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Reformas legales penales y proce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mplimiento de los Tratado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Establecer la igualdad real entre hombres y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Un análisis científico jurídico que aba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1.- examen de los aspectos político cri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2.- Examen de los aspectos crimi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3.- Examen de los aspectos sustitativos penales y dog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iciones movimientos feminis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Significa una revalorización cultural, cambio civilizatorio , universos de complementariedad y solución de las inequ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one el acento en lo “diverso”: (homosexuales, lesbianas, menores , alcohólicos, indios, drogadictos, prostitutas,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reación de nuevos espacios y rasgos diferenciales que no signifiquen desvalorización asociada a determinado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ntroducción de la perspectiva de género en las Políticas Criminales, en los operadores de justicia y en todo el sistema p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5:10:42Z</dcterms:created>
  <dc:creator>mvillegas</dc:creator>
  <dc:description/>
  <dc:language>en-US</dc:language>
  <cp:lastModifiedBy>mvillegas</cp:lastModifiedBy>
  <dcterms:modified xsi:type="dcterms:W3CDTF">2007-06-06T16:10:23Z</dcterms:modified>
  <cp:revision>4</cp:revision>
  <dc:subject/>
  <dc:title>Corrientes feministas (década 1960 adelante)</dc:title>
</cp:coreProperties>
</file>