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21E1-5785-4A87-B763-20D81ECB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889-0197-465F-ABA3-8E3D90FE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BF6-4242-4CBB-9F84-DAB2881E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8C7-2071-417A-9DE5-EA186DA6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2DA8-74B4-4261-8A8B-A8F68CE9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1E6-DF2C-4C15-871C-E8451915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380E-3644-46FC-BFB6-9775A686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410-0148-4803-9FD3-9A6A7F60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C45-027D-4090-84C9-4644AA8E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E9B7-BE58-4F12-A61E-AAC6806B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9D6-0411-4AC8-B466-C9962CFD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4F8B-8B8C-4B44-92F4-8BFADD0A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A7B9-DCF1-4EEF-A50B-0976E643FC6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feministas (década 1960 adela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349000"/>
            <a:ext cx="632916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Denunc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Las mujeres son mayoritariamente las víctimas de los del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Además son revictimizadas ( victimización secundari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Abuso de  Poder en la esfera pri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l derecho Penal  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Deficiente , insuficiente, irregular en su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Sexista porque  ha sido dominado por los hombres con valores machistas, a veces xenofóbic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l poder punitivo ha creado el Poder de vigilancia sobre las mujeres como control y vigilancia necesaria para una sociedad machista y mercantilista( Zaffaro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ste Poder Punitivo instala un discurso discriminatorio, peyorativo y represivo contra la mu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feministas (década 1960 adela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é significa la perspectiva de gén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Reformas legales penales y proce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umplimiento de los Tratados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Establecer la igualdad real entre hombres y muj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Un análisis científico jurídico que aba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1.- examen de los aspectos político crim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2.- Examen de los aspectos crimi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3.- Examen de los aspectos sustitativos penales y dog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iciones movimientos feminist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Significa una revalorización cultural, cambio civilizatorio , universos de complementariedad y solución de las inequ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one el acento en lo “diverso”: (homosexuales, lesbianas, menores , alcohólicos, indios, drogadictos, prostitutas,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reación de nuevos espacios y rasgos diferenciales que no signifiquen desvalorización asociada a determinado gé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Introducción de la perspectiva de género en las Políticas Criminales, en los operadores de justicia y en todo el sistema pe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5:10:42Z</dcterms:created>
  <dc:creator>mvillegas</dc:creator>
  <dc:description/>
  <dc:language>en-US</dc:language>
  <cp:lastModifiedBy>mvillegas</cp:lastModifiedBy>
  <dcterms:modified xsi:type="dcterms:W3CDTF">2007-06-06T16:10:23Z</dcterms:modified>
  <cp:revision>4</cp:revision>
  <dc:subject/>
  <dc:title>Corrientes feministas (década 1960 adelante)</dc:title>
</cp:coreProperties>
</file>