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B56A-E575-4529-8F2D-B297754FD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3134-D74E-42D9-AD3D-85F9EFB7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0AC5-972B-4F90-9FBB-D10FD157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D596-8B75-43D6-8C17-3F60D266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A1FE-087A-4B56-A3B7-FB6ABD59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80CA-E557-45D0-B573-9A181456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2C70-4B0B-4E0E-8DD6-BC8325F1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A84F-6995-42A0-8FA3-22A9BEE9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99D-D1A2-46D5-8C38-D27648C4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57E-88CD-41EF-B428-EE53FB12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59A-F07E-48FF-93B6-4AFB4B76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96B-3900-425E-BDE5-F2341A03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399E-9034-4B69-9A9C-F6773E4D5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rientes biológ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Busca encontrar patologías-disfunciones -trastornos orgán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Direc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Antropológica ( Lombroso y sus segui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Biotipològicas ( Kretchmer y Sheld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Endocrin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Arial"/>
              </a:rPr>
              <a:t>Gené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145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íticas a las teorías biológ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00000" y="1557360"/>
            <a:ext cx="8244000" cy="35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Falta enfoqu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Son un elemento parcial dentro del espectro explicativo de la crimin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Han servido para la construcción de tipos delincuentes ( peligrosos , doctrina del nacional socialismo por ej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Sólo sirve para determinar per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No formula direcciones ni estrategias político crimi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3300"/>
                </a:solidFill>
                <a:latin typeface="Arial"/>
              </a:rPr>
              <a:t>Sirven como ciencias aux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eorías Psicoanalitica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Fre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0" y="1483920"/>
            <a:ext cx="1302552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La conducta humana ( normal y desviada) es resultado de la actuación de los instintos¨Líbido( energía de origen sex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Líbido( energía de origen sex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Tanatos( instinto de mue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Eros( instinto de la vi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Cualquier persona puede llegar a ser criminal( predisposición lat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El sexo es el motor que mueve al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Castigo es producto del deseo colectivo de expiación_ la sociedad expía sus propios sentimientos de culpa con fantasías prohib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397240" y="3357720"/>
            <a:ext cx="489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lquier persona puede llegar a ser cri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eas fundamen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01676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es del pensamiento freudia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Oral ( placer succión, tragar objetos) hasta 2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Anal ( placer de defecar( 2 a 3 añ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álica ( aparece complejo de Edipo-3 a 5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Latencia( quietud en el desarrollo adolescenc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Genital ( Fase de madurez, gratificación instinto del placer y consumación del instinto sex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ff"/>
                </a:solidFill>
                <a:latin typeface="Arial"/>
              </a:rPr>
              <a:t>Fijación en alguna de estas etapas produce regresión ( conductas desviadas o extrañas</a:t>
            </a:r>
            <a:r>
              <a:rPr b="0" lang="en-US" sz="2400" spc="-1" strike="noStrike">
                <a:solidFill>
                  <a:srgbClr val="cc99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ructura de la person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00000" y="1988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3300"/>
                </a:solidFill>
                <a:uFillTx/>
                <a:latin typeface="Arial"/>
              </a:rPr>
              <a:t>Yo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( Ego) sería el producto de la experiencia del Ho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Consciente: tiene percepción procesos intelectu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Inconsciente mecanismos de defensa. Si  está bien estructurado es persona nor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3300"/>
                </a:solidFill>
                <a:uFillTx/>
                <a:latin typeface="Arial"/>
              </a:rPr>
              <a:t>Super Yo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( valores adquiridos por socialización positiva-conciencia moral Principio del deb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663300"/>
                </a:solidFill>
                <a:uFillTx/>
                <a:latin typeface="Arial"/>
              </a:rPr>
              <a:t>Ello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 ( fuerzas instintivas – no conscientes que llevan a la conducta desviada Cualquier persona puede llegar a ser criminal si  triunfa el El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ES mas  tolerable el castigo recibido  el exterior que el impuesto por severo y cruel Super 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Una mala estructura del Yo haría triunfar al Ello, no controlaría las fuerzas instintivas del ello ni las falencias sociales del Super 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58480" y="3933720"/>
            <a:ext cx="48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ualquier persona puede llegar a ser crimi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3573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íticas al psicoanálisis crim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32000" y="2924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Es determinista( biológicamente hablan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on verdades pa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ostumbres han cambi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exualidad libe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ambios familia y edu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No toman en cuenta relación socioeconó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SIN EMBARG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OFRECE NUEVAS FORMAS DE INTERPRETACIÖN DE DETERMINADOS DELITOS ( SEXUAL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CRÏMENES ABSURDOS HORRENDOS SIN MOTIVO -IRRACIONALES -IMPORTANCIA D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APRENDIZAJE EN LA  NIÑEZ -NTERNALIZACIÖN  NORMAS Y VAL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6:43:10Z</dcterms:created>
  <dc:creator>mvillegas</dc:creator>
  <dc:description/>
  <dc:language>en-US</dc:language>
  <cp:lastModifiedBy>mvillegas</cp:lastModifiedBy>
  <dcterms:modified xsi:type="dcterms:W3CDTF">2007-06-07T17:14:33Z</dcterms:modified>
  <cp:revision>6</cp:revision>
  <dc:subject/>
  <dc:title>Corrientes biolôgicas</dc:title>
</cp:coreProperties>
</file>