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6D5-C23D-43CB-92C2-9F9657D0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741-ECF3-4E22-9426-85A23A9D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38C-9678-4157-822A-8BE62649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B42-F040-40A1-89F8-A4FC9AB7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C37-5B54-4D23-87EC-FF7CF816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3B6-E71E-4C4B-B511-0CA380B0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057-893E-4B73-832D-6834C9C1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C63-D3F9-4E0C-A98B-1B43577E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B22-0383-4E53-93E3-DB665C2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958-2342-45CB-B554-CEEAFC5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633-0D4B-4054-907D-012805E7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04F-0337-44F5-91C0-C19CDC6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12CD-61C8-4751-9E84-8FA869E75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b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usca encontrar patologías-disfunciones -trastornos orgá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Dire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ntropológica ( Lombroso y sus segui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iotipològicas ( Kretchmer y Sheld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Endocri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Gené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45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 las teorías biológ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2440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Falta enfoqu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on un elemento parcial dentro del espectro explicativo de la crimi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Han servido para la construcción de tipos delincuentes ( peligrosos , doctrina del nacional socialismo por e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ólo sirve para determinar per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No formula direcciones ni estrategias político crim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irven como ciencias aux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orías Psicoanalitic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re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13025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a conducta humana ( normal y desviada) es resultado de la actuación de los instintos¨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Tanatos( instinto de mue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ros( instinto d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ualquier persona puede llegar a ser criminal( predisposición lat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l sexo es el motor que mueve a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astigo es producto del deseo colectivo de expiación_ la sociedad expía sus propios sentimientos de culpa con fantasías prohi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397240" y="3357720"/>
            <a:ext cx="489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quier persona puede llegar a ser cri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01676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s del pensamiento freudi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ral ( placer succión, tragar objetos) hasta 2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al ( placer de defecar( 2 a 3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álica ( aparece complejo de Edipo-3 a 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atencia( quietud en el desarrollo adolesc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enital ( Fase de madurez, gratificación instinto del placer y consumación del instinto sex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Fijación en alguna de estas etapas produce regresión ( conductas desviadas o extrañas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la person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0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Ego) sería el producto de la experiencia de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Consciente: tiene percepción procesos intelect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Inconsciente mecanismos de defensa. Si  está bien estructurado es persona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Super 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valores adquiridos por socialización positiva-conciencia moral Principio del d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Ell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fuerzas instintivas – no conscientes que llevan a la conducta desviada Cualquier persona puede llegar a ser criminal si  triunfa el E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ES mas  tolerable el castigo recibido  el exterior que el impuesto por severo y cru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Una mala estructura del Yo haría triunfar al Ello, no controlaría las fuerzas instintivas del ello ni las falencias sociales d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8480" y="393372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ualquier persona puede llegar a ser cri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l psicoanálisis cri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s determinista( biológicamente habl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on verdades pa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ostumbres han camb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exualidad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ambios familia y 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No toman en cuenta relación soci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IN EMBARG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OFRECE NUEVAS FORMAS DE INTERPRETACIÖN DE DETERMINADOS DELITOS ( SEXUA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RÏMENES ABSURDOS HORRENDOS SIN MOTIVO -IRRACIONALES -IMPORTANCIA D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APRENDIZAJE EN LA  NIÑEZ -NTERNALIZACIÖN  NORMAS Y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43:10Z</dcterms:created>
  <dc:creator>mvillegas</dc:creator>
  <dc:description/>
  <dc:language>en-US</dc:language>
  <cp:lastModifiedBy>mvillegas</cp:lastModifiedBy>
  <dcterms:modified xsi:type="dcterms:W3CDTF">2007-06-07T17:14:33Z</dcterms:modified>
  <cp:revision>6</cp:revision>
  <dc:subject/>
  <dc:title>Corrientes biolôgicas</dc:title>
</cp:coreProperties>
</file>