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5A8F-AD78-4578-9575-8349412FF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F796-FF0F-4FE4-B9DA-7DC5A425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DCC0-BBCE-467F-8115-9CDD1DF8E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C268-29F2-4391-9A11-A164B51C0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BCBC-164C-4701-98CF-108D28AE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DA11-9473-4BB3-98AC-D9BC5AD4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2BDA-84C8-4C14-A872-760883F6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F6E0-B63C-4A86-B61C-03F9D9EC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68AC-38A8-42BD-A7C3-2F2CF114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3D11-BF7B-4F82-8E24-7D6FE869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74A6-3478-4F58-9B44-0DAEF5E1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5405-4153-4DDC-8290-328A2E85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0FFB-4C3F-4834-A1CC-0DBB3E793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ientes biológ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Busca encontrar patologías-disfunciones -trastornos orgán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Direc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Antropológica ( Lombroso y sus seguido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Biotipològicas ( Kretchmer y Sheld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Endocrino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Gené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145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íticas a las teorías biológ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24400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3300"/>
                </a:solidFill>
                <a:latin typeface="Arial"/>
              </a:rPr>
              <a:t>Falta enfoque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3300"/>
                </a:solidFill>
                <a:latin typeface="Arial"/>
              </a:rPr>
              <a:t>Son un elemento parcial dentro del espectro explicativo de la crimin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3300"/>
                </a:solidFill>
                <a:latin typeface="Arial"/>
              </a:rPr>
              <a:t>Han servido para la construcción de tipos delincuentes ( peligrosos , doctrina del nacional socialismo por ej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3300"/>
                </a:solidFill>
                <a:latin typeface="Arial"/>
              </a:rPr>
              <a:t>Sólo sirve para determinar perfi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3300"/>
                </a:solidFill>
                <a:latin typeface="Arial"/>
              </a:rPr>
              <a:t>No formula direcciones ni estrategias político crimi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3300"/>
                </a:solidFill>
                <a:latin typeface="Arial"/>
              </a:rPr>
              <a:t>Sirven como ciencias auxili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eorías Psicoanaliticas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Fre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1483920"/>
            <a:ext cx="1302552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La conducta humana ( normal y desviada) es resultado de la actuación de los instintos¨Líbido( energía de origen sex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Líbido( energía de origen sex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Tanatos( instinto de muer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Eros( instinto de la vi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Cualquier persona puede llegar a ser criminal( predisposición latent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El sexo es el motor que mueve al ho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Castigo es producto del deseo colectivo de expiación_ la sociedad expía sus propios sentimientos de culpa con fantasías prohib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2397240" y="3357720"/>
            <a:ext cx="489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lquier persona puede llegar a ser cri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as fundament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280" y="1989000"/>
            <a:ext cx="701676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es del pensamiento freudia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Oral ( placer succión, tragar objetos) hasta 2 añ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nal ( placer de defecar( 2 a 3 añ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álica ( aparece complejo de Edipo-3 a 5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Latencia( quietud en el desarrollo adolescen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Genital ( Fase de madurez, gratificación instinto del placer y consumación del instinto sex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Arial"/>
              </a:rPr>
              <a:t>Fijación en alguna de estas etapas produce regresión ( conductas desviadas o extrañas</a:t>
            </a:r>
            <a:r>
              <a:rPr b="0" lang="en-US" sz="2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la person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0000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663300"/>
                </a:solidFill>
                <a:uFillTx/>
                <a:latin typeface="Arial"/>
              </a:rPr>
              <a:t>Yo</a:t>
            </a: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 ( Ego) sería el producto de la experiencia del Ho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Consciente: tiene percepción procesos intelectu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Inconsciente mecanismos de defensa. Si  está bien estructurado es persona no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663300"/>
                </a:solidFill>
                <a:uFillTx/>
                <a:latin typeface="Arial"/>
              </a:rPr>
              <a:t>Super Yo</a:t>
            </a: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 ( valores adquiridos por socialización positiva-conciencia moral Principio del deb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663300"/>
                </a:solidFill>
                <a:uFillTx/>
                <a:latin typeface="Arial"/>
              </a:rPr>
              <a:t>Ello</a:t>
            </a: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 ( fuerzas instintivas – no conscientes que llevan a la conducta desviada Cualquier persona puede llegar a ser criminal si  triunfa el El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ES mas  tolerable el castigo recibido  el exterior que el impuesto por severo y cruel Super Y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Una mala estructura del Yo haría triunfar al Ello, no controlaría las fuerzas instintivas del ello ni las falencias sociales del Super Y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58480" y="3933720"/>
            <a:ext cx="48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Cualquier persona puede llegar a ser crimi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56360" y="357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íticas al psicoanálisis crim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32000" y="292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Es determinista( biológicamente hablan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Son verdades par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Costumbres han cambi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Sexualidad libe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Cambios familia y edu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No toman en cuenta relación socioeconó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SIN EMBARG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OFRECE NUEVAS FORMAS DE INTERPRETACIÖN DE DETERMINADOS DELITOS ( SEXUAL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CRÏMENES ABSURDOS HORRENDOS SIN MOTIVO -IRRACIONALES -IMPORTANCIA DEL PROCE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APRENDIZAJE EN LA  NIÑEZ -NTERNALIZACIÖN  NORMAS Y VA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6:43:10Z</dcterms:created>
  <dc:creator>mvillegas</dc:creator>
  <dc:description/>
  <dc:language>en-US</dc:language>
  <cp:lastModifiedBy>mvillegas</cp:lastModifiedBy>
  <dcterms:modified xsi:type="dcterms:W3CDTF">2007-06-07T17:14:33Z</dcterms:modified>
  <cp:revision>6</cp:revision>
  <dc:subject/>
  <dc:title>Corrientes biolôgicas</dc:title>
</cp:coreProperties>
</file>