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5FE-1F18-41DD-9037-8967D960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DB4-B124-4554-A5BA-AEBF043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C42-B203-440F-ACDD-0F739C5D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D0C-192B-42B8-98C8-7768395F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B01-E3F2-4D52-A6B7-066D41F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D59-752D-4B6F-A4EA-0FA138C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046-AC17-4119-A757-0541D3FB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837-D1B2-490E-9647-C1D9894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5E9-9D97-497C-A0D8-972C726D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59A-A6B3-4E8A-9EAA-34F4A363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6DB-495E-44A7-A90F-F794618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D43-9906-44AC-A797-B4E8E4F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CE7-3384-48EF-B613-93A433B33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b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usca encontrar patologías-disfunciones -trastornos org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Dire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ntropológica ( Lombroso y sus segu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iotipològicas ( Kretchmer y Sheld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ndocri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Gen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45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 las teorías biológ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2440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lta enfoqu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on un elemento parcial dentro del espectro explicativo de la crimi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Han servido para la construcción de tipos delincuentes ( peligrosos , doctrina del nacional socialismo por e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ólo sirve para determinar per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No formula direcciones ni estrategias político crim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irven como ciencias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s Psicoanali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re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13025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a conducta humana ( normal y desviada) es resultado de la actuación de los instintos¨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Tanatos( instinto de mue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ros( instinto d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ualquier persona puede llegar a ser criminal( predisposición lat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l sexo es el motor que mueve a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astigo es producto del deseo colectivo de expiación_ la sociedad expía sus propios sentimientos de culpa con fantasías proh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397240" y="3357720"/>
            <a:ext cx="48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quier persona puede llegar a ser cri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01676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s del pensamiento freu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ral ( placer succión, tragar objetos) hasta 2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al ( placer de defecar( 2 a 3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álica ( aparece complejo de Edipo-3 a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tencia( quietud en el desarrollo adolesc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enital ( Fase de madurez, gratificación instinto del placer y consumación del instinto sex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Fijación en alguna de estas etapas produce regresión ( conductas desviadas o extrañas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person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Ego) sería el producto de la experiencia d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Consciente: tiene percepción procesos intelec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Inconsciente mecanismos de defensa. Si  está bien estructurado es person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Super 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valores adquiridos por socialización positiva-conciencia moral Principio del d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Ell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fuerzas instintivas – no conscientes que llevan a la conducta desviada Cualquier persona puede llegar a ser criminal si  triunfa el 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ES mas  tolerable el castigo recibido  el exterior que el impuesto por severo y cru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Una mala estructura del Yo haría triunfar al Ello, no controlaría las fuerzas instintivas del ello ni las falencias sociales d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480" y="393372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ualquier persona puede llegar a ser cri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l psicoanálisis cri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s determinista( biológicamente habl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on verdades pa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ostumbres han camb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xualidad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ambios familia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No toman en cuenta rel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IN EMBAR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OFRECE NUEVAS FORMAS DE INTERPRETACIÖN DE DETERMINADOS DELITOS ( SEXUA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RÏMENES ABSURDOS HORRENDOS SIN MOTIVO -IRRACIONALES -IMPORTANCIA D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APRENDIZAJE EN LA  NIÑEZ -NTERNALIZACIÖN  NORMAS Y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43:10Z</dcterms:created>
  <dc:creator>mvillegas</dc:creator>
  <dc:description/>
  <dc:language>en-US</dc:language>
  <cp:lastModifiedBy>mvillegas</cp:lastModifiedBy>
  <dcterms:modified xsi:type="dcterms:W3CDTF">2007-06-07T17:14:33Z</dcterms:modified>
  <cp:revision>6</cp:revision>
  <dc:subject/>
  <dc:title>Corrientes biolôgicas</dc:title>
</cp:coreProperties>
</file>