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B9A-01FB-4C62-A618-185659E8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BAA-B5C3-4987-9ADD-CFE316A8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681-BC8F-4D90-BC74-BAC98B85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B6B-93ED-43E6-A6B8-45D18FCB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449-6C50-4731-BB26-DFC3F528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A81-E6BA-4764-B253-CA8C99BD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3A3-940F-482C-87DC-49AE2D2E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80D-5263-4902-AD93-ED09308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B99-063D-473F-87FC-D2B03DA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9EF-C269-4074-B95C-B82D20C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30F-FF84-4549-9C8E-7B30714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271-38DB-4462-A34F-8D8BD1E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8538-5C95-4E5B-B856-97F319D5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b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usca encontrar patologías-disfunciones -trastornos org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Dire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ntropológica ( Lombroso y sus segu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iotipològicas ( Kretchmer y Sheld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ndocri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Gen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45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 las teorías biológ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2440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lta enfoqu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on un elemento parcial dentro del espectro explicativo de la crimi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Han servido para la construcción de tipos delincuentes ( peligrosos , doctrina del nacional socialismo por e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ólo sirve para determinar per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No formula direcciones ni estrategias político crim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irven como ciencias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s Psicoanali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re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13025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a conducta humana ( normal y desviada) es resultado de la actuación de los instintos¨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Tanatos( instinto de mue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ros( instinto d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ualquier persona puede llegar a ser criminal( predisposición lat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l sexo es el motor que mueve a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astigo es producto del deseo colectivo de expiación_ la sociedad expía sus propios sentimientos de culpa con fantasías proh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397240" y="3357720"/>
            <a:ext cx="48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quier persona puede llegar a ser cri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01676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s del pensamiento freu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ral ( placer succión, tragar objetos) hasta 2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al ( placer de defecar( 2 a 3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álica ( aparece complejo de Edipo-3 a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tencia( quietud en el desarrollo adolesc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enital ( Fase de madurez, gratificación instinto del placer y consumación del instinto sex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Fijación en alguna de estas etapas produce regresión ( conductas desviadas o extrañas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person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Ego) sería el producto de la experiencia d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Consciente: tiene percepción procesos intelec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Inconsciente mecanismos de defensa. Si  está bien estructurado es person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Super 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valores adquiridos por socialización positiva-conciencia moral Principio del d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Ell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fuerzas instintivas – no conscientes que llevan a la conducta desviada Cualquier persona puede llegar a ser criminal si  triunfa el 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ES mas  tolerable el castigo recibido  el exterior que el impuesto por severo y cru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Una mala estructura del Yo haría triunfar al Ello, no controlaría las fuerzas instintivas del ello ni las falencias sociales d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480" y="393372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ualquier persona puede llegar a ser cri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l psicoanálisis cri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s determinista( biológicamente habl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on verdades pa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ostumbres han camb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xualidad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ambios familia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No toman en cuenta rel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IN EMBAR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OFRECE NUEVAS FORMAS DE INTERPRETACIÖN DE DETERMINADOS DELITOS ( SEXUA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RÏMENES ABSURDOS HORRENDOS SIN MOTIVO -IRRACIONALES -IMPORTANCIA D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APRENDIZAJE EN LA  NIÑEZ -NTERNALIZACIÖN  NORMAS Y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43:10Z</dcterms:created>
  <dc:creator>mvillegas</dc:creator>
  <dc:description/>
  <dc:language>en-US</dc:language>
  <cp:lastModifiedBy>mvillegas</cp:lastModifiedBy>
  <dcterms:modified xsi:type="dcterms:W3CDTF">2007-06-07T17:14:33Z</dcterms:modified>
  <cp:revision>6</cp:revision>
  <dc:subject/>
  <dc:title>Corrientes biolôgicas</dc:title>
</cp:coreProperties>
</file>