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57EF-94D2-4C29-9009-85DA2503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3A60-2E1A-4149-A07A-B9522753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85A8-0529-4CF9-BC13-2949B52B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938-FE7B-4714-A3D0-38352D6D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EC0-CD80-44F6-AA56-678B544CF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817E-C0D8-4380-BACD-33DAF681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10F1-72BD-45C0-8C7D-92DFE86C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131F-7490-4346-BD91-F9771C41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EBA9-F70A-43B6-9D42-F931D476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67BC-109C-405A-A8B3-30FF9A26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57A-1CB6-4226-BB61-1219B07E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73F4-60E6-41E0-B860-B1089101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020F-874B-42BE-BA2D-A20A666C2C5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s sobre política Criminal . Cómo controlar la delincuenci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64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Hay que evaluar  una mejor respuesta social y legal frente al delito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Requiere¨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Entender que el delito es un problema social y comunitari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Analizarlo como un conjunto de expectativas individuales y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Modelo Integr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Privilegia la satisfacción de la victima y de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Propug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Utilizar las vías alternativas al sistema legal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La solución informal de los conflictos,(Mediación. Reparación, Conciliación, Trabajo comunitario, ceremonias ciudadanas de reprobación y vergüenza.e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La desinstitucializac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Esta justicia restaurativa no es solamente  de resarcimiento econó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del modelo integr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portan un nuevo mens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san formulas diferentes de inter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sechan la fuerza victoriosa del Derec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No se humilla,. Somete  ni destruye la dignidad hu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acifica el ambiente social y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vuelve el conflicto a la víctim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scongestiona el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écnicas posibles de utiliz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sjudici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rivat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sentr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crimin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crimina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íticas al Modelo Integr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alta una base común,  un sustrato ideológico mas acab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 reparación, conciliación o mediación no tiene  metas comunes ni formulas estandarizad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 está claro donde entra la sociedad ( en la prevención, en la intervención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usca solamente reparar el mal causado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 además un cambio “Moral o arrepentimien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 amb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Es reparar o concili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samientos criminológicos que apoyan el modelo  Integrad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.-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El derecho Penal míni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Como última r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Utilizando medios pa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Mas uso de medidas alternat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Políticas de criminalización y decriminalizació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ensamientos criminologicos ( 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B.- Abolicion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presión del Derecho P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ustitución por una participación mas democr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Justicia vecinal y 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ensamientos ( 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rrientes victimológ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erechos de las víctimas: reparación, restauración derechos, compensación, protección, ayu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Influencia de los grupos vulnerables ( mujeres, menores, ancianos, diversidad sexual, , indígena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rioridad en los mecanismos pacíficos de resolución de confli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quisitos de la justicia restaurati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Consentimiento en el proce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articipación voluntaria de víctima y victi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Víctima identifi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Excluye conductas gr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Requiere algún tipo de control estatal( garantias , procedimiento. límites. objetiv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Estilos  de mediación penal( penal, terapeutico, compensatorios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Rol y funciones del mediador bien defin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ómo enfrentar al delito que querem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Con la sola repre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olo con pre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Otras formas :( Decriminalización, criminalización, desjudicializa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Utilizando la justicia restaur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con to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delito es una problema 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Necesit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considerar a todos los protagonistas( delincuente , víctima y socied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atisfacer expectativas víct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Resocializar al infr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Lograr la pacifica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os de respuesta  a la delincu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Disuas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Resocializ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Restaurador( pacificación relaciones soci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o disuas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 basa en la pretensión punitiva del Estado ( el castigo es justo y necesar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tiliza la prevención general y especial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tilización de todas las normas jurídicas que abarquen todos los del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n sistema penal eficiente( aplicación pena en forma eficiente  y pront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n recursos humanos  y mater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íticas al modelo disuaso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implifica el mecanismo ( ausencia de elementos como magnitud. diferenciación, circunstancias del delito y delincu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u rigor puede ser desmedido( aterrar, atemoriz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No se trata de castigar per se, sino castigar bien, con prontitud sin exced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9999"/>
                </a:solidFill>
                <a:latin typeface="Arial"/>
              </a:rPr>
              <a:t>Solo visualiza Estado-infractor. Provoca enfrent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resocializ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99"/>
                </a:solidFill>
                <a:latin typeface="Arial"/>
              </a:rPr>
              <a:t>La filosofía del Re( reinserción, reeducación., readapt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Requie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Intervención en el infractor para lograr su incorporación como ciudadano útil a la soci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Una reglamentación que no lo estigmatice, destruya, irrespete los Derechos Humanos, utilizando técnicas y terapias que realmente potencien sus expectativas y posibilidades de participación soc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9999"/>
                </a:solidFill>
                <a:latin typeface="Arial"/>
              </a:rPr>
              <a:t>La intervención de be ser diferencial ( primaria, sexual, reincidente, ocasional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En síntesis: Un modelo resocializador y asistencial que lo integre  al mundo como ciudad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rogan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A quien resocializ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Reinci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sex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econó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pol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Delincuentes prim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La mayoría no necesita resocializarse, otros no son readaptables, otros no quieren ser “tratado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riticas al modelo resocializ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Hablar de intervención y asistencia signific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Que el delincuente es un ser enfer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No toma en cuenta los otros protagonistas( víctimas ,sociedad, operado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Hay otros problemas que resolver : el hacinamiento, la violencia,la falta de estructura, programa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9999"/>
                </a:solidFill>
                <a:latin typeface="Arial"/>
              </a:rPr>
              <a:t>No contempla la posterior reinserc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6:27:51Z</dcterms:created>
  <dc:creator>mvillegas</dc:creator>
  <dc:description/>
  <dc:language>en-US</dc:language>
  <cp:lastModifiedBy>mvillegas</cp:lastModifiedBy>
  <dcterms:modified xsi:type="dcterms:W3CDTF">2007-06-07T17:25:56Z</dcterms:modified>
  <cp:revision>3</cp:revision>
  <dc:subject/>
  <dc:title>Medidas alternativas o sustitutivos penales</dc:title>
</cp:coreProperties>
</file>