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4FB-C01C-4B3E-A700-84E4B195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BBC-DBAB-4304-9F1A-435560C2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933-6F82-4D2E-9BCB-F414E5D1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49F-BCD8-4676-8D81-6D40B7C3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590-520C-42E0-AC43-ABDE587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50D-4422-4D9F-B1E8-CE17213A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C40-6E9D-4284-BFC0-84CC2B63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29E-0E13-4854-B6FA-825A2B45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9D2-6CE8-42D6-A298-5DA6275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666-24A4-4C95-AFEE-0560165D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B8C-7D8B-4B1C-976E-A03CC6B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F42-C663-4152-83AE-0D1332B4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EFFF-6AED-4C8C-B035-D36B27340E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 sobre política Criminal . Cómo controlar la delincuenc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que evaluar  una mejor respuesta social y legal frente al delit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quiere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ntender que el delito es un problema social y comunitari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nalizarlo como un conjunto de expectativas individuale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ivilegia la satisfacción de la victima y de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opug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Utilizar las vías alternativas al sistema leg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solución informal de los conflictos,(Mediación. Reparación, Conciliación, Trabajo comunitario, ceremonias ciudadanas de reprobación y vergüenza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desinstitucializ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sta justicia restaurativa no es solamente  de resar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d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ortan un nuevo mens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an formulas diferentes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chan la fuerza victoriosa del Der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 se humilla,. Somete  ni destruye la dignidad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cifica el ambiente social y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vuelve el conflicto a la víct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congestiona 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posibles de util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judici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va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entr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lta una base común,  un sustrato ideológico mas acab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reparación, conciliación o mediación no tiene  metas comunes ni formulas estandariz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está claro donde entra la sociedad ( en la prevención, en la intervenció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usca solamente reparar el mal causado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demás un cambio “Moral o arrepent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mb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s reparar o conc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samientos criminológicos que apoyan el modelo  Integr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derecho Penal mín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mo última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Utilizando medios pa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Mas uso de medid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olíticas de criminalización y decriminalizació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nsamientos criminologicos ( 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.- Aboli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resión del Derecho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stitución por una participación mas 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sticia vecinal 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mientos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ientes victimológ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rechos de las víctimas: reparación, restauración derechos, compensación, protección, ayu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Influencia de los grupos vulnerables ( mujeres, menores, ancianos, diversidad sexual, , indígen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oridad en los mecanismos pacíficos de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sitos de la justicia restaur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Consentimiento en 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articipación voluntaria de víctima y victi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Víctima iden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xcluye conductas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equiere algún tipo de control estatal( garantias , procedimiento. límites. obje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stilos  de mediación penal( penal, terapeutico, compensatorio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ol y funciones del mediador bien 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ómo enfrentar al delito que querem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la sola re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con 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tras formas :( Decriminalización, criminalización, desjudicializ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Utilizando la justicia restau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to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lito es una problema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ecesit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siderar a todos los protagonistas( delincuente , víctima y socie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atisfacer expectativas víct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r al inf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Lograr la pacific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s de respuesta  a la delin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Disuas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taurador( pacificación relaciones soci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 basa en la pretensión punitiva del Estado ( el castigo es justo y neces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 la prevención general y especi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ción de todas las normas jurídicas que abarquen todos los del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n sistema penal eficiente( aplicación pena en forma eficiente  y pro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 recursos humanos  y ma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implifica el mecanismo ( ausencia de elementos como magnitud. diferenciación, circunstancias del delito y delincu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u rigor puede ser desmedido( aterrar, at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o se trata de castigar per se, sino castigar bien, con prontitud sin exced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visualiza Estado-infractor. Provoca enfren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La filosofía del Re( reinserción, reeducación., readap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Requi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Intervención en el infractor para lograr su incorporación como ciudadano útil a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na reglamentación que no lo estigmatice, destruya, irrespete los Derechos Humanos, utilizando técnicas y terapias que realmente potencien sus expectativas y posibilidades de participación so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La intervención de be ser diferencial ( primaria, sexual, reincidente, ocasion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n síntesis: Un modelo resocializador y asistencial que lo integre  al mundo como ciudad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og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 quien resoci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sex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mayoría no necesita resocializarse, otros no son readaptables, otros no quieren ser “tratad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riticas al 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blar de intervención y asistencia signi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Que el delincuente es un ser enfe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toma en cuenta los otros protagonistas( víctimas ,sociedad, operad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otros problemas que resolver : el hacinamiento, la violencia,la falta de estructura, programa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contempla la posterior reinser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6:27:51Z</dcterms:created>
  <dc:creator>mvillegas</dc:creator>
  <dc:description/>
  <dc:language>en-US</dc:language>
  <cp:lastModifiedBy>mvillegas</cp:lastModifiedBy>
  <dcterms:modified xsi:type="dcterms:W3CDTF">2007-06-07T17:25:56Z</dcterms:modified>
  <cp:revision>3</cp:revision>
  <dc:subject/>
  <dc:title>Medidas alternativas o sustitutivos penales</dc:title>
</cp:coreProperties>
</file>