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A71-6DF7-4EB7-A9CC-8696E036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4BA-C34E-4849-8C46-E1F8AA26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CE3-8D55-4C57-B118-7E0A7962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F38-26F6-4555-8AB9-DA32AA56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BF3-1A6E-4F24-AF38-C1047461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34A-F5CC-401B-A218-4BF263FC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990E-A79D-4612-9388-947E157F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D9B-4B4D-478A-AD60-81451A30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13D-80C0-4EEA-8AF5-E02D5902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561-7BC1-40E8-83B1-FB8BC227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5F6-6F22-4AA6-8A3C-E29AA7B4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D4F-E7A3-47CB-9D74-E8215289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231A-C827-4297-9251-2317A86424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 sobre política Criminal . Cómo controlar la delincuenci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Hay que evaluar  una mejor respuesta social y legal frente al delito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Requiere¨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Entender que el delito es un problema social y comunitari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Analizarlo como un conjunto de expectativas individuale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Modelo Integ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Privilegia la satisfacción de la victima y de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Propug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Utilizar las vías alternativas al sistema leg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La solución informal de los conflictos,(Mediación. Reparación, Conciliación, Trabajo comunitario, ceremonias ciudadanas de reprobación y vergüenza.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La desinstitucializ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Esta justicia restaurativa no es solamente  de resarcimient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del modelo integ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portan un nuevo mens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san formulas diferentes de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sechan la fuerza victoriosa del Der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No se humilla,. Somete  ni destruye la dignidad hu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acifica el ambiente social y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vuelve el conflicto a la víct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scongestiona e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cnicas posibles de utiliz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sjudici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rivat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sentr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crimin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crimin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íticas al Modelo Integ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alta una base común,  un sustrato ideológico mas acab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 reparación, conciliación o mediación no tiene  metas comunes ni formulas estandariza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 está claro donde entra la sociedad ( en la prevención, en la intervención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usca solamente reparar el mal causado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 además un cambio “Moral o arrepentimi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 amb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Es reparar o concili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samientos criminológicos que apoyan el modelo  Integrad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.-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El derecho Penal mín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Como última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Utilizando medios pa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Mas uso de medid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Políticas de criminalización y decriminalizació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ensamientos criminologicos ( 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.- Abolicion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presión del Derecho P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stitución por una participación mas democ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Justicia vecinal y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mientos ( 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ientes victimológ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rechos de las víctimas: reparación, restauración derechos, compensación, protección, ayu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Influencia de los grupos vulnerables ( mujeres, menores, ancianos, diversidad sexual, , indígena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rioridad en los mecanismos pacíficos de resolución de confli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sitos de la justicia restaur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Consentimiento en el proce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articipación voluntaria de víctima y victi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Víctima identif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Excluye conductas gr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Requiere algún tipo de control estatal( garantias , procedimiento. límites. objetiv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Estilos  de mediación penal( penal, terapeutico, compensatorio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Rol y funciones del mediador bien defin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ómo enfrentar al delito que querem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Con la sola re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olo con pre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Otras formas :( Decriminalización, criminalización, desjudicializ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Utilizando la justicia restaur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con to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delito es una problema 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Necesit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considerar a todos los protagonistas( delincuente , víctima y socied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atisfacer expectativas víct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Resocializar al infr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Lograr la pacifica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os de respuesta  a la delinc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Disuas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Resocial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Restaurador( pacificación relaciones soci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isuas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 basa en la pretensión punitiva del Estado ( el castigo es justo y neces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tiliza la prevención general y especia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tilización de todas las normas jurídicas que abarquen todos los del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n sistema penal eficiente( aplicación pena en forma eficiente  y pron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n recursos humanos  y mater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íticas al modelo disuas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implifica el mecanismo ( ausencia de elementos como magnitud. diferenciación, circunstancias del delito y delincu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u rigor puede ser desmedido( aterrar, atemoriz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No se trata de castigar per se, sino castigar bien, con prontitud sin exced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olo visualiza Estado-infractor. Provoca enfrent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resocializ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Arial"/>
              </a:rPr>
              <a:t>La filosofía del Re( reinserción, reeducación., readapt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Requie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Intervención en el infractor para lograr su incorporación como ciudadano útil a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Una reglamentación que no lo estigmatice, destruya, irrespete los Derechos Humanos, utilizando técnicas y terapias que realmente potencien sus expectativas y posibilidades de participación soc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La intervención de be ser diferencial ( primaria, sexual, reincidente, ocasional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En síntesis: Un modelo resocializador y asistencial que lo integre  al mundo como ciudad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rog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A quien resocializ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Reinci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sex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prim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La mayoría no necesita resocializarse, otros no son readaptables, otros no quieren ser “tratad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riticas al modelo resocializ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Hablar de intervención y asistencia signif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Que el delincuente es un ser enfer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No toma en cuenta los otros protagonistas( víctimas ,sociedad, operado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Hay otros problemas que resolver : el hacinamiento, la violencia,la falta de estructura, programa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No contempla la posterior reinser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6:27:51Z</dcterms:created>
  <dc:creator>mvillegas</dc:creator>
  <dc:description/>
  <dc:language>en-US</dc:language>
  <cp:lastModifiedBy>mvillegas</cp:lastModifiedBy>
  <dcterms:modified xsi:type="dcterms:W3CDTF">2007-06-07T17:25:56Z</dcterms:modified>
  <cp:revision>3</cp:revision>
  <dc:subject/>
  <dc:title>Medidas alternativas o sustitutivos penales</dc:title>
</cp:coreProperties>
</file>