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283-C7D4-42F4-BA51-95F2FA57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50A-A52E-4440-9023-CD67F05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B31-A22F-4345-8024-A578F24D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9BC-30A3-409E-8DB4-FDD4CDB9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296-973A-4E96-8DC5-560829B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68F-E150-4E97-A84B-5CB9A609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19E-1BAE-4261-8B7C-CCF8CDD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1A5-9FB7-4004-B8B7-C96BC667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670-DD21-4644-95FF-AEC2A67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C28-C1C7-4A48-87E3-BF8F0BD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676-9DE0-409F-83AB-F7239B66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CBF-E070-46C1-B90E-BB8B4A5C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C6BB-70D7-4647-8AB1-E0FE06C008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 sobre política Criminal . Cómo controlar la delin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que evaluar  una mejor respuesta social y legal frente al delit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quiere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tender que el delito es un problema social y comunitari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alizarlo como un conjunto de expectativas individuale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ivilegia la satisfacción de la victima y 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opu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Utilizar las vías alternativas al sistema leg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solución informal de los conflictos,(Mediación. Reparación, Conciliación, Trabajo comunitario, ceremonias ciudadanas de reprobación y vergüenza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desinstitucializ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a justicia restaurativa no es solamente  de resar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d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ortan un nuevo 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an formulas diferentes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chan la fuerza victoriosa del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 se humilla,. Somete  ni destruye la dignidad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cifica el ambiente social y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vuelve el conflicto a la víct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congestiona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posibles de util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judi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va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entr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lta una base común,  un sustrato ideológico mas ac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reparación, conciliación o mediación no tiene  metas comunes ni formulas estandariz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está claro donde entra la sociedad ( en la prevención, en la intervenció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ca solamente reparar el mal causado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demás un cambio “Moral o arrepent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mb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s reparar o conc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amientos criminológicos que apoyan el modelo  Integr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derecho Penal mín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mo última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Utilizando medios pa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Mas uso de medid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olíticas de criminalización y decriminalizació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nsamientos criminologicos ( 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.- Aboli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resión del Derecho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stitución por una participación mas 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sticia vecinal 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mientos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ientes victim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rechos de las víctimas: reparación, restauración derechos, compensación, protección, ayu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Influencia de los grupos vulnerables ( mujeres, menores, ancianos, diversidad sexual, , indígen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oridad en los mecanismos pacíficos de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sitos de la justicia restaur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Consentimiento en 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articipación voluntaria de víctima y victi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Víctima iden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xcluye conductas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equiere algún tipo de control estatal( garantias , procedimiento. límites. obje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stilos  de mediación penal( penal, terapeutico, compensatorio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ol y funciones del mediador bien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enfrentar al delito que quer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la sola re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con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tras formas :( Decriminalización, criminalización, desjudicializ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Utilizando la justicia restau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to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lito es una problema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ecesit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siderar a todos los protagonistas( delincuente , víctima y socie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atisfacer expectativas víct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r al inf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Lograr la pacific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s de respuesta  a la delin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Disuas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taurador( pacificación relaciones soci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 basa en la pretensión punitiva del Estado ( el castigo es justo y neces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 la prevención general y especi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ción de todas las normas jurídicas que abarquen todos los del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n sistema penal eficiente( aplicación pena en forma eficiente  y pro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 recursos humanos  y ma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implifica el mecanismo ( ausencia de elementos como magnitud. diferenciación, circunstancias del delito y delinc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u rigor puede ser desmedido( aterrar, at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o se trata de castigar per se, sino castigar bien, con prontitud sin exced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visualiza Estado-infractor. Provoca enfren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La filosofía del Re( reinserción, reeducación., readap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Requi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tervención en el infractor para lograr su incorporación como ciudadano útil a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na reglamentación que no lo estigmatice, destruya, irrespete los Derechos Humanos, utilizando técnicas y terapias que realmente potencien sus expectativas y posibilidades de participación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La intervención de be ser diferencial ( primaria, sexual, reincidente, ocasion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n síntesis: Un modelo resocializador y asistencial que lo integre  al mundo como ciudad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og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 quien resoci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sex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mayoría no necesita resocializarse, otros no son readaptables, otros no quieren ser “tratad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riticas al 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blar de intervención y asistencia sign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Que el delincuente es un ser enfe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toma en cuenta los otros protagonistas( víctimas ,sociedad, operad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otros problemas que resolver : el hacinamiento, la violencia,la falta de estructura, program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contempla la posterior reinser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6:27:51Z</dcterms:created>
  <dc:creator>mvillegas</dc:creator>
  <dc:description/>
  <dc:language>en-US</dc:language>
  <cp:lastModifiedBy>mvillegas</cp:lastModifiedBy>
  <dcterms:modified xsi:type="dcterms:W3CDTF">2007-06-07T17:25:56Z</dcterms:modified>
  <cp:revision>3</cp:revision>
  <dc:subject/>
  <dc:title>Medidas alternativas o sustitutivos penales</dc:title>
</cp:coreProperties>
</file>