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083-7242-44D4-98F5-A380FC98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27A-4A3A-4A07-BD1D-4EE9036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482-76AB-4C88-9B44-89B5F795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994-906E-4EC8-97F8-959C6F37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A42-77EA-4A19-89FB-A6A8C302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8C8-8082-4312-BA88-99E96310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5A1-EBD1-4EC6-BD18-DAF00F8A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628-D491-4D8F-8E9A-7BEFB4ED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15C-69F8-44D7-845E-5A5F9291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FA1-0F00-41DD-8AEE-02F8E03D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237-D3EC-46FD-A772-DEF6A348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A90-AC1D-450E-AA86-FA3FB49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EF9B-7937-4663-9DF7-B78D8AA90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Etiología de la delincuencia (Criminogénesis)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Definiciones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:Causa: condición necesaria sin la cual un cierto comportamiento no se habría jamás manifestado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.Factor criminógeno: todo aquello que favorece o contribuye a la comisión de actos delictiv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 famili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lta de cohesión de las fami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mbarazo de adolesc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iolencia familiar( física, psicológica, económica y sexu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milias disgregadas ( padres o madres aus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delo de aprendizaje  ( familia  con miembros delincuentes o in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Ét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tuaciones marginales ( discriminación, empleos, desempleo, salarios,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spojo de tierr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coholism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alfabet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sconocimiento  diversidad 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iolencia institucional y estructu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alta de reconocimiento de su forma de resolución de conflict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flicto de cul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ig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ominación cultural, industria de las conciencias, penetración ideológica, cultura del mosa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in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ducar, Informar, Recr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Realidad: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desinforman, manipulan, confunden ,comercian con el escánd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rsiguen vender con : el Sexo, el Deporte,  y el Cr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os de Comunicación ( 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ón con el modelo deli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tique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Discrimin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steorotipan (hampón, maleante, anti social, sociópata , psicópata, culturalmente inf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Son Modelo de aprendizaj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violencia ,exaltan el morbo, consumo de droga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o consecuencia de lo anterior: exaltan el sentimiento de venganza de la sociedad y la represión clases desposeídas, favorecen la el aumento de las penas, manipulan el sentimiento de inseguridad ciudada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a crítica a las cárceles es hacia  presentar toda mejora como “Hotel de 3 estrellas”, y refuerza el falso concepto de resocialización de la pena privativa de liber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fa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Factor predisponerte ( endógeno) son congénitos o adquiridos Pueden ser biológicos-psicológicos, ej. heredi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Factor preparante ( exógeno) ej alcohol, dro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Desencadenante( circunstancias que precipitan el hecho).Ej . gota que rebalsó el vaso( broma,  situación de violencia reiter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que influyen en la crimina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conómicos ( tipos de régi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ociales ( vivienda, urbanización, migración,  salud, educación, ambientales,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Políticos ( sistemas: capitalista, socialista autoritari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Ét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ulturales ( religiosos, medios de comun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stados de anomia ( guerras, revoluciones,  terrorismo de Estad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tuaciones de violencia individual, colectiva, institucional, estruct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Drogas ( alcohol, drogas duras, blandas, depresivos, estimulant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duc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iológicos, psicológicos, alteraciones ment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educ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erción y fra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alfabe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cceso a la educación ( primaria, secundaria, universi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ofesiones u oficios de 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religi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iferencias religiosas ( provocan conflic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Sectas( aislamiento, intolerancia , fanatis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ueden llevar a cometer conductas ilícitas o pueden ser objeto de co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Supersticiones, timadores, adivinos, bru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ueden llevar a conductas extremas  (inquisición, matanza indígenas, sacrificios humano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Freud decía que la religión puede ser amor para sus fieles o cruel e intolerante para quienes no la re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cial ( Posición o estrato social) Puede ser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orizontal  mero traslado (migraciones): rural a urbana, regional 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Polí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iferentes sistemas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utorita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eligio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i aplica o no la doctrina de los Derech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o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ría la protección de los bienes jurí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So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Vivienda 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( calidad vivienda , promiscuidad, violencia, hacinami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Salud: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 dificultad  o falta en el acceso, escasez de medicamentos o imposibilidad de adquirirlos por monopolio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Trabajo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: falta o dificultad en el empleo, desempleo, falta de previsión social, salarios insufic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eco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gún estaciones del año ( diversos tipos de delincu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Zonas urbanas y r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Áreas delincu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rbanización sin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lanificación espa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7:03:47Z</dcterms:created>
  <dc:creator>mvillegas</dc:creator>
  <dc:description/>
  <dc:language>en-US</dc:language>
  <cp:lastModifiedBy>mvillegas</cp:lastModifiedBy>
  <dcterms:modified xsi:type="dcterms:W3CDTF">2007-05-18T15:22:59Z</dcterms:modified>
  <cp:revision>8</cp:revision>
  <dc:subject/>
  <dc:title>Etiología de la delincuencia (Criminogénesis)  Definiciones Causa: condición necesaria sin la cual un cierto comportamiento no se habría jamás manifestado . Factor criminógeno: todo aquello que favorece o contribuye a la comisión de actos delictivos.</dc:title>
</cp:coreProperties>
</file>