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08ADA-96FC-4771-8C1E-167BF2A336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5700-0998-480E-8917-B547A7EEA0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8BB27-3857-43F6-875E-590FE0E4E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AA31-B95C-4A0B-989E-65D7B1286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2717B-8AA2-496A-8A77-02DED0718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2C72-BF10-4DCA-A5FA-B408B40E4F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32F01-5AFA-4F49-8994-4E6497EE62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C9E5B-6E51-4E79-8C8B-0B2016EC0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76E1D-2906-4A31-8A24-4CA79BF583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7D75-0029-40CA-88F0-B20EB72C1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BF7EF-398D-4586-9191-385AB6301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7E6E-CD55-4272-9E2A-F31708C61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4478E-9E43-4F0E-9391-EC65F7763B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3357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Etiología de la delincuencia (Criminogénesis)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Definiciones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:Causa: condición necesaria sin la cual un cierto comportamiento no se habría jamás manifestado</a:t>
            </a:r>
            <a:br>
              <a:rPr sz="4000"/>
            </a:br>
            <a:r>
              <a:rPr b="0" lang="es-ES" sz="4000" spc="-1" strike="noStrike">
                <a:solidFill>
                  <a:srgbClr val="ff6600"/>
                </a:solidFill>
                <a:latin typeface="Arial"/>
              </a:rPr>
              <a:t>.Factor criminógeno: todo aquello que favorece o contribuye a la comisión de actos delictivos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 familia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lta de cohesión de las famil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Embarazo de adolescen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Violencia familiar( física, psicológica, económica y sexual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Familias disgregadas ( padres o madres ausente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Modelo de aprendizaje  ( familia  con miembros delincuentes o inmo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Étnic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Situaciones marginales ( discriminación, empleos, desempleo, salarios, 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pojo de tierra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lcoholism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Analfabetism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Desconocimiento  diversidad cultur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Violencia institucional y estructural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Falta de reconocimiento de su forma de resolución de conflictos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Conflicto de cultur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99"/>
                </a:solidFill>
                <a:latin typeface="Arial"/>
              </a:rPr>
              <a:t>+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Significa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ominación cultural, industria de las conciencias, penetración ideológica, cultura del mosaic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Fine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Educar, Informar, Recr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6600"/>
                </a:solidFill>
                <a:uFillTx/>
                <a:latin typeface="Arial"/>
              </a:rPr>
              <a:t>Realidad:</a:t>
            </a: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 desinforman, manipulan, confunden ,comercian con el escándal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Persiguen vender con : el Sexo, el Deporte,  y el Cri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Arial"/>
              </a:rPr>
              <a:t>Medios de Comunicación ( cont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lación con el modelo delict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tiquet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iscrimin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Esteorotipan (hampón, maleante, anti social, sociópata , psicópata, culturalmente inferior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Son Modelo de aprendizaje 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violencia ,exaltan el morbo, consumo de drogas, etc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edios de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Como consecuencia de lo anterior: exaltan el sentimiento de venganza de la sociedad y la represión clases desposeídas, favorecen la el aumento de las penas, manipulan el sentimiento de inseguridad ciudadana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La crítica a las cárceles es hacia  presentar toda mejora como “Hotel de 3 estrellas”, y refuerza el falso concepto de resocialización de la pena privativa de libert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os de fact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disponerte ( endógeno) son congénitos o adquiridos Pueden ser biológicos-psicológicos, ej. heredit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Factor preparante ( exógeno) ej alcohol, dro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Desencadenante( circunstancias que precipitan el hecho).Ej . gota que rebalsó el vaso( broma,  situación de violencia reiter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que influyen en la criminalid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conómicos ( tipos de régime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ociales ( vivienda, urbanización, migración,  salud, educación, ambientales, trabaj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Políticos ( sistemas: capitalista, socialista autoritario)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Étnic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Culturales ( religiosos, medios de comunic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stados de anomia ( guerras, revoluciones,  terrorismo de Estado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tuaciones de violencia individual, colectiva, institucional, estructu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Drogas ( alcohol, drogas duras, blandas, depresivos, estimulantes, etc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Educaciona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Biológicos, psicológicos, alteraciones mental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actores educativo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Deserción y fraca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nalfabetis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Acceso a la educación ( primaria, secundaria, universitar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rofesiones u oficios de riesg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religios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Diferencias religiosas ( provocan conflicto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ectas( aislamiento, intolerancia , fanatism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meter conductas ilícitas o pueden ser objeto de conten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Supersticiones, timadores, adivinos, brujo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Pueden llevar a conductas extremas  (inquisición, matanza indígenas, sacrificios humanos, etc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6600"/>
                </a:solidFill>
                <a:latin typeface="Arial"/>
              </a:rPr>
              <a:t>Freud decía que la religión puede ser amor para sus fieles o cruel e intolerante para quienes no la reconoc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vilidad soci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ocial ( Posición o estrato social) Puede ser ascendente o descende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Horizontal  mero traslado (migraciones): rural a urbana, regional o internacio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Polít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iferentes sistemas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Democra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Autoritarism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Religios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i aplica o no la doctrina de los Derechos 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ocialis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Varía la protección de los bienes juríd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Soci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Vivienda 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( calidad vivienda , promiscuidad, violencia, hacinamient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Salud: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 dificultad  o falta en el acceso, escasez de medicamentos o imposibilidad de adquirirlos por monopolios, et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ff6600"/>
                </a:solidFill>
                <a:uFillTx/>
                <a:latin typeface="Arial"/>
              </a:rPr>
              <a:t>Trabajo</a:t>
            </a:r>
            <a:r>
              <a:rPr b="0" lang="es-ES" sz="3200" spc="-1" strike="noStrike">
                <a:solidFill>
                  <a:srgbClr val="ff6600"/>
                </a:solidFill>
                <a:latin typeface="Arial"/>
              </a:rPr>
              <a:t>: falta o dificultad en el empleo, desempleo, falta de previsión social, salarios insuficient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ctores ecológic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Según estaciones del año ( diversos tipos de delincuenci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Zonas urbanas y rur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Áreas delincuencia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Urbanización sin planific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6600"/>
                </a:solidFill>
                <a:latin typeface="Arial"/>
              </a:rPr>
              <a:t>Planificación espaci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15T17:03:47Z</dcterms:created>
  <dc:creator>mvillegas</dc:creator>
  <dc:description/>
  <dc:language>en-US</dc:language>
  <cp:lastModifiedBy>mvillegas</cp:lastModifiedBy>
  <dcterms:modified xsi:type="dcterms:W3CDTF">2007-05-18T15:22:59Z</dcterms:modified>
  <cp:revision>8</cp:revision>
  <dc:subject/>
  <dc:title>Etiología de la delincuencia (Criminogénesis)  Definiciones Causa: condición necesaria sin la cual un cierto comportamiento no se habría jamás manifestado . Factor criminógeno: todo aquello que favorece o contribuye a la comisión de actos delictivos.</dc:title>
</cp:coreProperties>
</file>