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E921-74EA-4373-A52D-7576D9CA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6393-2E93-48DE-90DE-CD3E23AC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B4DF-85FA-47A0-B716-97DD76FC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9D4C-D834-4B86-8409-8FBF9BE0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7E5-90E1-404A-AF79-33255139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C6D-CCE8-4570-B745-CD8F538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64C4-B612-4B2D-8447-10D8A38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894-D5D0-4389-8617-255D082C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C6DE-31AC-4A60-B5FF-27E5577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78D-4E63-4C66-8399-CCE4A0E8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40A-12C8-4A40-8DF3-1CB11B1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2767-F319-48A0-94AC-22C88B77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1399-51F5-4660-8056-E474712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AF2E-CC04-4C72-B84F-6325F17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11E8-5E11-4847-AC4B-ABD67FE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3185-BEE7-4568-9533-EDD465B5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E13-FB70-4C0E-A93C-72A35273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5E8A-7C02-4190-9EFB-A929EEBB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541F-0FDD-448E-8408-BEF7F4CA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DD2C-05AA-4F62-AFF5-D3E3D5E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8262-9EEF-4D03-A47D-435148D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138A-F99E-43AA-B93D-7D789DF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D00B-EE03-4EBB-A282-856D228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A526-6EC8-4FF8-93D5-A2E3A1B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088-7339-44BA-8934-A25756DEA0E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596-BF8C-4A08-BFB8-8929108596C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es-ES_tradnl" sz="1600" spc="-1" strike="noStrike">
                <a:solidFill>
                  <a:srgbClr val="00007d"/>
                </a:solidFill>
                <a:latin typeface="Tahoma"/>
              </a:rPr>
              <a:t>P</a:t>
            </a:r>
            <a:r>
              <a:rPr b="0" lang="es-ES" sz="1600" spc="-1" strike="noStrike">
                <a:solidFill>
                  <a:srgbClr val="00007d"/>
                </a:solidFill>
                <a:latin typeface="Tahoma"/>
              </a:rPr>
              <a:t>ROCESOS PREPARATORIOS, CAUTELARES, INCIDENTES, PRINCIPALES PROCEDIMIENTOS DECLARATIVOS ESPECIALES, EJECUTIVOS Y NO CONTENC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FF04-D37C-47D3-B821-4FD530D95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80960"/>
            <a:ext cx="8893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: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PROCEDIMIENTOS P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:  PROCEDIMIENTO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: PROCEDIMIENTOS 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: LOS 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:  PROCEDIMIENTOS 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incidental de cumplimiento de sentencias y procedimientos suple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de resoluciones dictadas por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: PROCEDIMIENTO ANTE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I:PROCEDIMIENTOS DE LOS ACTOS JUDICIALES 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. Posesión efectiva, autorización de gravar y enajenar e inventario solem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51272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39BE-9487-4244-8072-5D9B75006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92280"/>
            <a:ext cx="23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 pre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701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80036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Antes juicio: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Durante juicio:  Medida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860640"/>
            <a:ext cx="57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140440"/>
            <a:ext cx="6337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resoluciones dictadas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bit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844640"/>
            <a:ext cx="29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La cautela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asegu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de la pre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303280" cy="86364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Cuestiones acceso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dentro d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60640"/>
            <a:ext cx="2303280" cy="79236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38606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4720" y="522936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69048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iniciar 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0BA2-CE19-4052-84D6-E132D4C63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marzo – 15 de ju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16 de abril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4 de may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5 de juni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junio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779D-4BCE-4A4C-8A3F-DDDA4BDFC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UL MONTERO</cp:lastModifiedBy>
  <dcterms:modified xsi:type="dcterms:W3CDTF">2007-03-05T02:32:27Z</dcterms:modified>
  <cp:revision>754</cp:revision>
  <dc:subject/>
  <dc:title>PowerPoint Presentation</dc:title>
</cp:coreProperties>
</file>