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04512-D1DC-4D07-A4F2-8449E15B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703AF-B3A8-4EC6-AD76-C6890663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3E7E8-C282-4B49-8617-6953516E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CCFCE-7A63-4E06-A687-88AAC096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3178-7739-4304-9EAA-B615B121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27D3-8CE5-489B-B209-FD86282E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CDC7-D2CF-436F-AEA8-872CE955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3881-E56C-43A8-B2C8-05652C52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4BA5-C738-4CD3-A071-2EB57731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ED6C-00B0-4147-BEDE-4E796C9F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41DB-7355-4981-8D5F-862E4405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570C8-7B52-4406-8B5D-48BCAF4C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4F94-CECE-4166-A16D-0884D124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840E-5C36-47B8-8407-5CB2523A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AFEF-0903-4CD9-B27C-C8108CD5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691A-C4FF-4CFE-B34F-78E6D144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58C5-5F95-4437-ABE8-28ADDB65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EA42C-988F-41B1-8CFC-A5F35173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D5566-EA0F-4988-8C25-1EDE31E6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83C24-1349-4347-9869-1A0B78AD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0127B-8D33-4374-A54F-29FB3DFC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0BE8B-5558-4AB1-A2B4-170CB417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AE11A-43FA-41F2-B055-FD068949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23B67-8EF5-4353-B3E6-8F9FE7B8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16B5-1F34-47FB-A2A2-09A84803867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665F-D564-462F-B865-5BD133B74BE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ahoma"/>
              </a:rPr>
              <a:t>DERECHO PROCESAL III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600"/>
            </a:br>
            <a:r>
              <a:rPr b="0" lang="es-ES_tradnl" sz="1600" spc="-1" strike="noStrike">
                <a:solidFill>
                  <a:srgbClr val="00007d"/>
                </a:solidFill>
                <a:latin typeface="Tahoma"/>
              </a:rPr>
              <a:t>P</a:t>
            </a:r>
            <a:r>
              <a:rPr b="0" lang="es-ES" sz="1600" spc="-1" strike="noStrike">
                <a:solidFill>
                  <a:srgbClr val="00007d"/>
                </a:solidFill>
                <a:latin typeface="Tahoma"/>
              </a:rPr>
              <a:t>ROCESOS PREPARATORIOS, CAUTELARES, INCIDENTES, PRINCIPALES PROCEDIMIENTOS DECLARATIVOS ESPECIALES, EJECUTIVOS Y NO CONTENCIOS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5A407-1F2B-4580-B3A8-B25C97CE53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480960"/>
            <a:ext cx="8893080" cy="60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7d"/>
                </a:solidFill>
                <a:latin typeface="Tahoma"/>
              </a:rPr>
              <a:t>DERECHO PROCESAL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I: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PROCEDIMIENTOS PREPARATO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s prejudiciales prepara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s prejudiciales proba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s prejudiciales precau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II:  PROCEDIMIENTOS CAUTE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III: PROCEDIMIENTOS CIVILES DECLARA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ordinario de menor cuant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ordinario de mínima cuant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sum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de Haci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de arrendamiento de bienes raíces urb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de nulidad de matrimonio, divorcio y sepa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IV: LOS INCID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Ordin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Espe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V:  PROCEDIMIENTOS EJECU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ocedimiento ejecutivo por obligación de dar, hacer o no ha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ocedimiento ejecutivo de mínima cuant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ocedimiento incidental de cumplimiento de sentencias y procedimientos supleto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umplimiento de resoluciones dictadas por tribunales extranj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VI: PROCEDIMIENTO ANTE ÁRBI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VII:PROCEDIMIENTOS DE LOS ACTOS JUDICIALES NO CONTENCIO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ocedimiento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Especiales. Posesión efectiva, autorización de gravar y enajenar e inventario solem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380360" y="907920"/>
            <a:ext cx="151272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03275-E06D-43E3-B189-5506F4CFDA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32000" y="692280"/>
            <a:ext cx="237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 prejudi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Dem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0" y="701640"/>
            <a:ext cx="453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s prejudiciales prepara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s prejudiciales</a:t>
            </a:r>
            <a:r>
              <a:rPr b="1" i="1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oba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s prejudiciales</a:t>
            </a:r>
            <a:r>
              <a:rPr b="1" i="1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ecau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68720" y="1800360"/>
            <a:ext cx="3780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Antes juicio: </a:t>
            </a: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    Prejudiciales precau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Durante juicio:  Medidas precau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285264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Incid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3860640"/>
            <a:ext cx="57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Ordinario de menor cuant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Ordinario de mínima cuant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Sum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de Haci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rrendamiento de bienes raíces urb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de nulidad de matrimonio, divorcio y sepa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5140440"/>
            <a:ext cx="63374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Ejecutivo por obligación de dar, hacer o no ha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Ejecutivo de mínima cuant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Incident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umplimiento resoluciones dictadas tribunales extranj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68720" y="587700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rbit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No Contencio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1844640"/>
            <a:ext cx="295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La cautela </a:t>
            </a: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     en mat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771560"/>
            <a:ext cx="2303280" cy="793800"/>
          </a:xfrm>
          <a:prstGeom prst="cube">
            <a:avLst>
              <a:gd name="adj" fmla="val 25000"/>
            </a:avLst>
          </a:prstGeom>
          <a:solidFill>
            <a:srgbClr val="d1d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7d"/>
                </a:solidFill>
                <a:latin typeface="Tahoma"/>
              </a:rPr>
              <a:t>Formas de asegurami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7d"/>
                </a:solidFill>
                <a:latin typeface="Tahoma"/>
              </a:rPr>
              <a:t>de la preten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2781360"/>
            <a:ext cx="2303280" cy="863640"/>
          </a:xfrm>
          <a:prstGeom prst="cube">
            <a:avLst>
              <a:gd name="adj" fmla="val 25000"/>
            </a:avLst>
          </a:prstGeom>
          <a:solidFill>
            <a:srgbClr val="d1d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Cuestiones accesori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dentro del jui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3860640"/>
            <a:ext cx="2303280" cy="792360"/>
          </a:xfrm>
          <a:prstGeom prst="cube">
            <a:avLst>
              <a:gd name="adj" fmla="val 25000"/>
            </a:avLst>
          </a:prstGeom>
          <a:solidFill>
            <a:srgbClr val="d1d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32360" y="2852640"/>
            <a:ext cx="3780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Ordin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Espe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90960" y="386064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iviles Declara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14720" y="5229360"/>
            <a:ext cx="8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Ejecu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690480"/>
            <a:ext cx="2303280" cy="793800"/>
          </a:xfrm>
          <a:prstGeom prst="cube">
            <a:avLst>
              <a:gd name="adj" fmla="val 25000"/>
            </a:avLst>
          </a:prstGeom>
          <a:solidFill>
            <a:srgbClr val="d1d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7d"/>
                </a:solidFill>
                <a:latin typeface="Tahoma"/>
              </a:rPr>
              <a:t>Formas de iniciar el jui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B9645-6533-4589-853C-09633AC10B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333360"/>
            <a:ext cx="8893080" cy="64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 clas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9:45 - 10: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nicio y término de clas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05 de marzo – 15 de jun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Asistencia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i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y Exa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16 de abril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24 de mayo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ernes 15 de junio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xamen final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ernes 29 de junio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Rezagados: El curso no considera tomar controles rezag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structura de los controles y ponderación. Preguntas de selección múltiple, verdadero y falso, preguntas abiertas y ca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ada tipo de pregunta tiene un puntaje determinado a indicar en cada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Preguntas de selección múltiple y de verdadero y falso, tres respuestas incorrectas, descuentan una correc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as preguntas abiertas y los casos no descuentan punt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Duración de los controles: 90-120 min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De los tres controles parciales, para la ponderación final se considerarán </a:t>
            </a:r>
            <a:r>
              <a:rPr b="1" lang="es-CL" sz="1200" spc="-1" strike="noStrike">
                <a:solidFill>
                  <a:srgbClr val="00007d"/>
                </a:solidFill>
                <a:latin typeface="Tahoma"/>
              </a:rPr>
              <a:t>sólo do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, eliminándose la calificación más baja o la que no se hubiere rendi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: 60%. Examen: 40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380360" y="907920"/>
            <a:ext cx="1612800" cy="92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66DBD-006A-44A2-8126-2BC9E9018A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UL MONTERO</cp:lastModifiedBy>
  <dcterms:modified xsi:type="dcterms:W3CDTF">2007-03-05T02:32:27Z</dcterms:modified>
  <cp:revision>754</cp:revision>
  <dc:subject/>
  <dc:title>PowerPoint Presentation</dc:title>
</cp:coreProperties>
</file>