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AAA1-47BF-40CB-B33B-49E33B2B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30D4-E6B3-4117-B8D2-B1862605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89F8-3CC7-4660-B6B0-7D92ECE6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2DA2-44AB-4FBF-8816-9F70C735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BA15-5C09-4002-8471-E90383C2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3B1-E47E-4464-BBE3-B80794D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50B0-0B89-4D33-96AF-0E1E4B0D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C496-B9A6-441E-AE2F-8CA2CF1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F1D-4BDB-4146-8E90-0E45E66D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54DF-7534-4B65-B9B9-F06CEF6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1A3-42B2-40CC-95E2-62F3223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B862-514B-45B3-ABCF-12AA5BB8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D673-82BD-45E9-B529-0C7D74F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95F2-AE67-4DAE-A44B-69BCB40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07F7-FD6C-40BF-9849-F2D7977A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9977-3089-4565-ADD1-712161C3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270-705C-4C1A-954A-8DC8CC19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807D-5FBA-4CE5-AEE7-B0551B2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4AB7-9FE7-4CEA-A7AB-757DC3D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2B54-2FF4-406A-A958-F0DC1A5F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8888-3969-4E58-9518-693D0F0D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CFC8-F4F9-4C8E-A03C-D7C8377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B9B7-DDFB-476B-A69B-590BA2E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8352-C772-4DE5-9799-6A404BC6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393-2845-4887-9D76-FD0AF1AE418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257-D80D-48A0-A03F-562E3056DA4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es-ES_tradnl" sz="1600" spc="-1" strike="noStrike">
                <a:solidFill>
                  <a:srgbClr val="00007d"/>
                </a:solidFill>
                <a:latin typeface="Tahoma"/>
              </a:rPr>
              <a:t>P</a:t>
            </a:r>
            <a:r>
              <a:rPr b="0" lang="es-ES" sz="1600" spc="-1" strike="noStrike">
                <a:solidFill>
                  <a:srgbClr val="00007d"/>
                </a:solidFill>
                <a:latin typeface="Tahoma"/>
              </a:rPr>
              <a:t>ROCESOS PREPARATORIOS, CAUTELARES, INCIDENTES, PRINCIPALES PROCEDIMIENTOS DECLARATIVOS ESPECIALES, EJECUTIVOS Y NO CONTENC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1156-CE38-4538-84A5-7919206A29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80960"/>
            <a:ext cx="8893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: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PROCEDIMIENTOS P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:  PROCEDIMIENTO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: PROCEDIMIENTOS 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: LOS 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:  PROCEDIMIENTOS 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incidental de cumplimiento de sentencias y procedimientos suple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de resoluciones dictadas por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: PROCEDIMIENTO ANTE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I:PROCEDIMIENTOS DE LOS ACTOS JUDICIALES 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. Posesión efectiva, autorización de gravar y enajenar e inventario solem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51272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4113-31AD-4B70-9CC1-1F43D7AA6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92280"/>
            <a:ext cx="23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 pre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701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720" y="180036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Antes juicio: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Durante juicio:  Medida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860640"/>
            <a:ext cx="57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140440"/>
            <a:ext cx="6337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resoluciones dictadas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877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bit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844640"/>
            <a:ext cx="29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La cautela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asegu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de la pre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81360"/>
            <a:ext cx="2303280" cy="86364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Cuestiones accesor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dentro d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860640"/>
            <a:ext cx="2303280" cy="79236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85264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386064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4720" y="522936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69048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iniciar 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962E-1F0C-4709-B9B5-33CFED8FC4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marzo – 15 de ju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16 de abril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4 de may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5 de juni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junio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8335-C2A6-4839-B471-D796D0C346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UL MONTERO</cp:lastModifiedBy>
  <dcterms:modified xsi:type="dcterms:W3CDTF">2007-03-05T02:32:27Z</dcterms:modified>
  <cp:revision>754</cp:revision>
  <dc:subject/>
  <dc:title>PowerPoint Presentation</dc:title>
</cp:coreProperties>
</file>