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BB24-F568-463F-8455-096B2D28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3A23-7F84-41A4-B98D-57693F77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2D37-BBE0-46F3-B2B4-C6BDF467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F969-7566-446A-8939-62B9DD2A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74EC-D36D-42FA-81E6-C41641D5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5E55-C891-48BF-A3AA-287740F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248-0F18-4361-916C-E936686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A8B-CA18-4337-B5FF-0FD8C2F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7C0-D0A5-477E-BF3D-F6FD23F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61D6-FB67-4BC2-87A1-CA312C07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587-13AB-4C48-A4F2-7E0572E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81BA-E8EC-40F3-A525-220EB5F9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6D7-750F-4A6C-B728-A6D5875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BCE4-70AF-4A6B-88CE-E468F82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37DC-0D9D-46EF-9F61-1A94CD9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F89-E52B-488E-A0F4-0B15E66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5EE4-43EE-46C6-9911-F1642183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7D5F-25E8-4DCB-974F-35E8E246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420A-7756-442E-BEF5-CF15B62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4210-5ABA-4BBB-B2C6-797195A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B61E-1344-44C0-95F4-03898996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19A3-8C04-4086-88F1-10DA3A40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5011-23E3-41BA-AD4D-7DE6A2F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BE42-A85E-4DAB-85BE-BB386214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721C-EF4C-4C63-9C0A-CFDEFDD88A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A84D-64CA-4329-9D47-A8E36171E9F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es-ES_tradnl" sz="1600" spc="-1" strike="noStrike">
                <a:solidFill>
                  <a:srgbClr val="00007d"/>
                </a:solidFill>
                <a:latin typeface="Tahoma"/>
              </a:rPr>
              <a:t>P</a:t>
            </a:r>
            <a:r>
              <a:rPr b="0" lang="es-ES" sz="1600" spc="-1" strike="noStrike">
                <a:solidFill>
                  <a:srgbClr val="00007d"/>
                </a:solidFill>
                <a:latin typeface="Tahoma"/>
              </a:rPr>
              <a:t>ROCESOS PREPARATORIOS, CAUTELARES, INCIDENTES, PRINCIPALES PROCEDIMIENTOS DECLARATIVOS ESPECIALES, EJECUTIVOS Y NO CONTENC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3625-4FA2-46B6-A576-61C688213A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80960"/>
            <a:ext cx="8893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: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PROCEDIMIENTOS P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:  PROCEDIMIENTO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: PROCEDIMIENTOS 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: LOS 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:  PROCEDIMIENTOS 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incidental de cumplimiento de sentencias y procedimientos suple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de resoluciones dictadas por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: PROCEDIMIENTO ANTE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I:PROCEDIMIENTOS DE LOS ACTOS JUDICIALES 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. Posesión efectiva, autorización de gravar y enajenar e inventario solem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51272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DA6C-334D-4232-BA80-9C88EE84FE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92280"/>
            <a:ext cx="23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 pre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701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80036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Antes juicio: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Durante juicio:  Medida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860640"/>
            <a:ext cx="57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140440"/>
            <a:ext cx="6337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resoluciones dictadas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bit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844640"/>
            <a:ext cx="29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La cautela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asegu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de la pre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303280" cy="86364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Cuestiones acceso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dentro d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60640"/>
            <a:ext cx="2303280" cy="79236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38606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4720" y="522936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69048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iniciar 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29D7-29C7-4037-8739-90E0E1879A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marzo – 15 de ju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16 de abril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4 de may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5 de juni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junio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B4BC-2832-411C-871F-848029BFE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UL MONTERO</cp:lastModifiedBy>
  <dcterms:modified xsi:type="dcterms:W3CDTF">2007-03-05T02:32:27Z</dcterms:modified>
  <cp:revision>754</cp:revision>
  <dc:subject/>
  <dc:title>PowerPoint Presentation</dc:title>
</cp:coreProperties>
</file>