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A1E3-B863-4012-87A8-EEAA5669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1990B-CBCF-4E32-BCF9-CFE7726F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2195-5CDA-4806-80D7-F2897C93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F866-D76F-4CE0-A962-2058B047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917A-FBEE-4AFB-93B0-16DE3159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4E55-AF57-4A5F-A594-531D3767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87D1-9915-479B-96AF-78C17E32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E8FF-875C-461E-9085-CD6330B9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5CAA-5F6F-43BA-87D8-72FDDC10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0AC8-59F3-41B8-8CC9-B27DF610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C805-5B67-414B-8854-322369D1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2E3D-4181-4E86-8DA7-56E11338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C295-EEA5-4E0F-B58D-0CB21048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B3A7-7D11-42BB-B0C1-DFC77D01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02C2-3C19-47BD-8BC3-3B6F6073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32A4-FD60-4BA4-848E-38734E8D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CC25-2803-468B-A33E-14B55346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F44A8-417A-4DEF-B14E-937262CB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9937-3A5F-49A6-AF91-63CE5BEB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18711-8C96-4B02-8272-DF20D4B9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6F13-A2C7-4496-A3B2-C350A5E6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F7797-3DD4-4C73-B51E-6FC0C103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6E657-DADB-4B57-8423-915B0AA5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4FE8-43AC-4FE2-8507-8C6C18BB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4B8F-5FC1-415C-8423-546316D40F1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1FDE-9705-4789-9FE0-92938F52448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ahoma"/>
              </a:rPr>
              <a:t>DERECHO PROCESAL III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r>
              <a:rPr b="0" lang="es-ES_tradnl" sz="1600" spc="-1" strike="noStrike">
                <a:solidFill>
                  <a:srgbClr val="00007d"/>
                </a:solidFill>
                <a:latin typeface="Tahoma"/>
              </a:rPr>
              <a:t>P</a:t>
            </a:r>
            <a:r>
              <a:rPr b="0" lang="es-ES" sz="1600" spc="-1" strike="noStrike">
                <a:solidFill>
                  <a:srgbClr val="00007d"/>
                </a:solidFill>
                <a:latin typeface="Tahoma"/>
              </a:rPr>
              <a:t>ROCESOS PREPARATORIOS, CAUTELARES, INCIDENTES, PRINCIPALES PROCEDIMIENTOS DECLARATIVOS ESPECIALES, EJECUTIVOS Y NO CONTENCIOS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33696-EFA3-49CE-A0D3-694D99A47E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80960"/>
            <a:ext cx="8893080" cy="60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: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PROCEDIMIENTOS PREPARA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epar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ob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I:  PROCEDIMIENTOS CAUTE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II: PROCEDIMIENTOS CIVILES DECLARA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ordinario de menor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ordinari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sum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Hac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arrendamiento de bienes raíces urb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nulidad de matrimonio, divorcio y s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V: LOS INCID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Ord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:  PROCEDIMIENTOS EJECU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ejecutivo por obligación de dar, hacer o no ha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ejecutiv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incidental de cumplimiento de sentencias y procedimientos suple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umplimiento de resoluciones dictadas por tribunales extranj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I: PROCEDIMIENTO ANTE ÁRBI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II:PROCEDIMIENTOS DE LOS ACTOS JUDICIALES NO CONTENCIO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cedimiento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speciales. Posesión efectiva, autorización de gravar y enajenar e inventario solem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80360" y="907920"/>
            <a:ext cx="151272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868A-F01C-44A9-992E-7AC0AD0F7C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692280"/>
            <a:ext cx="237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 prejud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Dem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70164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 prepar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</a:t>
            </a:r>
            <a:r>
              <a:rPr b="1" i="1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oba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Medidas prejudiciales</a:t>
            </a:r>
            <a:r>
              <a:rPr b="1" i="1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68720" y="1800360"/>
            <a:ext cx="3780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Antes juicio: 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    Prejudiciales 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Durante juicio:  Medidas precauto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85264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Incid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3860640"/>
            <a:ext cx="57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Ordinario de menor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Ordinari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Sum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Hac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rrendamiento de bienes raíces urb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Juicio de nulidad de matrimonio, divorcio y sepa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5140440"/>
            <a:ext cx="63374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jecutivo por obligación de dar, hacer o no ha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jecutivo de mínima cuant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Inciden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umplimiento resoluciones dictadas tribunales extranj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68720" y="587700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Arbit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No Contencio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1844640"/>
            <a:ext cx="295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La cautela 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     en mat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771560"/>
            <a:ext cx="2303280" cy="79380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7d"/>
                </a:solidFill>
                <a:latin typeface="Tahoma"/>
              </a:rPr>
              <a:t>Formas de asegurami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7d"/>
                </a:solidFill>
                <a:latin typeface="Tahoma"/>
              </a:rPr>
              <a:t>de la preten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2781360"/>
            <a:ext cx="2303280" cy="86364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Cuestiones accesori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dentro del jui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3860640"/>
            <a:ext cx="2303280" cy="79236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7d"/>
                </a:solidFill>
                <a:latin typeface="Tahoma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2852640"/>
            <a:ext cx="3780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Ord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7d"/>
                </a:solidFill>
                <a:latin typeface="Tahoma"/>
              </a:rPr>
              <a:t>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90960" y="386064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iviles Declara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14720" y="5229360"/>
            <a:ext cx="8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jecu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690480"/>
            <a:ext cx="2303280" cy="793800"/>
          </a:xfrm>
          <a:prstGeom prst="cube">
            <a:avLst>
              <a:gd name="adj" fmla="val 25000"/>
            </a:avLst>
          </a:prstGeom>
          <a:solidFill>
            <a:srgbClr val="d1d3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7d"/>
                </a:solidFill>
                <a:latin typeface="Tahoma"/>
              </a:rPr>
              <a:t>Formas de iniciar el jui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14022-9E54-4A0E-8556-334503733C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33360"/>
            <a:ext cx="889308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5 de marzo – 15 de ju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16 de abril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24 de mayo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15 de junio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29 de junio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 Preguntas de selección múltiple, verdadero y falso, preguntas abiertas y ca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ada tipo de pregunta tiene un puntaje determinado a indicar en cada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 y de verdadero y falso, tres respuestas incorrectas, descuentan una correc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as preguntas abiertas y los casos no descuentan punt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uración de los controles: 90-120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e los tres controles parciales, para la ponderación final se considerarán </a:t>
            </a:r>
            <a:r>
              <a:rPr b="1" lang="es-CL" sz="1200" spc="-1" strike="noStrike">
                <a:solidFill>
                  <a:srgbClr val="00007d"/>
                </a:solidFill>
                <a:latin typeface="Tahoma"/>
              </a:rPr>
              <a:t>sólo do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, eliminándose la calificación más baja o la que no se hubiere rendi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60%. Examen: 4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57D4-8811-4AE7-AEBB-B151416898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UL MONTERO</cp:lastModifiedBy>
  <dcterms:modified xsi:type="dcterms:W3CDTF">2007-03-05T02:32:27Z</dcterms:modified>
  <cp:revision>754</cp:revision>
  <dc:subject/>
  <dc:title>PowerPoint Presentation</dc:title>
</cp:coreProperties>
</file>