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E833B7-0370-443E-8FC9-1F45386166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71118-7D24-4B3E-9627-4DF6C86E1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C87F1A-F149-43EF-9C1E-3334EF7C2B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AA5489-D8D6-4852-87B1-04E3AC4EA0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10AB3-4318-46C0-9E8A-BAA0C4766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88101-EA55-4D43-8137-8F5B52E5F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BBA56-1AE7-4921-9617-45C1E889A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0AB30-F739-4CEC-BA78-0091FB711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892E9-EBCF-4CC6-86C3-F906879BB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A3894-85D9-4296-B308-79C7B2F38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B156B-E942-4458-9FD2-E5ED32F62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2E121-015C-4DFF-BEA2-84A1FAAD1A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83AA1-CFA8-4958-82CE-13C68C491F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apital Social y Cepal</a:t>
            </a:r>
            <a:br>
              <a:rPr sz="4400"/>
            </a:br>
            <a:r>
              <a:rPr b="0" lang="es-ES" sz="2000" spc="-1" strike="noStrike">
                <a:solidFill>
                  <a:srgbClr val="000000"/>
                </a:solidFill>
                <a:latin typeface="Times New Roman"/>
              </a:rPr>
              <a:t>Sergio Micco Aguayo</a:t>
            </a:r>
            <a:endParaRPr b="0" lang="en-US" sz="2000" spc="-1" strike="noStrike">
              <a:solidFill>
                <a:srgbClr val="000000"/>
              </a:solidFill>
              <a:latin typeface="Times New Roman"/>
            </a:endParaRPr>
          </a:p>
        </p:txBody>
      </p:sp>
      <p:sp>
        <p:nvSpPr>
          <p:cNvPr id="42" name=""/>
          <p:cNvSpPr/>
          <p:nvPr/>
        </p:nvSpPr>
        <p:spPr>
          <a:xfrm>
            <a:off x="304920" y="4724280"/>
            <a:ext cx="830556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ea typeface="Times New Roman"/>
              </a:rPr>
              <a:t>Atria, Raúl y Siles, Marcelo; Capital social y reducción de la pobreza en América Latina y el Caribe: en búsqueda de un nuevo paradigma; CEPAL; Santiago de Chile; 2003.</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43" name="" descr=""/>
          <p:cNvPicPr/>
          <p:nvPr/>
        </p:nvPicPr>
        <p:blipFill>
          <a:blip r:embed="rId1"/>
          <a:stretch/>
        </p:blipFill>
        <p:spPr>
          <a:xfrm>
            <a:off x="0" y="0"/>
            <a:ext cx="4267080" cy="1676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Qué tipos hay de capital social?</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4400" spc="-1" strike="noStrike">
                <a:solidFill>
                  <a:srgbClr val="000000"/>
                </a:solidFill>
                <a:latin typeface="Times New Roman"/>
                <a:ea typeface="Times New Roman"/>
              </a:rPr>
              <a:t>El capital social de vinculación</a:t>
            </a:r>
            <a:r>
              <a:rPr b="0" lang="es-CL" sz="2800" spc="-1" strike="noStrike">
                <a:solidFill>
                  <a:srgbClr val="000000"/>
                </a:solidFill>
                <a:latin typeface="Times New Roman"/>
                <a:ea typeface="Times New Roman"/>
              </a:rPr>
              <a:t> (piénsese en los eslabones de una cadena que tienen el mismo tamaño y resistencia y están sometidos a la misma tensión) existe en relaciones sociales medianamente estrechas y en la mayoría de los casos se basa en puntos de coincidencia adquiridos, a veces derivados de compromisos a mediano plaz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Qué tipos hay de capital social?</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	</a:t>
            </a:r>
            <a:r>
              <a:rPr b="0" lang="es-CL" sz="4000" spc="-1" strike="noStrike">
                <a:solidFill>
                  <a:srgbClr val="000000"/>
                </a:solidFill>
                <a:latin typeface="Times New Roman"/>
                <a:ea typeface="Times New Roman"/>
              </a:rPr>
              <a:t>El capital social de aproximación</a:t>
            </a:r>
            <a:r>
              <a:rPr b="0" lang="es-CL" sz="2800" spc="-1" strike="noStrike">
                <a:solidFill>
                  <a:srgbClr val="000000"/>
                </a:solidFill>
                <a:latin typeface="Times New Roman"/>
                <a:ea typeface="Times New Roman"/>
              </a:rPr>
              <a:t> (imaginemos un puente que conecta dos masas continentales de diferentes superficies, recursos y poblaciones) existe en las relaciones asimétricas entre personas que tienen pocos puntos de coincidencia, un contacto personal limitado y a menudo diferencias importantes en cuanto a los recursos que poseen.</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Qué tipos hay de capital social?</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La forma negativa del capital social: los sentimientos de antipatía.  La antipatía suele ser el resultado de la falta de puntos de coincidencia y crea conflictos relacionados con los resultados económicos, los valores, el poder y la información. Este produce la renuencia a compartir, la falta de disposición a prestar ayuda o a participar en intercambios mutuamente beneficiosos, los actos de exclusión, el fraude, la discriminación y la guerr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s consecuencias del capital social positivo</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77" name=""/>
          <p:cNvSpPr/>
          <p:nvPr/>
        </p:nvSpPr>
        <p:spPr>
          <a:xfrm>
            <a:off x="0" y="1981080"/>
            <a:ext cx="914400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a:t>
            </a:r>
            <a:r>
              <a:rPr b="0" lang="es-CL" sz="2400" spc="-1" strike="noStrike">
                <a:solidFill>
                  <a:srgbClr val="000000"/>
                </a:solidFill>
                <a:latin typeface="Times New Roman"/>
                <a:ea typeface="Times New Roman"/>
              </a:rPr>
              <a:t>Cuando las personas se comunican entre sí, las situaciones de conflicto se atenúan debido a que se manifiesta una mayor “consideración por el otro”.  Las personas tienden a actuar en forma menos egoísta y toman más en cuenta el interés de los demás participant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Robison y Schmid (1991) descubrieron que sobre los automóviles usados se aplicaba un descuento de hasta 14% a familiares en situación de pobreza,  ninguno a los extraños y se recargaba un 23% a los vecinos desagradab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Síntesis</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personas o los grupos poseen capital social cuando son objeto de los sentimientos de solidaridad de otras personas o grupos.</a:t>
            </a:r>
            <a:endParaRPr b="0" lang="en-US" sz="2800" spc="-1" strike="noStrike">
              <a:solidFill>
                <a:srgbClr val="000000"/>
              </a:solidFill>
              <a:latin typeface="Times New Roman"/>
            </a:endParaRPr>
          </a:p>
          <a:p>
            <a:pPr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personas o los grupos aportan capital social cuando experimentan sentimientos de solidaridad hacia otras personas o grupos.</a:t>
            </a:r>
            <a:endParaRPr b="0" lang="en-US" sz="2800" spc="-1" strike="noStrike">
              <a:solidFill>
                <a:srgbClr val="000000"/>
              </a:solidFill>
              <a:latin typeface="Times New Roman"/>
            </a:endParaRPr>
          </a:p>
          <a:p>
            <a:pPr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ienes poseen capital social tienen acceso a los recursos de quienes proporcionan ese capital en condiciones más favorables que las que cabría esperar en relaciones más distint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Síntesis</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aumento del capital fomenta la cooperación, altera los términos y niveles del intercambio, fomenta los intercambios, reduce el individualismo, internaliza los factores externos y produce un aumento de las inversiones en bienes públicos o con un alto costo de exclusión  realizadas por personas y grupos que poseen capital social.</a:t>
            </a:r>
            <a:endParaRPr b="0" lang="en-US" sz="2400" spc="-1" strike="noStrike">
              <a:solidFill>
                <a:srgbClr val="000000"/>
              </a:solidFill>
              <a:latin typeface="Times New Roman"/>
            </a:endParaRPr>
          </a:p>
          <a:p>
            <a:pPr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capital conduce a la creación y el apoyo de instituciones formales y no formales, así como a la creación de redes entre esas instituciones y el capital so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Síntesis</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capital social existente dentro de un grupo puede conducir a determinadas personas o grupos a actuar en detrimento de las instituciones y normas sociales que generan gastos públicos en beneficio de los pocos miembros de sus redes ricas en capital social.</a:t>
            </a:r>
            <a:endParaRPr b="0" lang="en-US" sz="2800" spc="-1" strike="noStrike">
              <a:solidFill>
                <a:srgbClr val="000000"/>
              </a:solidFill>
              <a:latin typeface="Times New Roman"/>
            </a:endParaRPr>
          </a:p>
          <a:p>
            <a:pPr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capital social existente dentro de un grupo puede conducir a la discriminación y exclusión de las personas o grupos que no formen parte de él.</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Síntesis de estudios empíricos</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Uno de los primeros estudios sobre el capital social demostró que el nivel  de educación alcanzado se relacionaba con el entorno de capital social de los estudiantes (Coleman, 1990)</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os países con altos niveles de confianza gozan de importantes ventajas económicas.</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as comunidades con una fuerte sociedad civil y un alto grado de asociación han prosperado más que las que tienen niveles reducidos de participación cívica (Putnam, Leonardo y Nanetti, 199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Síntesis de estudios empíricos</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a disparidad en el ingreso de los hogares parece disminuir cuando aumentan las variables asociadas a mayores niveles de capital social (Robinson y Siles, 1999)</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a posibilidad de adquirir tierras de buena calidad depende del capital social de cada uno (Perry y robison, 2001)</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xiste una relación positiva entre el crecimiento económico nacional y la confianza (Snack y Keefer, 1997)</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Síntesis de estudios empíricos</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A medida que aumentan los contactos de intercambio de una persona, también lo hacen sus ingresos  (Fafchamps y Minten, 1998)</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uando se otorga a las comunidades el poder de seleccionar y administrar sus propios proyectos de desarrollo, las inversiones tienen mejores resultados y crece el capital social de las comunidades (Robison, Siles y Owens, 2002)</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ea typeface="Times New Roman"/>
              </a:rPr>
              <a:t>CAPITAL SOCIAL</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Junto a las demás formas de capital, como el capital físico, el financiero, el humano, el cultural y el natural existe un capital social que podríamos definir como: </a:t>
            </a:r>
            <a:endParaRPr b="0" lang="en-US" sz="24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ACTIVOS SOCIALES-SICOLÓGICOS-EMOCIONALES QUE GENERAN CORRIENTES DE BENEFICIOS, ES DECIR, LA ACCIÓN COLECTIVA MUTUAMENTE BENEFICIOSA.</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Síntesis de estudios empíricos</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Abundan los ejemplos de destrucción y pobreza derivadas de la hostilidad o del capital social negativo, que distorsionan e incrementan el costo de las transacciones, y reducen las posibilidades de especialización.  La guerra, la delincuencia, la corrupción, las amenazas, la discriminación, los actos de terrorismo y la destrucción del medio ambiente son actos de hostilidad que aumentan la pobreza.</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l éxito de las maquiladoras de Yucatán (México) depende de su capital social (Biles, Robison y Siles, 2001)</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Síntesis de estudios empíricos</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as prácticas de conservación de recursos utilizadas en el Altiplano han sido asociadas al capital social  (Swinton, 2000)</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a formación de capital social trajo aparejada una mejora en el mantenimiento de un sistema de riego y uso compartido del agua (Uphoff, 2000).</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Se han organizado con éxito asociaciones de ahorro e inversión mediante el uso de capital social (Adams y Fitchett, 1992)</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a adopción de tecnologías depende de los lazos sociales (Islam, 1999)</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nticipado por los clásicos</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9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Adam Smith (1759) definió la solidaridad como “nuestra compañía en el sentimiento  de cualquier pasión”, que surge de “ponerse en el lugar del que sufre”. Smith  consideraba que la solidaridad disminuía dentro de la familia extendida en la misma medida en que se iban diluyendo los lazos de sangre.  Decía que estamos más inclinados a solidarizar con nuestros amigos que con nuestros conocidos, y más con los conocidos que con los extraños.  Hume  (1740) tenía  en mente una ecuación similar cuando opinó que “Solidarizamos más con las personas que están cerca  de nosotros que con las que están lejos; más con nuestros conocidos que con los extraños; más con nuestros compatriotas que con los extranje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nticipado por los clásico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Para Hume, la solidaridad se basa en la capacidad de captar y predecir los pensamientos y sentimientos de la gente (o por lo menor de generar  la creencia de que lo hacemos), no sólo porque la coherencia esencial de la constitución humana determina que situaciones y estímulos similares provoquen las mismas reacciones internas, sino además porque nuestros pensamientos y sentimientos están interconectados mediante señales visibles y comprensibles. En suma, la solidaridad es tan inseparable de la interacción social y la percepción personal cómo la vista lo es de la percepción visual”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63324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0" y="371520"/>
            <a:ext cx="914400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1" lang="es-CL" sz="1600" spc="-1" strike="noStrike">
                <a:solidFill>
                  <a:srgbClr val="000000"/>
                </a:solidFill>
                <a:latin typeface="Times New Roman"/>
                <a:ea typeface="Times New Roman"/>
              </a:rPr>
              <a:t>Estructural</a:t>
            </a:r>
            <a:r>
              <a:rPr b="1" lang="es-CL" sz="1600" spc="-1" strike="noStrike">
                <a:solidFill>
                  <a:srgbClr val="000000"/>
                </a:solidFill>
                <a:latin typeface="Times New Roman"/>
                <a:ea typeface="Times New Roman"/>
              </a:rPr>
              <a:t>	</a:t>
            </a:r>
            <a:r>
              <a:rPr b="1" lang="es-CL" sz="1600" spc="-1" strike="noStrike">
                <a:solidFill>
                  <a:srgbClr val="000000"/>
                </a:solidFill>
                <a:latin typeface="Times New Roman"/>
                <a:ea typeface="Times New Roman"/>
              </a:rPr>
              <a:t>                                    Cognoscitiv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 name=""/>
          <p:cNvSpPr/>
          <p:nvPr/>
        </p:nvSpPr>
        <p:spPr>
          <a:xfrm>
            <a:off x="0" y="981000"/>
            <a:ext cx="9144000" cy="5204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Deriva de:</a:t>
            </a:r>
            <a:r>
              <a:rPr b="1" lang="es-CL" sz="1200" spc="-1" strike="noStrike">
                <a:solidFill>
                  <a:srgbClr val="000000"/>
                </a:solidFill>
                <a:latin typeface="Times New Roman"/>
                <a:ea typeface="Times New Roman"/>
              </a:rPr>
              <a:t>	</a:t>
            </a:r>
            <a:r>
              <a:rPr b="1" lang="es-CL" sz="1200" spc="-1" strike="noStrike">
                <a:solidFill>
                  <a:srgbClr val="000000"/>
                </a:solidFill>
                <a:latin typeface="Times New Roman"/>
                <a:ea typeface="Times New Roman"/>
              </a:rPr>
              <a:t>	</a:t>
            </a:r>
            <a:r>
              <a:rPr b="1" lang="es-CL" sz="1200" spc="-1" strike="noStrike">
                <a:solidFill>
                  <a:srgbClr val="000000"/>
                </a:solidFill>
                <a:latin typeface="Times New Roman"/>
                <a:ea typeface="Times New Roman"/>
              </a:rPr>
              <a:t>Estructura y organización</a:t>
            </a:r>
            <a:r>
              <a:rPr b="1" lang="es-CL" sz="1200" spc="-1" strike="noStrike">
                <a:solidFill>
                  <a:srgbClr val="000000"/>
                </a:solidFill>
                <a:latin typeface="Times New Roman"/>
                <a:ea typeface="Times New Roman"/>
              </a:rPr>
              <a:t>	</a:t>
            </a:r>
            <a:r>
              <a:rPr b="1" lang="es-CL" sz="1200" spc="-1" strike="noStrike">
                <a:solidFill>
                  <a:srgbClr val="000000"/>
                </a:solidFill>
                <a:latin typeface="Times New Roman"/>
                <a:ea typeface="Times New Roman"/>
              </a:rPr>
              <a:t>	</a:t>
            </a:r>
            <a:r>
              <a:rPr b="1" lang="es-CL" sz="1200" spc="-1" strike="noStrike">
                <a:solidFill>
                  <a:srgbClr val="000000"/>
                </a:solidFill>
                <a:latin typeface="Times New Roman"/>
                <a:ea typeface="Times New Roman"/>
              </a:rPr>
              <a:t>	</a:t>
            </a:r>
            <a:r>
              <a:rPr b="1" lang="es-CL" sz="1200" spc="-1" strike="noStrike">
                <a:solidFill>
                  <a:srgbClr val="000000"/>
                </a:solidFill>
                <a:latin typeface="Times New Roman"/>
                <a:ea typeface="Times New Roman"/>
              </a:rPr>
              <a:t>Lenguaje y concepto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	</a:t>
            </a:r>
            <a:r>
              <a:rPr b="1" lang="es-CL" sz="1200" spc="-1" strike="noStrike">
                <a:solidFill>
                  <a:srgbClr val="000000"/>
                </a:solidFill>
                <a:latin typeface="Times New Roman"/>
                <a:ea typeface="Times New Roman"/>
              </a:rPr>
              <a:t>	</a:t>
            </a:r>
            <a:r>
              <a:rPr b="1" lang="es-CL" sz="1200" spc="-1" strike="noStrike">
                <a:solidFill>
                  <a:srgbClr val="000000"/>
                </a:solidFill>
                <a:latin typeface="Times New Roman"/>
                <a:ea typeface="Times New Roman"/>
              </a:rPr>
              <a:t>	</a:t>
            </a:r>
            <a:r>
              <a:rPr b="1" lang="es-CL" sz="1200" spc="-1" strike="noStrike">
                <a:solidFill>
                  <a:srgbClr val="000000"/>
                </a:solidFill>
                <a:latin typeface="Times New Roman"/>
                <a:ea typeface="Times New Roman"/>
              </a:rPr>
              <a:t>sociales.</a:t>
            </a:r>
            <a:r>
              <a:rPr b="1" lang="es-CL" sz="1200" spc="-1" strike="noStrike">
                <a:solidFill>
                  <a:srgbClr val="000000"/>
                </a:solidFill>
                <a:latin typeface="Times New Roman"/>
                <a:ea typeface="Times New Roman"/>
              </a:rPr>
              <a:t>	</a:t>
            </a:r>
            <a:r>
              <a:rPr b="1" lang="es-CL" sz="1200" spc="-1" strike="noStrike">
                <a:solidFill>
                  <a:srgbClr val="000000"/>
                </a:solidFill>
                <a:latin typeface="Times New Roman"/>
                <a:ea typeface="Times New Roman"/>
              </a:rPr>
              <a:t>	</a:t>
            </a:r>
            <a:r>
              <a:rPr b="1" lang="es-CL" sz="1200" spc="-1" strike="noStrike">
                <a:solidFill>
                  <a:srgbClr val="000000"/>
                </a:solidFill>
                <a:latin typeface="Times New Roman"/>
                <a:ea typeface="Times New Roman"/>
              </a:rPr>
              <a:t>	</a:t>
            </a:r>
            <a:r>
              <a:rPr b="1" lang="es-CL" sz="1200" spc="-1" strike="noStrike">
                <a:solidFill>
                  <a:srgbClr val="000000"/>
                </a:solidFill>
                <a:latin typeface="Times New Roman"/>
                <a:ea typeface="Times New Roman"/>
              </a:rPr>
              <a:t>emocionale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anifestaciones:</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Funciones y normas, precedentes</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Normas y valore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y procedimientos que respaldan</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actitudes y creencias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la acción colectiva.</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que favorecen la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acción colectiv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gregados</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Redes sociales de relaciones.</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Ideologías que ponen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mplementarios:</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el énfasis en el interé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común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Orígenes en procesos</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Resultados y relaciones sociales</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Resultados y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que funcionen</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relaciones sociales deseable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aracterísticas:</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Observable y más objetiva;</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No es observable, y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Puede ser sustituida por otras</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por lo tanto es má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opciones.</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subjetiva: cuestiones de valoración.</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ntribución a la</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Favorece este tipo de acción al</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Predisposición a la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cción colectiva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tomarla más fácil, reducir los</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acción mutuament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utuamente</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costos de transacción y convertir</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beneficiosa, al hacer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beneficiosa:</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el comportamiento cooperativo</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que este tipo de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en una cuestión de rutina.</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acción sea más deseable y que la gente se sienta má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comprometida con ell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54" name=""/>
          <p:cNvSpPr/>
          <p:nvPr/>
        </p:nvSpPr>
        <p:spPr>
          <a:xfrm>
            <a:off x="5003640" y="1314360"/>
            <a:ext cx="73080" cy="499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547640" y="1052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547640" y="115920"/>
            <a:ext cx="158436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5148360" y="0"/>
            <a:ext cx="2087640" cy="10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547640" y="1341360"/>
            <a:ext cx="0" cy="511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835280" y="1125360"/>
            <a:ext cx="216036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5508720" y="1197000"/>
            <a:ext cx="194292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Por qué es un capital la solidaridad?</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l capital social tiene el potencial de brindar servicios y, aun así, mantener su identidad (le podemos pedir un favor a un amigo y, aún así, conservar su amistad).  El capital social se diferencia de los servicios que presta  (distinguimos los sentimientos de solidaridad de un amigo de los favores que éste nos puede hacer).  El capital social es duradero (podemos tener amigos por  largos períodos de tiempo y, a veces, durante toda la vida). La mayoría considera que los servicios que puede prestar el capital social son valiosos (valoramos las muestras de aprobación e interés que intercambian los amigos, y estamos dispuestos a realizar los mayores  esfuerzos para conservarl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Por qué es un capital la solidaridad?</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l capital social es flexible (consideramos  que los servicios de nuestros amigos son valiosos en distintas situaciones)  El capital social es parcialmente  fungible (podemos pedir a un amigo que ayude a otro amigo nuestro a quien no conoce).  Por último, el capital social a veces sustituye o complementa otras formas de capital (nuestros amigos pueden ayudarnos a mejorar los servicios que obtenemos  de otras formas de capital).</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ómo nace el capital social?</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Consideramos que el capital, como el  capital social se origina en rasgos comunes denominados puntos de coincidencia. Estos rasgos pueden ser adquiridos o heredados, y creemos que son necesarios para el desarrollo del capital social.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Qué tipos hay de capital social?</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	</a:t>
            </a:r>
            <a:r>
              <a:rPr b="0" lang="es-CL" sz="3600" spc="-1" strike="noStrike">
                <a:solidFill>
                  <a:srgbClr val="000000"/>
                </a:solidFill>
                <a:latin typeface="Times New Roman"/>
                <a:ea typeface="Times New Roman"/>
              </a:rPr>
              <a:t>El </a:t>
            </a:r>
            <a:r>
              <a:rPr b="0" lang="es-CL" sz="4000" spc="-1" strike="noStrike">
                <a:solidFill>
                  <a:srgbClr val="000000"/>
                </a:solidFill>
                <a:latin typeface="Times New Roman"/>
                <a:ea typeface="Times New Roman"/>
              </a:rPr>
              <a:t>capital social de unión</a:t>
            </a:r>
            <a:r>
              <a:rPr b="0" lang="es-CL" sz="2800" spc="-1" strike="noStrike">
                <a:solidFill>
                  <a:srgbClr val="000000"/>
                </a:solidFill>
                <a:latin typeface="Times New Roman"/>
                <a:ea typeface="Times New Roman"/>
              </a:rPr>
              <a:t> puede caracterizarse por intensos sentimientos de conexión, que pueden incluir sentimientos de preocupación, afecto e interés por el otro como los que existen entre los miembros de una familia, en las parejas comprometidas, entre las personas que han sido socios comerciales durante mucho tiempo o los miembros de una minoría oprimid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15:53:43Z</dcterms:created>
  <dc:creator>Sergio Micco</dc:creator>
  <dc:description/>
  <dc:language>en-US</dc:language>
  <cp:lastModifiedBy>smicco</cp:lastModifiedBy>
  <dcterms:modified xsi:type="dcterms:W3CDTF">2000-01-10T02:32:26Z</dcterms:modified>
  <cp:revision>6</cp:revision>
  <dc:subject/>
  <dc:title>Presentación de PowerPoint</dc:title>
</cp:coreProperties>
</file>