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9.jpeg" ContentType="image/jpeg"/>
  <Override PartName="/ppt/media/image10.png" ContentType="image/png"/>
  <Override PartName="/ppt/media/image18.jpeg" ContentType="image/jpeg"/>
  <Override PartName="/ppt/media/image16.png" ContentType="image/png"/>
  <Override PartName="/ppt/media/image21.jpeg" ContentType="image/jpeg"/>
  <Override PartName="/ppt/media/camera.wav" ContentType="audio/x-wav"/>
  <Override PartName="/ppt/media/image17.png" ContentType="image/png"/>
  <Override PartName="/ppt/media/image4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610-3935-4E98-B092-24C8ACBD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0C1-A7D2-411B-8A75-023E31B8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6F6-4F7E-4EC4-9BE5-2F172A44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6FA-FDE7-4B24-8D20-FFD3F54C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FA6-F8F3-4F4D-B48A-EBF29CC9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89A-836F-4088-8D48-0FE9F112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B4F-B646-4CBF-B9B8-72DB19AD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56D-6864-4A45-9192-82B44B4F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5F4-F1F2-4093-BAF1-91F9D9B3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8B6-AD2C-4A77-9878-ADBDF47C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B2A-F876-48B7-8DD9-F017AAEE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D1E-4E25-4144-86B8-2D383AA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24E0-CEB9-444A-8DBA-0CFC77313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Machiavelli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rtehistoria.com/historia/obras/13690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or una democracia fuerte y un lugar para 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enjamín Bar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receta neolib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289548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ota por tus dólares; haz del centro comercial un lugar para todos; sé un ciudadano como un  cliente exigente; deviene en un votante como un comprador informado y haz de la participación una forma de consumo; reduce el Estado al mínim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22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reacción comuni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mantiene la polaridad Estado/privado y se opta por las comunidades que preceden y condicionan la individualidad uniendo a las personas en familias, vecindarios, congregaciones, naciones atribuidas y o voluntarias. Así se quiere enfrentar al Estado siempre potencialmente opresivo y al individualismo peligrosamente desintegrador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810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problemas de las comunidades atribui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torita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Jerarqu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roqu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igual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terna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ula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Foto: Al Jazira"/>
          <p:cNvPicPr/>
          <p:nvPr/>
        </p:nvPicPr>
        <p:blipFill>
          <a:blip r:embed="rId1"/>
          <a:stretch/>
        </p:blipFill>
        <p:spPr>
          <a:xfrm>
            <a:off x="4648320" y="2500200"/>
            <a:ext cx="3809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problemas de las comunidades atribui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tento de instrumentalizar el Estado, reafirmación de la propia identidad en el odio al otro y en su excl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9625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13720" y="3657600"/>
            <a:ext cx="233028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8600" y="4724280"/>
            <a:ext cx="340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a sociedad civil fuerte: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¿Qué es lo que queremo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remos más escuelas y menos prisiones; Más libros y menos armas; Más aprendizaje  menos vicio; Más ocio y menos codicia; Más justicia y menos vengan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remos más oportunidades para cultivar nuestra mejor naturalez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muel Gomp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íder labori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2244600"/>
            <a:ext cx="38098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a sociedad civil fuerte:</a:t>
            </a:r>
            <a:br>
              <a:rPr sz="36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perar las dicotomías Estado o Merca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ás allá del liberalismo de mercado y de la comunidades de clanes se promueven asociaciones abiertas e igualitarias y que permiten la participación volun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2244600"/>
            <a:ext cx="38098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a sociedad civil fuerte: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biera existir un lugar para todos en la sociedad civil, un lugar que fuera realmente para todos, un lugar compartido por todos. Ese lugar debe ser democrático: debe ser público y libre (no coercitivo ni esta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244600"/>
            <a:ext cx="38098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elemento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artir con otros con fines distintos al del gobierno y de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artimos en forma libre y volun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mpo común, colaboración y sentido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amilia y religión son claves pero deben ser abiertas e inclusivas y hacer valer cierto grado de igualdad formando adultos autónomos y ciudadanos compromet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53080" y="2913120"/>
            <a:ext cx="2590920" cy="3944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247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oluntariado es la realización del bien común cumpliendo obligaciones cívicas resolviendo los problemas comunes de la sociedad sin hacer nada a favor de alguien que no pueda hacer por sí mismo y sin sustituir los deberes del gobier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verano prestando servicios comunitarios puede conducir a toda una vida de ciudadanía: cada voluntario era un futuro ciudadano y cada ciudadano un defensor de la democracia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ll Clinton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Bill Clinton"/>
          <p:cNvPicPr/>
          <p:nvPr/>
        </p:nvPicPr>
        <p:blipFill>
          <a:blip r:embed="rId1"/>
          <a:stretch/>
        </p:blipFill>
        <p:spPr>
          <a:xfrm>
            <a:off x="6477120" y="1828800"/>
            <a:ext cx="243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lugar para 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uscamos un lugar donde podamos vivir en común sin poner nuestra naturaleza plural en manos de la depend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dividual al comercio y al consumismo. Un lugar para todos: eso es lo que quer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2280" y="1981080"/>
            <a:ext cx="379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excesos burocráticos o despóticos de los gobiernos no se combaten privatizando sino descentralizándolo y estableciendo fuertes relaciones entre sector público y sociedad civ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lugares claves de ese tercer lu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e cívica de la nación o el patriotismo constitucional  deberán complementar la fe religiosa y la sangre racial que ceden terreno ante el secularismo y la inmigración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Maquiavel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954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eis polí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sanchar y reforzar espacios públicos multi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ver el uso público de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ver la responsabilidad social de l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Promover una economía global justa, ecológica y suste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Promover servicios nacionales de voluntar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. Promover artes y humanidades  en espontaneidad, creatividad y diver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Bibliografía de Barber, R. Benjamin;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 lugar para to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Cómo fortalecer la democracia y la sociedad civil; Paidós; Barcelona; España;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trong democrac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ticipatory Politics for a New Age; Universidad de California; 198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tro tipos de democracia y la creación del espacio púb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00384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27680" y="1981080"/>
            <a:ext cx="324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8600" y="1523880"/>
            <a:ext cx="8686440" cy="3389400"/>
            <a:chOff x="228600" y="1523880"/>
            <a:chExt cx="8686440" cy="3389400"/>
          </a:xfrm>
        </p:grpSpPr>
        <p:grpSp>
          <p:nvGrpSpPr>
            <p:cNvPr id="118" name=""/>
            <p:cNvGrpSpPr/>
            <p:nvPr/>
          </p:nvGrpSpPr>
          <p:grpSpPr>
            <a:xfrm>
              <a:off x="235440" y="1528560"/>
              <a:ext cx="8672040" cy="3380040"/>
              <a:chOff x="235440" y="1528560"/>
              <a:chExt cx="8672040" cy="33800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235440" y="1528560"/>
                <a:ext cx="1472400" cy="1370160"/>
                <a:chOff x="235440" y="1528560"/>
                <a:chExt cx="1472400" cy="1370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00600" y="1528560"/>
                  <a:ext cx="13413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5440" y="1528560"/>
                  <a:ext cx="14724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708200" y="1528560"/>
                <a:ext cx="1556280" cy="1370160"/>
                <a:chOff x="1708200" y="1528560"/>
                <a:chExt cx="1556280" cy="1370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73360" y="1528560"/>
                  <a:ext cx="14256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708200" y="1528560"/>
                  <a:ext cx="15562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264840" y="1528560"/>
                <a:ext cx="708840" cy="1370160"/>
                <a:chOff x="3264840" y="1528560"/>
                <a:chExt cx="708840" cy="1370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330360" y="1528560"/>
                  <a:ext cx="577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264840" y="1528560"/>
                  <a:ext cx="708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974400" y="1528560"/>
                <a:ext cx="1247760" cy="1370160"/>
                <a:chOff x="3974400" y="1528560"/>
                <a:chExt cx="1247760" cy="1370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039920" y="1528560"/>
                  <a:ext cx="11160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74400" y="1528560"/>
                  <a:ext cx="1247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222520" y="1528560"/>
                <a:ext cx="1085760" cy="1370160"/>
                <a:chOff x="5222520" y="1528560"/>
                <a:chExt cx="1085760" cy="1370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287680" y="1528560"/>
                  <a:ext cx="954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22520" y="1528560"/>
                  <a:ext cx="1085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309000" y="1528560"/>
                <a:ext cx="1202760" cy="1370160"/>
                <a:chOff x="6309000" y="1528560"/>
                <a:chExt cx="1202760" cy="13701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374160" y="1528560"/>
                  <a:ext cx="10720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09000" y="1528560"/>
                  <a:ext cx="1202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512120" y="1528560"/>
                <a:ext cx="1395360" cy="1370160"/>
                <a:chOff x="7512120" y="1528560"/>
                <a:chExt cx="1395360" cy="13701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7577640" y="1528560"/>
                  <a:ext cx="12636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12120" y="1528560"/>
                  <a:ext cx="13953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35440" y="2898720"/>
                <a:ext cx="1472400" cy="1004760"/>
                <a:chOff x="235440" y="2898720"/>
                <a:chExt cx="1472400" cy="10047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00600" y="2898720"/>
                  <a:ext cx="13413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Representa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35440" y="2898720"/>
                  <a:ext cx="14724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708200" y="2898720"/>
                <a:ext cx="1556280" cy="1004760"/>
                <a:chOff x="1708200" y="2898720"/>
                <a:chExt cx="1556280" cy="10047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773360" y="2898720"/>
                  <a:ext cx="14256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708200" y="2898720"/>
                  <a:ext cx="15562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264840" y="2898720"/>
                <a:ext cx="708840" cy="1004760"/>
                <a:chOff x="3264840" y="2898720"/>
                <a:chExt cx="708840" cy="1004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30360" y="2898720"/>
                  <a:ext cx="5778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64840" y="2898720"/>
                  <a:ext cx="7088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974400" y="2898720"/>
                <a:ext cx="1247760" cy="1004760"/>
                <a:chOff x="3974400" y="2898720"/>
                <a:chExt cx="1247760" cy="1004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039920" y="2898720"/>
                  <a:ext cx="1116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74400" y="2898720"/>
                  <a:ext cx="1247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222520" y="2898720"/>
                <a:ext cx="1085760" cy="1004760"/>
                <a:chOff x="5222520" y="2898720"/>
                <a:chExt cx="1085760" cy="1004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87680" y="2898720"/>
                  <a:ext cx="954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22520" y="2898720"/>
                  <a:ext cx="1085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309000" y="2898720"/>
                <a:ext cx="1202760" cy="1004760"/>
                <a:chOff x="6309000" y="2898720"/>
                <a:chExt cx="1202760" cy="1004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374160" y="2898720"/>
                  <a:ext cx="10720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309000" y="2898720"/>
                  <a:ext cx="1202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512120" y="2898720"/>
                <a:ext cx="1395360" cy="1004760"/>
                <a:chOff x="7512120" y="2898720"/>
                <a:chExt cx="1395360" cy="10047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577640" y="2898720"/>
                  <a:ext cx="12636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12120" y="2898720"/>
                  <a:ext cx="13953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35440" y="3903480"/>
                <a:ext cx="1472400" cy="1005120"/>
                <a:chOff x="235440" y="3903480"/>
                <a:chExt cx="1472400" cy="1005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00600" y="3903480"/>
                  <a:ext cx="1341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autoriz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35440" y="3903480"/>
                  <a:ext cx="14724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708200" y="3903480"/>
                <a:ext cx="1556280" cy="1005120"/>
                <a:chOff x="1708200" y="3903480"/>
                <a:chExt cx="1556280" cy="1005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773360" y="3903480"/>
                  <a:ext cx="14256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toridad (poder/sabidurí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708200" y="3903480"/>
                  <a:ext cx="1556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64840" y="3903480"/>
                <a:ext cx="708840" cy="1005120"/>
                <a:chOff x="3264840" y="3903480"/>
                <a:chExt cx="708840" cy="10051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330360" y="3903480"/>
                  <a:ext cx="5778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64840" y="3903480"/>
                  <a:ext cx="708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74400" y="3903480"/>
                <a:ext cx="1247760" cy="1005120"/>
                <a:chOff x="3974400" y="3903480"/>
                <a:chExt cx="1247760" cy="10051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039920" y="3903480"/>
                  <a:ext cx="1116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jecu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74400" y="3903480"/>
                  <a:ext cx="1247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222520" y="3903480"/>
                <a:ext cx="1085760" cy="1005120"/>
                <a:chOff x="5222520" y="3903480"/>
                <a:chExt cx="1085760" cy="10051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287680" y="3903480"/>
                  <a:ext cx="9547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222520" y="3903480"/>
                  <a:ext cx="1085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309000" y="3903480"/>
                <a:ext cx="1202760" cy="1005120"/>
                <a:chOff x="6309000" y="3903480"/>
                <a:chExt cx="1202760" cy="10051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374160" y="3903480"/>
                  <a:ext cx="10720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309000" y="3903480"/>
                  <a:ext cx="1202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512120" y="3903480"/>
                <a:ext cx="1395360" cy="1005120"/>
                <a:chOff x="7512120" y="3903480"/>
                <a:chExt cx="1395360" cy="1005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577640" y="3903480"/>
                  <a:ext cx="12636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bleza obliga sabidur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512120" y="3903480"/>
                  <a:ext cx="13953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228600" y="1523880"/>
              <a:ext cx="8686440" cy="338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" y="4802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188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1371600"/>
            <a:ext cx="9143640" cy="3580920"/>
            <a:chOff x="0" y="1371600"/>
            <a:chExt cx="9143640" cy="3580920"/>
          </a:xfrm>
        </p:grpSpPr>
        <p:grpSp>
          <p:nvGrpSpPr>
            <p:cNvPr id="236" name=""/>
            <p:cNvGrpSpPr/>
            <p:nvPr/>
          </p:nvGrpSpPr>
          <p:grpSpPr>
            <a:xfrm>
              <a:off x="7200" y="1378440"/>
              <a:ext cx="9127800" cy="3565800"/>
              <a:chOff x="7200" y="1378440"/>
              <a:chExt cx="9127800" cy="35658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200" y="1378440"/>
                <a:ext cx="1193400" cy="2057040"/>
                <a:chOff x="7200" y="1378440"/>
                <a:chExt cx="1193400" cy="20570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8120" y="1378440"/>
                  <a:ext cx="105156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200" y="1378440"/>
                  <a:ext cx="119340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200960" y="1378440"/>
                <a:ext cx="1514520" cy="2057040"/>
                <a:chOff x="1200960" y="1378440"/>
                <a:chExt cx="1514520" cy="2057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272240" y="1378440"/>
                  <a:ext cx="137124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00960" y="1378440"/>
                  <a:ext cx="151452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716200" y="1378440"/>
                <a:ext cx="954360" cy="2057040"/>
                <a:chOff x="2716200" y="1378440"/>
                <a:chExt cx="954360" cy="20570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787120" y="1378440"/>
                  <a:ext cx="81180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716200" y="1378440"/>
                  <a:ext cx="95436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671280" y="1378440"/>
                <a:ext cx="1351080" cy="2057040"/>
                <a:chOff x="3671280" y="1378440"/>
                <a:chExt cx="1351080" cy="20570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742200" y="1378440"/>
                  <a:ext cx="120888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671280" y="1378440"/>
                  <a:ext cx="135108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23080" y="1378440"/>
                <a:ext cx="1292760" cy="2057040"/>
                <a:chOff x="5023080" y="1378440"/>
                <a:chExt cx="1292760" cy="20570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94360" y="1378440"/>
                  <a:ext cx="115020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23080" y="1378440"/>
                  <a:ext cx="129276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316560" y="1378440"/>
                <a:ext cx="1305720" cy="2057040"/>
                <a:chOff x="6316560" y="1378440"/>
                <a:chExt cx="1305720" cy="20570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387840" y="1378440"/>
                  <a:ext cx="116316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316560" y="1378440"/>
                  <a:ext cx="130572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622640" y="1378440"/>
                <a:ext cx="1512360" cy="2057040"/>
                <a:chOff x="7622640" y="1378440"/>
                <a:chExt cx="1512360" cy="2057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693920" y="1378440"/>
                  <a:ext cx="1369080" cy="20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22640" y="1378440"/>
                  <a:ext cx="1512360" cy="20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200" y="3435840"/>
                <a:ext cx="1193400" cy="1508400"/>
                <a:chOff x="7200" y="3435840"/>
                <a:chExt cx="1193400" cy="1508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8120" y="3435840"/>
                  <a:ext cx="105156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ríd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200" y="3435840"/>
                  <a:ext cx="119340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200960" y="3435840"/>
                <a:ext cx="1514520" cy="1508400"/>
                <a:chOff x="1200960" y="3435840"/>
                <a:chExt cx="1514520" cy="1508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272240" y="3435840"/>
                  <a:ext cx="137124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itraje y adjud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200960" y="3435840"/>
                  <a:ext cx="151452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716200" y="3435840"/>
                <a:ext cx="954360" cy="1508400"/>
                <a:chOff x="2716200" y="3435840"/>
                <a:chExt cx="954360" cy="15084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787120" y="3435840"/>
                  <a:ext cx="81180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rech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716200" y="3435840"/>
                  <a:ext cx="95436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671280" y="3435840"/>
                <a:ext cx="1351080" cy="1508400"/>
                <a:chOff x="3671280" y="3435840"/>
                <a:chExt cx="1351080" cy="15084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742200" y="3435840"/>
                  <a:ext cx="120888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dic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671280" y="3435840"/>
                  <a:ext cx="135108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023080" y="3435840"/>
                <a:ext cx="1292760" cy="1508400"/>
                <a:chOff x="5023080" y="3435840"/>
                <a:chExt cx="1292760" cy="15084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94360" y="3435840"/>
                  <a:ext cx="115020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fragment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023080" y="3435840"/>
                  <a:ext cx="129276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316560" y="3435840"/>
                <a:ext cx="1305720" cy="1508400"/>
                <a:chOff x="6316560" y="3435840"/>
                <a:chExt cx="1305720" cy="15084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387840" y="3435840"/>
                  <a:ext cx="116316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limit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316560" y="3435840"/>
                  <a:ext cx="130572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622640" y="3435840"/>
                <a:ext cx="1512360" cy="1508400"/>
                <a:chOff x="7622640" y="3435840"/>
                <a:chExt cx="1512360" cy="15084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693920" y="3435840"/>
                  <a:ext cx="1369080" cy="15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recho natural ley más elev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22640" y="3435840"/>
                  <a:ext cx="1512360" cy="15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0" y="1371600"/>
              <a:ext cx="9143640" cy="358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40" y="4802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284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-1440" y="-5538960"/>
            <a:ext cx="5889600" cy="3389400"/>
            <a:chOff x="-1440" y="-5538960"/>
            <a:chExt cx="5889600" cy="3389400"/>
          </a:xfrm>
        </p:grpSpPr>
        <p:grpSp>
          <p:nvGrpSpPr>
            <p:cNvPr id="331" name=""/>
            <p:cNvGrpSpPr/>
            <p:nvPr/>
          </p:nvGrpSpPr>
          <p:grpSpPr>
            <a:xfrm>
              <a:off x="3240" y="-5534280"/>
              <a:ext cx="5880240" cy="3380040"/>
              <a:chOff x="3240" y="-5534280"/>
              <a:chExt cx="5880240" cy="338004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3240" y="-5534280"/>
                <a:ext cx="998640" cy="1370160"/>
                <a:chOff x="3240" y="-5534280"/>
                <a:chExt cx="998640" cy="13701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7520" y="-5534280"/>
                  <a:ext cx="909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240" y="-5534280"/>
                  <a:ext cx="9986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001880" y="-5534280"/>
                <a:ext cx="1055520" cy="1370160"/>
                <a:chOff x="1001880" y="-5534280"/>
                <a:chExt cx="1055520" cy="13701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046160" y="-5534280"/>
                  <a:ext cx="9669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001880" y="-5534280"/>
                  <a:ext cx="10555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057400" y="-5534280"/>
                <a:ext cx="480960" cy="1370160"/>
                <a:chOff x="2057400" y="-5534280"/>
                <a:chExt cx="480960" cy="13701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102040" y="-5534280"/>
                  <a:ext cx="3920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57400" y="-5534280"/>
                  <a:ext cx="4809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538360" y="-5534280"/>
                <a:ext cx="846360" cy="1370160"/>
                <a:chOff x="2538360" y="-5534280"/>
                <a:chExt cx="846360" cy="13701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583000" y="-5534280"/>
                  <a:ext cx="7570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38360" y="-5534280"/>
                  <a:ext cx="8463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384720" y="-5534280"/>
                <a:ext cx="736560" cy="1370160"/>
                <a:chOff x="3384720" y="-5534280"/>
                <a:chExt cx="736560" cy="13701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429000" y="-5534280"/>
                  <a:ext cx="647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384720" y="-5534280"/>
                  <a:ext cx="736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121280" y="-5534280"/>
                <a:ext cx="815760" cy="1370160"/>
                <a:chOff x="4121280" y="-5534280"/>
                <a:chExt cx="815760" cy="13701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165560" y="-5534280"/>
                  <a:ext cx="727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121280" y="-5534280"/>
                  <a:ext cx="815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937040" y="-5534280"/>
                <a:ext cx="946440" cy="1370160"/>
                <a:chOff x="4937040" y="-5534280"/>
                <a:chExt cx="946440" cy="13701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981680" y="-5534280"/>
                  <a:ext cx="857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37040" y="-5534280"/>
                  <a:ext cx="9464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240" y="-4164120"/>
                <a:ext cx="998640" cy="1004760"/>
                <a:chOff x="3240" y="-4164120"/>
                <a:chExt cx="998640" cy="1004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7520" y="-4164120"/>
                  <a:ext cx="90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Representa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240" y="-4164120"/>
                  <a:ext cx="9986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001880" y="-4164120"/>
                <a:ext cx="1055520" cy="1004760"/>
                <a:chOff x="1001880" y="-4164120"/>
                <a:chExt cx="1055520" cy="10047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046160" y="-4164120"/>
                  <a:ext cx="9669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01880" y="-4164120"/>
                  <a:ext cx="10555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057400" y="-4164120"/>
                <a:ext cx="480960" cy="1004760"/>
                <a:chOff x="2057400" y="-4164120"/>
                <a:chExt cx="480960" cy="10047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102040" y="-4164120"/>
                  <a:ext cx="392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057400" y="-4164120"/>
                  <a:ext cx="4809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2538360" y="-4164120"/>
                <a:ext cx="846360" cy="1004760"/>
                <a:chOff x="2538360" y="-4164120"/>
                <a:chExt cx="846360" cy="10047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2583000" y="-4164120"/>
                  <a:ext cx="7570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538360" y="-4164120"/>
                  <a:ext cx="8463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3384720" y="-4164120"/>
                <a:ext cx="736560" cy="1004760"/>
                <a:chOff x="3384720" y="-4164120"/>
                <a:chExt cx="736560" cy="10047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429000" y="-4164120"/>
                  <a:ext cx="647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384720" y="-4164120"/>
                  <a:ext cx="736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4121280" y="-4164120"/>
                <a:ext cx="815760" cy="1004760"/>
                <a:chOff x="4121280" y="-4164120"/>
                <a:chExt cx="815760" cy="10047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165560" y="-4164120"/>
                  <a:ext cx="7272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121280" y="-4164120"/>
                  <a:ext cx="815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937040" y="-4164120"/>
                <a:ext cx="946440" cy="1004760"/>
                <a:chOff x="4937040" y="-4164120"/>
                <a:chExt cx="946440" cy="10047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981680" y="-4164120"/>
                  <a:ext cx="8571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937040" y="-4164120"/>
                  <a:ext cx="9464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240" y="-3159360"/>
                <a:ext cx="998640" cy="1005120"/>
                <a:chOff x="3240" y="-3159360"/>
                <a:chExt cx="998640" cy="1005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7520" y="-3159360"/>
                  <a:ext cx="9097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autoriz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240" y="-3159360"/>
                  <a:ext cx="9986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001880" y="-3159360"/>
                <a:ext cx="1055520" cy="1005120"/>
                <a:chOff x="1001880" y="-3159360"/>
                <a:chExt cx="1055520" cy="1005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046160" y="-3159360"/>
                  <a:ext cx="9669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toridad (poder/sabidurí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001880" y="-3159360"/>
                  <a:ext cx="105552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057400" y="-3159360"/>
                <a:ext cx="480960" cy="1005120"/>
                <a:chOff x="2057400" y="-3159360"/>
                <a:chExt cx="480960" cy="1005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102040" y="-3159360"/>
                  <a:ext cx="3920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57400" y="-3159360"/>
                  <a:ext cx="4809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38360" y="-3159360"/>
                <a:ext cx="846360" cy="1005120"/>
                <a:chOff x="2538360" y="-3159360"/>
                <a:chExt cx="846360" cy="1005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83000" y="-3159360"/>
                  <a:ext cx="7570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jecu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38360" y="-3159360"/>
                  <a:ext cx="8463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384720" y="-3159360"/>
                <a:ext cx="736560" cy="1005120"/>
                <a:chOff x="3384720" y="-3159360"/>
                <a:chExt cx="736560" cy="1005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429000" y="-3159360"/>
                  <a:ext cx="647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384720" y="-3159360"/>
                  <a:ext cx="7365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4121280" y="-3159360"/>
                <a:ext cx="815760" cy="1005120"/>
                <a:chOff x="4121280" y="-3159360"/>
                <a:chExt cx="815760" cy="10051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165560" y="-3159360"/>
                  <a:ext cx="727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121280" y="-3159360"/>
                  <a:ext cx="815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937040" y="-3159360"/>
                <a:ext cx="946440" cy="1005120"/>
                <a:chOff x="4937040" y="-3159360"/>
                <a:chExt cx="946440" cy="10051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981680" y="-3159360"/>
                  <a:ext cx="8571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bleza obliga sabidur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937040" y="-3159360"/>
                  <a:ext cx="9464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>
              <a:off x="-1440" y="-5538960"/>
              <a:ext cx="5889600" cy="338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52280" y="1828800"/>
            <a:ext cx="8839080" cy="2932200"/>
            <a:chOff x="152280" y="1828800"/>
            <a:chExt cx="8839080" cy="2932200"/>
          </a:xfrm>
        </p:grpSpPr>
        <p:grpSp>
          <p:nvGrpSpPr>
            <p:cNvPr id="399" name=""/>
            <p:cNvGrpSpPr/>
            <p:nvPr/>
          </p:nvGrpSpPr>
          <p:grpSpPr>
            <a:xfrm>
              <a:off x="159480" y="1833840"/>
              <a:ext cx="8823600" cy="2922480"/>
              <a:chOff x="159480" y="1833840"/>
              <a:chExt cx="8823600" cy="292248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159480" y="1833840"/>
                <a:ext cx="1284120" cy="1369800"/>
                <a:chOff x="159480" y="1833840"/>
                <a:chExt cx="1284120" cy="13698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27880" y="1833840"/>
                  <a:ext cx="114624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480" y="1833840"/>
                  <a:ext cx="128412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443960" y="1833840"/>
                <a:ext cx="1633320" cy="1369800"/>
                <a:chOff x="1443960" y="1833840"/>
                <a:chExt cx="1633320" cy="13698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512360" y="1833840"/>
                  <a:ext cx="149544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443960" y="1833840"/>
                  <a:ext cx="163332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078000" y="1833840"/>
                <a:ext cx="732600" cy="1369800"/>
                <a:chOff x="3078000" y="1833840"/>
                <a:chExt cx="732600" cy="13698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146400" y="1833840"/>
                  <a:ext cx="59544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078000" y="1833840"/>
                  <a:ext cx="7326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11320" y="1833840"/>
                <a:ext cx="1308600" cy="1369800"/>
                <a:chOff x="3811320" y="1833840"/>
                <a:chExt cx="1308600" cy="13698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880440" y="1833840"/>
                  <a:ext cx="11707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11320" y="1833840"/>
                  <a:ext cx="13086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120280" y="1833840"/>
                <a:ext cx="1139040" cy="1369800"/>
                <a:chOff x="5120280" y="1833840"/>
                <a:chExt cx="1139040" cy="13698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188680" y="1833840"/>
                  <a:ext cx="100116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120280" y="1833840"/>
                  <a:ext cx="113904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60040" y="1833840"/>
                <a:ext cx="1261800" cy="1369800"/>
                <a:chOff x="6260040" y="1833840"/>
                <a:chExt cx="1261800" cy="1369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28440" y="1833840"/>
                  <a:ext cx="11239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60040" y="1833840"/>
                  <a:ext cx="12618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522200" y="1833840"/>
                <a:ext cx="1460880" cy="1369800"/>
                <a:chOff x="7522200" y="1833840"/>
                <a:chExt cx="1460880" cy="13698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590600" y="1833840"/>
                  <a:ext cx="13237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522200" y="1833840"/>
                  <a:ext cx="146088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59480" y="3203640"/>
                <a:ext cx="1284120" cy="1552680"/>
                <a:chOff x="159480" y="3203640"/>
                <a:chExt cx="1284120" cy="15526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27880" y="3203640"/>
                  <a:ext cx="114624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ura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59480" y="3203640"/>
                  <a:ext cx="12841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443960" y="3203640"/>
                <a:ext cx="1633320" cy="1552680"/>
                <a:chOff x="1443960" y="3203640"/>
                <a:chExt cx="1633320" cy="1552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512360" y="3203640"/>
                  <a:ext cx="149544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gociación e intercambi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443960" y="3203640"/>
                  <a:ext cx="163332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078000" y="3203640"/>
                <a:ext cx="732600" cy="1552680"/>
                <a:chOff x="3078000" y="3203640"/>
                <a:chExt cx="732600" cy="15526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146400" y="3203640"/>
                  <a:ext cx="59544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bert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078000" y="3203640"/>
                  <a:ext cx="73260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11320" y="3203640"/>
                <a:ext cx="1308600" cy="1552680"/>
                <a:chOff x="3811320" y="3203640"/>
                <a:chExt cx="1308600" cy="15526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880440" y="3203640"/>
                  <a:ext cx="11707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isl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11320" y="3203640"/>
                  <a:ext cx="130860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120280" y="3203640"/>
                <a:ext cx="1139040" cy="1552680"/>
                <a:chOff x="5120280" y="3203640"/>
                <a:chExt cx="1139040" cy="15526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188680" y="3203640"/>
                  <a:ext cx="100116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fragment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120280" y="3203640"/>
                  <a:ext cx="113904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260040" y="3203640"/>
                <a:ext cx="1261800" cy="1552680"/>
                <a:chOff x="6260040" y="3203640"/>
                <a:chExt cx="1261800" cy="15526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328440" y="3203640"/>
                  <a:ext cx="11239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260040" y="3203640"/>
                  <a:ext cx="126180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7522200" y="3203640"/>
                <a:ext cx="1460880" cy="1552680"/>
                <a:chOff x="7522200" y="3203640"/>
                <a:chExt cx="1460880" cy="15526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590600" y="3203640"/>
                  <a:ext cx="1323720" cy="15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no invisible igualdad natural leyes del merca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522200" y="3203640"/>
                  <a:ext cx="1460880" cy="15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152280" y="1828800"/>
              <a:ext cx="8839080" cy="293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240" y="4802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446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9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240" y="-65390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ímenes  democráticos (tipos ide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440" y="-5538960"/>
            <a:ext cx="5889600" cy="3389400"/>
            <a:chOff x="-1440" y="-5538960"/>
            <a:chExt cx="5889600" cy="3389400"/>
          </a:xfrm>
        </p:grpSpPr>
        <p:grpSp>
          <p:nvGrpSpPr>
            <p:cNvPr id="493" name=""/>
            <p:cNvGrpSpPr/>
            <p:nvPr/>
          </p:nvGrpSpPr>
          <p:grpSpPr>
            <a:xfrm>
              <a:off x="3240" y="-5534280"/>
              <a:ext cx="5880240" cy="3380040"/>
              <a:chOff x="3240" y="-5534280"/>
              <a:chExt cx="5880240" cy="338004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3240" y="-5534280"/>
                <a:ext cx="998640" cy="1370160"/>
                <a:chOff x="3240" y="-5534280"/>
                <a:chExt cx="998640" cy="1370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7520" y="-5534280"/>
                  <a:ext cx="909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40" y="-5534280"/>
                  <a:ext cx="9986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1001880" y="-5534280"/>
                <a:ext cx="1055520" cy="1370160"/>
                <a:chOff x="1001880" y="-5534280"/>
                <a:chExt cx="1055520" cy="1370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046160" y="-5534280"/>
                  <a:ext cx="9669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001880" y="-5534280"/>
                  <a:ext cx="10555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057400" y="-5534280"/>
                <a:ext cx="480960" cy="1370160"/>
                <a:chOff x="2057400" y="-5534280"/>
                <a:chExt cx="480960" cy="1370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102040" y="-5534280"/>
                  <a:ext cx="3920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057400" y="-5534280"/>
                  <a:ext cx="4809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538360" y="-5534280"/>
                <a:ext cx="846360" cy="1370160"/>
                <a:chOff x="2538360" y="-5534280"/>
                <a:chExt cx="846360" cy="1370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583000" y="-5534280"/>
                  <a:ext cx="7570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38360" y="-5534280"/>
                  <a:ext cx="8463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384720" y="-5534280"/>
                <a:ext cx="736560" cy="1370160"/>
                <a:chOff x="3384720" y="-5534280"/>
                <a:chExt cx="736560" cy="1370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429000" y="-5534280"/>
                  <a:ext cx="647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84720" y="-5534280"/>
                  <a:ext cx="736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4121280" y="-5534280"/>
                <a:ext cx="815760" cy="1370160"/>
                <a:chOff x="4121280" y="-5534280"/>
                <a:chExt cx="815760" cy="1370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165560" y="-5534280"/>
                  <a:ext cx="727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21280" y="-5534280"/>
                  <a:ext cx="8157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937040" y="-5534280"/>
                <a:ext cx="946440" cy="1370160"/>
                <a:chOff x="4937040" y="-5534280"/>
                <a:chExt cx="946440" cy="1370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981680" y="-5534280"/>
                  <a:ext cx="857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937040" y="-5534280"/>
                  <a:ext cx="9464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3240" y="-4164120"/>
                <a:ext cx="998640" cy="1004760"/>
                <a:chOff x="3240" y="-4164120"/>
                <a:chExt cx="998640" cy="1004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7520" y="-4164120"/>
                  <a:ext cx="90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Representa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240" y="-4164120"/>
                  <a:ext cx="9986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1001880" y="-4164120"/>
                <a:ext cx="1055520" cy="1004760"/>
                <a:chOff x="1001880" y="-4164120"/>
                <a:chExt cx="1055520" cy="10047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046160" y="-4164120"/>
                  <a:ext cx="9669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01880" y="-4164120"/>
                  <a:ext cx="10555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057400" y="-4164120"/>
                <a:ext cx="480960" cy="1004760"/>
                <a:chOff x="2057400" y="-4164120"/>
                <a:chExt cx="480960" cy="1004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102040" y="-4164120"/>
                  <a:ext cx="392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057400" y="-4164120"/>
                  <a:ext cx="4809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538360" y="-4164120"/>
                <a:ext cx="846360" cy="1004760"/>
                <a:chOff x="2538360" y="-4164120"/>
                <a:chExt cx="846360" cy="10047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583000" y="-4164120"/>
                  <a:ext cx="7570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8360" y="-4164120"/>
                  <a:ext cx="8463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3384720" y="-4164120"/>
                <a:ext cx="736560" cy="1004760"/>
                <a:chOff x="3384720" y="-4164120"/>
                <a:chExt cx="736560" cy="10047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3429000" y="-4164120"/>
                  <a:ext cx="647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84720" y="-4164120"/>
                  <a:ext cx="736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121280" y="-4164120"/>
                <a:ext cx="815760" cy="1004760"/>
                <a:chOff x="4121280" y="-4164120"/>
                <a:chExt cx="815760" cy="10047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165560" y="-4164120"/>
                  <a:ext cx="7272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121280" y="-4164120"/>
                  <a:ext cx="8157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937040" y="-4164120"/>
                <a:ext cx="946440" cy="1004760"/>
                <a:chOff x="4937040" y="-4164120"/>
                <a:chExt cx="946440" cy="1004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981680" y="-4164120"/>
                  <a:ext cx="8571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37040" y="-4164120"/>
                  <a:ext cx="9464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240" y="-3159360"/>
                <a:ext cx="998640" cy="1005120"/>
                <a:chOff x="3240" y="-3159360"/>
                <a:chExt cx="998640" cy="10051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47520" y="-3159360"/>
                  <a:ext cx="9097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autoriz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240" y="-3159360"/>
                  <a:ext cx="9986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001880" y="-3159360"/>
                <a:ext cx="1055520" cy="1005120"/>
                <a:chOff x="1001880" y="-3159360"/>
                <a:chExt cx="1055520" cy="10051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046160" y="-3159360"/>
                  <a:ext cx="9669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toridad (poder/sabidurí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001880" y="-3159360"/>
                  <a:ext cx="105552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2057400" y="-3159360"/>
                <a:ext cx="480960" cy="1005120"/>
                <a:chOff x="2057400" y="-3159360"/>
                <a:chExt cx="480960" cy="1005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102040" y="-3159360"/>
                  <a:ext cx="3920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057400" y="-3159360"/>
                  <a:ext cx="4809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538360" y="-3159360"/>
                <a:ext cx="846360" cy="1005120"/>
                <a:chOff x="2538360" y="-3159360"/>
                <a:chExt cx="846360" cy="10051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583000" y="-3159360"/>
                  <a:ext cx="7570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jecu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538360" y="-3159360"/>
                  <a:ext cx="8463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384720" y="-3159360"/>
                <a:ext cx="736560" cy="1005120"/>
                <a:chOff x="3384720" y="-3159360"/>
                <a:chExt cx="736560" cy="10051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429000" y="-3159360"/>
                  <a:ext cx="647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erente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384720" y="-3159360"/>
                  <a:ext cx="7365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4121280" y="-3159360"/>
                <a:ext cx="815760" cy="1005120"/>
                <a:chOff x="4121280" y="-3159360"/>
                <a:chExt cx="815760" cy="10051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4165560" y="-3159360"/>
                  <a:ext cx="727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121280" y="-3159360"/>
                  <a:ext cx="81576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4937040" y="-3159360"/>
                <a:ext cx="946440" cy="1005120"/>
                <a:chOff x="4937040" y="-3159360"/>
                <a:chExt cx="946440" cy="10051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81680" y="-3159360"/>
                  <a:ext cx="8571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bleza obliga sabidur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937040" y="-3159360"/>
                  <a:ext cx="9464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7" name=""/>
            <p:cNvSpPr/>
            <p:nvPr/>
          </p:nvSpPr>
          <p:spPr>
            <a:xfrm>
              <a:off x="-1440" y="-5538960"/>
              <a:ext cx="5889600" cy="338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40" y="-2149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40" y="10526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04920" y="1905120"/>
            <a:ext cx="8838720" cy="3571920"/>
            <a:chOff x="304920" y="1905120"/>
            <a:chExt cx="8838720" cy="3571920"/>
          </a:xfrm>
        </p:grpSpPr>
        <p:grpSp>
          <p:nvGrpSpPr>
            <p:cNvPr id="561" name=""/>
            <p:cNvGrpSpPr/>
            <p:nvPr/>
          </p:nvGrpSpPr>
          <p:grpSpPr>
            <a:xfrm>
              <a:off x="312120" y="1909800"/>
              <a:ext cx="8823240" cy="3562560"/>
              <a:chOff x="312120" y="1909800"/>
              <a:chExt cx="8823240" cy="356256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312120" y="1909800"/>
                <a:ext cx="1284120" cy="1370160"/>
                <a:chOff x="312120" y="1909800"/>
                <a:chExt cx="1284120" cy="13701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80520" y="1909800"/>
                  <a:ext cx="11462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2120" y="1909800"/>
                  <a:ext cx="1284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1596600" y="1909800"/>
                <a:ext cx="1633320" cy="1370160"/>
                <a:chOff x="1596600" y="1909800"/>
                <a:chExt cx="1633320" cy="13701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665000" y="1909800"/>
                  <a:ext cx="14954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596600" y="1909800"/>
                  <a:ext cx="1633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3230280" y="1909800"/>
                <a:ext cx="732600" cy="1370160"/>
                <a:chOff x="3230280" y="1909800"/>
                <a:chExt cx="732600" cy="137016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3298680" y="1909800"/>
                  <a:ext cx="5954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30280" y="1909800"/>
                  <a:ext cx="7326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3963600" y="1909800"/>
                <a:ext cx="1308600" cy="1370160"/>
                <a:chOff x="3963600" y="1909800"/>
                <a:chExt cx="1308600" cy="13701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032720" y="1909800"/>
                  <a:ext cx="1170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963600" y="1909800"/>
                  <a:ext cx="13086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5272920" y="1909800"/>
                <a:ext cx="1139040" cy="1370160"/>
                <a:chOff x="5272920" y="1909800"/>
                <a:chExt cx="1139040" cy="13701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5341320" y="1909800"/>
                  <a:ext cx="1001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272920" y="1909800"/>
                  <a:ext cx="1139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6412320" y="1909800"/>
                <a:ext cx="1261800" cy="1370160"/>
                <a:chOff x="6412320" y="1909800"/>
                <a:chExt cx="1261800" cy="13701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480720" y="1909800"/>
                  <a:ext cx="11239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12320" y="1909800"/>
                  <a:ext cx="126180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7674480" y="1909800"/>
                <a:ext cx="1460880" cy="1370160"/>
                <a:chOff x="7674480" y="1909800"/>
                <a:chExt cx="1460880" cy="13701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7742880" y="1909800"/>
                  <a:ext cx="132372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674480" y="1909800"/>
                  <a:ext cx="14608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312120" y="3279960"/>
                <a:ext cx="1284120" cy="1004760"/>
                <a:chOff x="312120" y="3279960"/>
                <a:chExt cx="1284120" cy="10047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80520" y="3279960"/>
                  <a:ext cx="11462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mocracia Direc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12120" y="3279960"/>
                  <a:ext cx="12841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1596600" y="3279960"/>
                <a:ext cx="1633320" cy="1004760"/>
                <a:chOff x="1596600" y="3279960"/>
                <a:chExt cx="1633320" cy="10047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665000" y="3279960"/>
                  <a:ext cx="1495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96600" y="3279960"/>
                  <a:ext cx="16333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230280" y="3279960"/>
                <a:ext cx="732600" cy="1004760"/>
                <a:chOff x="3230280" y="3279960"/>
                <a:chExt cx="732600" cy="10047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3298680" y="3279960"/>
                  <a:ext cx="595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30280" y="3279960"/>
                  <a:ext cx="7326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963600" y="3279960"/>
                <a:ext cx="1308600" cy="1004760"/>
                <a:chOff x="3963600" y="3279960"/>
                <a:chExt cx="1308600" cy="10047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032720" y="3279960"/>
                  <a:ext cx="1170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963600" y="3279960"/>
                  <a:ext cx="13086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5272920" y="3279960"/>
                <a:ext cx="1139040" cy="1004760"/>
                <a:chOff x="5272920" y="3279960"/>
                <a:chExt cx="1139040" cy="10047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341320" y="3279960"/>
                  <a:ext cx="10011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272920" y="3279960"/>
                  <a:ext cx="11390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6412320" y="3279960"/>
                <a:ext cx="1261800" cy="1004760"/>
                <a:chOff x="6412320" y="3279960"/>
                <a:chExt cx="1261800" cy="10047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6480720" y="3279960"/>
                  <a:ext cx="11239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412320" y="3279960"/>
                  <a:ext cx="1261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7674480" y="3279960"/>
                <a:ext cx="1460880" cy="1004760"/>
                <a:chOff x="7674480" y="3279960"/>
                <a:chExt cx="1460880" cy="1004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7742880" y="3279960"/>
                  <a:ext cx="1323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674480" y="3279960"/>
                  <a:ext cx="14608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12120" y="4284720"/>
                <a:ext cx="1284120" cy="1187640"/>
                <a:chOff x="312120" y="4284720"/>
                <a:chExt cx="1284120" cy="11876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80520" y="4284720"/>
                  <a:ext cx="11462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a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12120" y="4284720"/>
                  <a:ext cx="128412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1596600" y="4284720"/>
                <a:ext cx="1633320" cy="1187640"/>
                <a:chOff x="1596600" y="4284720"/>
                <a:chExt cx="1633320" cy="118764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1665000" y="4284720"/>
                  <a:ext cx="14954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sens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596600" y="4284720"/>
                  <a:ext cx="163332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3230280" y="4284720"/>
                <a:ext cx="732600" cy="1187640"/>
                <a:chOff x="3230280" y="4284720"/>
                <a:chExt cx="732600" cy="11876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298680" y="4284720"/>
                  <a:ext cx="5954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230280" y="4284720"/>
                  <a:ext cx="7326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963600" y="4284720"/>
                <a:ext cx="1308600" cy="1187640"/>
                <a:chOff x="3963600" y="4284720"/>
                <a:chExt cx="1308600" cy="11876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032720" y="4284720"/>
                  <a:ext cx="11707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mból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963600" y="4284720"/>
                  <a:ext cx="13086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272920" y="4284720"/>
                <a:ext cx="1139040" cy="1187640"/>
                <a:chOff x="5272920" y="4284720"/>
                <a:chExt cx="1139040" cy="11876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341320" y="4284720"/>
                  <a:ext cx="10011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uni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272920" y="4284720"/>
                  <a:ext cx="11390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6412320" y="4284720"/>
                <a:ext cx="1261800" cy="1187640"/>
                <a:chOff x="6412320" y="4284720"/>
                <a:chExt cx="1261800" cy="11876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6480720" y="4284720"/>
                  <a:ext cx="11239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412320" y="4284720"/>
                  <a:ext cx="12618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7674480" y="4284720"/>
                <a:ext cx="1460880" cy="1187640"/>
                <a:chOff x="7674480" y="4284720"/>
                <a:chExt cx="1460880" cy="118764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742880" y="4284720"/>
                  <a:ext cx="13237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colectividad la voluntad gene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674480" y="4284720"/>
                  <a:ext cx="14608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5" name=""/>
            <p:cNvSpPr/>
            <p:nvPr/>
          </p:nvSpPr>
          <p:spPr>
            <a:xfrm>
              <a:off x="304920" y="1905120"/>
              <a:ext cx="8838720" cy="3571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240" y="9374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-1440" y="10191600"/>
            <a:ext cx="5702040" cy="2567160"/>
            <a:chOff x="-1440" y="10191600"/>
            <a:chExt cx="5702040" cy="2567160"/>
          </a:xfrm>
        </p:grpSpPr>
        <p:grpSp>
          <p:nvGrpSpPr>
            <p:cNvPr id="628" name=""/>
            <p:cNvGrpSpPr/>
            <p:nvPr/>
          </p:nvGrpSpPr>
          <p:grpSpPr>
            <a:xfrm>
              <a:off x="3240" y="10196280"/>
              <a:ext cx="5692680" cy="2557440"/>
              <a:chOff x="3240" y="10196280"/>
              <a:chExt cx="5692680" cy="255744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3240" y="10196280"/>
                <a:ext cx="828720" cy="1370160"/>
                <a:chOff x="3240" y="10196280"/>
                <a:chExt cx="828720" cy="1370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47520" y="10196280"/>
                  <a:ext cx="7398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40" y="10196280"/>
                  <a:ext cx="8287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831960" y="10196280"/>
                <a:ext cx="1054080" cy="1370160"/>
                <a:chOff x="831960" y="10196280"/>
                <a:chExt cx="1054080" cy="1370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76240" y="10196280"/>
                  <a:ext cx="96516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31960" y="10196280"/>
                  <a:ext cx="105408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1886040" y="10196280"/>
                <a:ext cx="473040" cy="1370160"/>
                <a:chOff x="1886040" y="10196280"/>
                <a:chExt cx="473040" cy="1370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930320" y="10196280"/>
                  <a:ext cx="3844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886040" y="10196280"/>
                  <a:ext cx="4730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359080" y="10196280"/>
                <a:ext cx="844560" cy="1370160"/>
                <a:chOff x="2359080" y="10196280"/>
                <a:chExt cx="844560" cy="1370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403720" y="10196280"/>
                  <a:ext cx="75564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359080" y="10196280"/>
                  <a:ext cx="84456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203640" y="10196280"/>
                <a:ext cx="735120" cy="1370160"/>
                <a:chOff x="3203640" y="10196280"/>
                <a:chExt cx="735120" cy="1370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7920" y="10196280"/>
                  <a:ext cx="6462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3640" y="10196280"/>
                  <a:ext cx="7351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3938760" y="10196280"/>
                <a:ext cx="814320" cy="1370160"/>
                <a:chOff x="3938760" y="10196280"/>
                <a:chExt cx="814320" cy="1370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983040" y="10196280"/>
                  <a:ext cx="72540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38760" y="10196280"/>
                  <a:ext cx="81432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4753080" y="10196280"/>
                <a:ext cx="942840" cy="1370160"/>
                <a:chOff x="4753080" y="10196280"/>
                <a:chExt cx="942840" cy="1370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797360" y="10196280"/>
                  <a:ext cx="854280" cy="13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753080" y="10196280"/>
                  <a:ext cx="942840" cy="13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3240" y="11566440"/>
                <a:ext cx="828720" cy="1187280"/>
                <a:chOff x="3240" y="11566440"/>
                <a:chExt cx="828720" cy="11872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47520" y="11566440"/>
                  <a:ext cx="7398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240" y="11566440"/>
                  <a:ext cx="8287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831960" y="11566440"/>
                <a:ext cx="1054080" cy="1187280"/>
                <a:chOff x="831960" y="11566440"/>
                <a:chExt cx="1054080" cy="1187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876240" y="11566440"/>
                  <a:ext cx="965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31960" y="11566440"/>
                  <a:ext cx="10540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1886040" y="11566440"/>
                <a:ext cx="473040" cy="1187280"/>
                <a:chOff x="1886040" y="11566440"/>
                <a:chExt cx="473040" cy="118728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1930320" y="11566440"/>
                  <a:ext cx="3844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886040" y="11566440"/>
                  <a:ext cx="4730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359080" y="11566440"/>
                <a:ext cx="844560" cy="1187280"/>
                <a:chOff x="2359080" y="11566440"/>
                <a:chExt cx="844560" cy="1187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403720" y="11566440"/>
                  <a:ext cx="755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359080" y="11566440"/>
                  <a:ext cx="8445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3203640" y="11566440"/>
                <a:ext cx="735120" cy="1187280"/>
                <a:chOff x="3203640" y="11566440"/>
                <a:chExt cx="735120" cy="11872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3247920" y="11566440"/>
                  <a:ext cx="646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203640" y="11566440"/>
                  <a:ext cx="735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3938760" y="11566440"/>
                <a:ext cx="814320" cy="1187280"/>
                <a:chOff x="3938760" y="11566440"/>
                <a:chExt cx="814320" cy="11872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983040" y="11566440"/>
                  <a:ext cx="7254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938760" y="11566440"/>
                  <a:ext cx="814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753080" y="11566440"/>
                <a:ext cx="942840" cy="1187280"/>
                <a:chOff x="4753080" y="11566440"/>
                <a:chExt cx="942840" cy="11872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4797360" y="11566440"/>
                  <a:ext cx="854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3080" y="11566440"/>
                  <a:ext cx="9428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>
              <a:off x="-1440" y="10191600"/>
              <a:ext cx="5702040" cy="2567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240" y="127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democracia fue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28600" y="2209680"/>
            <a:ext cx="8915040" cy="3276360"/>
            <a:chOff x="228600" y="2209680"/>
            <a:chExt cx="8915040" cy="3276360"/>
          </a:xfrm>
        </p:grpSpPr>
        <p:grpSp>
          <p:nvGrpSpPr>
            <p:cNvPr id="675" name=""/>
            <p:cNvGrpSpPr/>
            <p:nvPr/>
          </p:nvGrpSpPr>
          <p:grpSpPr>
            <a:xfrm>
              <a:off x="235800" y="2215440"/>
              <a:ext cx="8899200" cy="3263400"/>
              <a:chOff x="235800" y="2215440"/>
              <a:chExt cx="8899200" cy="326340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235800" y="2215440"/>
                <a:ext cx="1295280" cy="1748160"/>
                <a:chOff x="235800" y="2215440"/>
                <a:chExt cx="1295280" cy="17481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04920" y="2215440"/>
                  <a:ext cx="115632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l Régim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35800" y="2215440"/>
                  <a:ext cx="129528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31440" y="2215440"/>
                <a:ext cx="1647360" cy="1748160"/>
                <a:chOff x="1531440" y="2215440"/>
                <a:chExt cx="1647360" cy="17481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1600560" y="2215440"/>
                  <a:ext cx="150840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Polít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531440" y="2215440"/>
                  <a:ext cx="164736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3179160" y="2215440"/>
                <a:ext cx="739080" cy="1748160"/>
                <a:chOff x="3179160" y="2215440"/>
                <a:chExt cx="739080" cy="17481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3248280" y="2215440"/>
                  <a:ext cx="60084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79160" y="2215440"/>
                  <a:ext cx="73908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918960" y="2215440"/>
                <a:ext cx="1319760" cy="1748160"/>
                <a:chOff x="3918960" y="2215440"/>
                <a:chExt cx="1319760" cy="17481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988440" y="2215440"/>
                  <a:ext cx="118080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sgo instituci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918960" y="2215440"/>
                  <a:ext cx="131976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5239080" y="2215440"/>
                <a:ext cx="1148760" cy="1748160"/>
                <a:chOff x="5239080" y="2215440"/>
                <a:chExt cx="1148760" cy="17481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5308200" y="2215440"/>
                  <a:ext cx="100980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ciudada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239080" y="2215440"/>
                  <a:ext cx="114876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8560" y="2215440"/>
                <a:ext cx="1272600" cy="1748160"/>
                <a:chOff x="6388560" y="2215440"/>
                <a:chExt cx="1272600" cy="17481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457680" y="2215440"/>
                  <a:ext cx="113364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ura del gobi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8560" y="2215440"/>
                  <a:ext cx="127260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7661520" y="2215440"/>
                <a:ext cx="1473480" cy="1748160"/>
                <a:chOff x="7661520" y="2215440"/>
                <a:chExt cx="1473480" cy="174816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7730640" y="2215440"/>
                  <a:ext cx="1334880" cy="174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se independiente” disfrazada de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661520" y="2215440"/>
                  <a:ext cx="1473480" cy="174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235800" y="3963960"/>
                <a:ext cx="1295280" cy="1514880"/>
                <a:chOff x="235800" y="3963960"/>
                <a:chExt cx="1295280" cy="1514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04920" y="3963960"/>
                  <a:ext cx="115632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35800" y="3963960"/>
                  <a:ext cx="129528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1531440" y="3963960"/>
                <a:ext cx="1647360" cy="1514880"/>
                <a:chOff x="1531440" y="3963960"/>
                <a:chExt cx="1647360" cy="151488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600560" y="3963960"/>
                  <a:ext cx="15084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ticip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531440" y="3963960"/>
                  <a:ext cx="164736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3179160" y="3963960"/>
                <a:ext cx="739080" cy="1514880"/>
                <a:chOff x="3179160" y="3963960"/>
                <a:chExt cx="739080" cy="15148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248280" y="3963960"/>
                  <a:ext cx="60084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179160" y="3963960"/>
                  <a:ext cx="73908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3918960" y="3963960"/>
                <a:ext cx="1319760" cy="1514880"/>
                <a:chOff x="3918960" y="3963960"/>
                <a:chExt cx="1319760" cy="15148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3988440" y="3963960"/>
                  <a:ext cx="11808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puli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918960" y="3963960"/>
                  <a:ext cx="131976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239080" y="3963960"/>
                <a:ext cx="1148760" cy="1514880"/>
                <a:chOff x="5239080" y="3963960"/>
                <a:chExt cx="1148760" cy="15148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308200" y="3963960"/>
                  <a:ext cx="100980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iva centraliz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239080" y="3963960"/>
                  <a:ext cx="114876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388560" y="3963960"/>
                <a:ext cx="1272600" cy="1514880"/>
                <a:chOff x="6388560" y="3963960"/>
                <a:chExt cx="1272600" cy="15148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6457680" y="3963960"/>
                  <a:ext cx="113364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entralizada act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88560" y="3963960"/>
                  <a:ext cx="127260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7661520" y="3963960"/>
                <a:ext cx="1473480" cy="1514880"/>
                <a:chOff x="7661520" y="3963960"/>
                <a:chExt cx="1473480" cy="15148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7730640" y="3963960"/>
                  <a:ext cx="133488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no existe base independient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661520" y="3963960"/>
                  <a:ext cx="147348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8" name=""/>
            <p:cNvSpPr/>
            <p:nvPr/>
          </p:nvSpPr>
          <p:spPr>
            <a:xfrm>
              <a:off x="228600" y="2209680"/>
              <a:ext cx="8915040" cy="3276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diagnóstico compromet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, de pronto veo que esta América es simplemente tú y y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 poder sus armas y su testimonio somos tú y yo; Sus crímenes, mentiras, hurtos y defecciones somos tú y y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 Congreso somos tú y yo; sus funcionarios, capitolios, ejércitos y navíos somos tú y yo..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306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diagnóstico patrió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41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 natural y lo artificial somos tú y y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bertad, lengua, poemas, empleos somos tú y 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sado, presente y futuro so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ú y y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eludo parte alguna de mi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i parte alguna de América, buena o mala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Walt Whitma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 ribera del Ontario Azu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Walt Whitman"/>
          <p:cNvPicPr/>
          <p:nvPr/>
        </p:nvPicPr>
        <p:blipFill>
          <a:blip r:embed="rId1"/>
          <a:stretch/>
        </p:blipFill>
        <p:spPr>
          <a:xfrm>
            <a:off x="6248520" y="1981080"/>
            <a:ext cx="266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ero preocupan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327672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participación electoral en Estados Unidos alcanza 50%, incluso en las elecciones presidenciales (casi treinta punto más abajo que el máximo histórico). En 1960 las asociaciones de padres y profesores agrupaban a 12 millones de personas para pasar a 7 millones en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obert Putn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wling al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Richard Nixon, presidente de los Estados Unid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971800" cy="30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867280" y="457200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posición neolib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el dominio de la política y la universalidad, donde votamos, pagamos impuestos, libramos guerras, prestamos servicios judiciales, cumplimos nuestras obligaciones cívicas y solicitamos una serie de servicios basados en un concepto de justicia. El ámbito privado se convierte en el lugar donde se lleva a cabo todo lo demás: donde trabajamos y jugamos y rezamos y aprendemos y producimos y consumimos y nos reproduc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905120"/>
          <a:ext cx="2819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281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polarización maniq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sería el reino del poder, la burocracia y la dominación. El mercado serían el mundo de la individualidad, la libertad y la privac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conflicto irreconciliable es entre aquellos que creen en la santidad de la libertad y aquellos que creen en la supremacía del Est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onald Reagan, 195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polarización maniq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hora que nuestro gobierno se ponga a die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nald Reagan, al aceptar la nominación republicana en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hombre no es libre a menos que se limite al gobier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nald Reagan, discurso de despedida en 1988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ámbito público y el privado: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polarización maniq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gobierno que tenga el poder suficiente para proporcionar todo lo que queramos tiene el poder suficiente para quitarnos todo lo que poseem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rald Ford, ex Presidente de Estados Unidos, Convención Republicana, 19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22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21:54:51Z</dcterms:created>
  <dc:creator>Sergio Micco</dc:creator>
  <dc:description/>
  <dc:language>en-US</dc:language>
  <cp:lastModifiedBy>referencia07</cp:lastModifiedBy>
  <dcterms:modified xsi:type="dcterms:W3CDTF">2007-05-22T14:14:16Z</dcterms:modified>
  <cp:revision>17</cp:revision>
  <dc:subject/>
  <dc:title>Por una democracia fuerte</dc:title>
</cp:coreProperties>
</file>