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06B-3DE0-44FA-AC80-6D709143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E92-3EAF-4846-B5C5-BAE94CA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85F-3C6E-433E-8F07-05EA22DB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DB8-D770-4F2D-9261-98CC1990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9CB-A981-4EE5-AB66-5D143B0D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A34-4283-4305-8C0A-10A476A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4830-E101-46F8-849E-9B4ED262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8298-719E-45B7-908A-504B704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D26-6F48-44B6-8857-E3647E3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46F4-6E67-4207-9690-D013E968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F85-9DAE-4E32-9311-C2F35D9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05F-AE4A-4A85-832D-A07CA65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F8E2-A0FE-4D89-BC3A-75F0626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1E1-23A9-4F44-AC0D-3B5AF91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F89-DB46-42B4-BA77-6652ECC0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3040-E683-4E05-BB5F-F47F54FF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A3B-3CAD-4C63-86B7-2D0CD692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2E9-86E0-4F96-8E35-DA5F395F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1BF-F6F6-4691-9589-A910DBF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98-12F3-40F4-AE2D-7087B6F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610-1F30-4799-A9BE-BF841DC9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EE0-28C0-42A4-895D-66745DC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CD8-BE4B-472F-B99E-C24A478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39B-3B77-41EA-BF88-A3F10CB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3E49-092C-4C2F-8422-7226EBFD888D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AD1-BDB7-4DC5-9ED1-241834DA4F54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Republicanis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2d2525"/>
                </a:solidFill>
                <a:latin typeface="Times New Roman"/>
              </a:rPr>
              <a:t>Autogobierno y virtud cívic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añeja o vigent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200400" cy="441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33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progresista...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038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868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... conservadora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73152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mocracia fuert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5480" y="1981080"/>
            <a:ext cx="29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Autogobiern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92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Virtud ciudadan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793960"/>
            <a:ext cx="3619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liberació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300400"/>
            <a:ext cx="3619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23:11:03Z</dcterms:created>
  <dc:creator>a</dc:creator>
  <dc:description/>
  <dc:language>en-US</dc:language>
  <cp:lastModifiedBy>Sergio Micco</cp:lastModifiedBy>
  <dcterms:modified xsi:type="dcterms:W3CDTF">2006-06-18T12:39:28Z</dcterms:modified>
  <cp:revision>4</cp:revision>
  <dc:subject/>
  <dc:title>Republicanismo</dc:title>
</cp:coreProperties>
</file>