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D7F-3A01-4569-A5FD-D3C3B0E3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F10-7B42-47D3-B98D-FB183323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36C-F50B-479B-8803-37191195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A01-E075-4F77-AC24-173BE1D9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7E7E-0CD7-4283-8216-C8585299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3575-2035-4714-A53A-62877442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991F-1D9E-4F80-8FC8-9873EFDC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0A3E-9928-4F38-B3D2-91AA7ABF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A64E-5068-4C14-B0AB-06226E93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FCF9-7F45-4498-9991-CB5AA6BF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37C1-B231-4CCB-88CB-1E45F8AE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C39-DF49-435D-83DB-B6E189C3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235D-4E45-4D1C-9805-76E8ACD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68C8-0805-47F4-AE2E-C09BA35F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E206-597A-4561-BA58-1199ACE7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ECF4-78F2-4788-979A-C7E69AD9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EEEE-3FC3-4584-A9C8-B42890FE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39D-6C7D-44DA-8E77-16C1E9B8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639-A157-4314-AEBB-C190CF6E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5FB-DDE0-4580-98C0-C1973C2A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020-8F72-4A6D-B4DD-0BC40EBE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BC1-928F-48CE-A79B-BB870834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331-FD78-4CEC-895B-8F73CE6B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262-C5FB-4CB2-874F-C950FF70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1FAE-D269-4658-9592-E556E6D1915C}" type="slidenum"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CEBE-515F-4B2B-88F4-2E34360A209E}" type="slidenum"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Republicanism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2d2525"/>
                </a:solidFill>
                <a:latin typeface="Times New Roman"/>
              </a:rPr>
              <a:t>Autogobierno y virtud cívic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Una idea añeja o vigente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200400" cy="441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339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Una idea progresista...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0388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6868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... conservadora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73152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Democracia fuert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5480" y="1981080"/>
            <a:ext cx="296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Autogobiern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6927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Virtud ciudadan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2793960"/>
            <a:ext cx="36194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Deliberació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300400"/>
            <a:ext cx="36194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23:11:03Z</dcterms:created>
  <dc:creator>a</dc:creator>
  <dc:description/>
  <dc:language>en-US</dc:language>
  <cp:lastModifiedBy>Sergio Micco</cp:lastModifiedBy>
  <dcterms:modified xsi:type="dcterms:W3CDTF">2006-06-18T12:39:28Z</dcterms:modified>
  <cp:revision>4</cp:revision>
  <dc:subject/>
  <dc:title>Republicanismo</dc:title>
</cp:coreProperties>
</file>