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AAD-8F05-40C9-B989-C5396704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D1A-D85E-498F-940A-252E256D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92E-15BC-435A-90E9-9B609AAC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E96-A357-401D-A0E3-0DDC557A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DFE3-B45B-485D-804A-92485A4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12E-5619-4A4A-A522-4A014092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5854-BA54-433B-8623-76BB948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0CDA-9B82-4102-A15D-A7F7509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0E2A-AAF4-4445-AEE1-0366DB36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3F16-138A-4714-9849-E2089CD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EBC5-DBF3-4DB0-BA37-761D98F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31D-ECD6-497B-8FC3-169178A2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CF2E-9819-4009-B54D-3288AD38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EE85-1F24-471E-9EAF-29D37AA0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E45F-5DEC-4B98-9D9D-08CC165F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D94-3B94-4B83-BE90-AD99F846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D64-465D-40AE-9A0C-8A05B24B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50B-3FD3-454A-AA7D-B8D1645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361-AF36-4BB4-8898-F60660FC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4E4-E937-44FA-B0C9-B61FFE2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DBB-115B-4D03-81B9-8C5B2735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5D1-3B09-4B03-B849-A750491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87D-E166-45D9-9FB0-0B60C01A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EFA-1431-476F-9671-34CDC8D3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0497-D4C4-4231-ACE7-36EECEDA2049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AF79-92B8-4B2B-B0B2-5F9C32F1D77F}" type="slidenum">
              <a:rPr b="0" lang="es-E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Republicanis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2d2525"/>
                </a:solidFill>
                <a:latin typeface="Times New Roman"/>
              </a:rPr>
              <a:t>Autogobierno y virtud cívica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añeja o vigent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200400" cy="441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33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Una idea progresista...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038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68680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¿... conservadora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73152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mocracia fuert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5480" y="1981080"/>
            <a:ext cx="296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Autogobiern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92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Virtud ciudadan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2793960"/>
            <a:ext cx="3619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61c62"/>
                </a:solidFill>
                <a:latin typeface="Times New Roman"/>
              </a:rPr>
              <a:t>Deliberació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300400"/>
            <a:ext cx="36194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23:11:03Z</dcterms:created>
  <dc:creator>a</dc:creator>
  <dc:description/>
  <dc:language>en-US</dc:language>
  <cp:lastModifiedBy>Sergio Micco</cp:lastModifiedBy>
  <dcterms:modified xsi:type="dcterms:W3CDTF">2006-06-18T12:39:28Z</dcterms:modified>
  <cp:revision>4</cp:revision>
  <dc:subject/>
  <dc:title>Republicanismo</dc:title>
</cp:coreProperties>
</file>