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04E-DB74-47F2-8F8C-7CA1EB27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579-B6E2-4481-BBB0-0A4250C6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905-21DB-4B85-99E8-6C10AC2C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4AA-2F9A-4970-B934-D81C7414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FEBE-7819-4D55-92C5-0000E234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F2AC-1F0F-4008-BD5C-758AE473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952B-E154-4500-9329-9750EE54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C49B-14D5-4CAA-8DD5-3356CF2A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9574-DCC2-4814-B43D-DA66CEE5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79EE-DDB3-42D2-A92A-1B631582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6447-2B08-4A5D-88F3-F4BD8E67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057-5B61-434E-8186-28FE068D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6F70-2CE3-44FC-9B05-96B2738C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7C75-AEEA-4CD3-AFD3-A1D1D23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329C-9CEA-4C8D-BE02-07F81218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EFA5-EAEA-4B9B-8FEF-5320638D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DC21-A22A-44C6-BDE5-C7A9E62B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FD4-0C00-45F9-886C-EC612B58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6B6-8CE2-4252-B6B7-EF30316F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642-CC35-4565-BA72-3D3E21E8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699-1950-4027-9106-F4EBFD72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EFB-C8E2-409D-9DFF-0E2B0C39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F63-2172-4010-B687-7F384DE2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84A-D077-4B8A-989E-5025DE55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BA57-869E-49E8-A94E-BEE63C3FF284}" type="slidenum"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E241-7D5E-466C-9666-F012955CFFD0}" type="slidenum"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Republicanism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2d2525"/>
                </a:solidFill>
                <a:latin typeface="Times New Roman"/>
              </a:rPr>
              <a:t>Autogobierno y virtud cívic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Una idea añeja o vigent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200400" cy="441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339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Una idea progresista...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0388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6868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... conservadora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73152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Democracia fuert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5480" y="1981080"/>
            <a:ext cx="296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Autogobiern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6927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Virtud ciudadan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2793960"/>
            <a:ext cx="36194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Deliberació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300400"/>
            <a:ext cx="36194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23:11:03Z</dcterms:created>
  <dc:creator>a</dc:creator>
  <dc:description/>
  <dc:language>en-US</dc:language>
  <cp:lastModifiedBy>Sergio Micco</cp:lastModifiedBy>
  <dcterms:modified xsi:type="dcterms:W3CDTF">2006-06-18T12:39:28Z</dcterms:modified>
  <cp:revision>4</cp:revision>
  <dc:subject/>
  <dc:title>Republicanismo</dc:title>
</cp:coreProperties>
</file>