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C49AE-3BAC-463C-9ECD-E42F06D33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913E-7541-4481-97FB-040BB2FFD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C95F7-DFB0-4821-A1A2-6E09EACEC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28208-73F3-45D6-8AD7-43905DF56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8ADBC-8E07-445A-97F5-9517E427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FB775-C00D-4F0F-A201-9C0E39930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8FBEA-3AD6-4995-B38F-C040DAC95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1D02-85BB-4F3E-B267-04AB47DF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FD9B8-F57F-4F90-AAE5-117F538F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A87E-8300-4444-A3E9-887B3D9C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20EF-B943-47C2-8FB9-580D9EB71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9B13-5C3B-4B8B-8321-7093C65A8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BF17-582E-463C-ADAC-27EE81770C9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80520"/>
            <a:ext cx="84582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VILIDAD: </a:t>
            </a:r>
            <a:br>
              <a:rPr sz="2000"/>
            </a:br>
            <a:r>
              <a:rPr b="1" lang="es-ES_tradnl" sz="2000" spc="-1" strike="noStrike">
                <a:solidFill>
                  <a:srgbClr val="000000"/>
                </a:solidFill>
                <a:latin typeface="Arial"/>
              </a:rPr>
              <a:t>TEORIA POLITICA DE LA POSTMODERNIDAD</a:t>
            </a:r>
            <a:br>
              <a:rPr sz="2000"/>
            </a:br>
            <a:r>
              <a:rPr b="1" lang="es-ES_tradnl" sz="2000" spc="-1" strike="noStrike">
                <a:solidFill>
                  <a:srgbClr val="000000"/>
                </a:solidFill>
                <a:latin typeface="Arial"/>
              </a:rPr>
              <a:t>El retorno del liberalismo político</a:t>
            </a:r>
            <a:br>
              <a:rPr sz="2000"/>
            </a:br>
            <a:r>
              <a:rPr b="1" lang="es-ES_tradnl" sz="2000" spc="-1" strike="noStrike">
                <a:solidFill>
                  <a:srgbClr val="000000"/>
                </a:solidFill>
                <a:latin typeface="Arial"/>
              </a:rPr>
              <a:t>Fernando Mires</a:t>
            </a:r>
            <a:endParaRPr b="0" lang="en-US" sz="2000" spc="-1" strike="noStrike">
              <a:solidFill>
                <a:srgbClr val="000000"/>
              </a:solidFill>
              <a:latin typeface="Times New Roman"/>
            </a:endParaRPr>
          </a:p>
        </p:txBody>
      </p:sp>
      <p:pic>
        <p:nvPicPr>
          <p:cNvPr id="42" name="" descr=""/>
          <p:cNvPicPr/>
          <p:nvPr/>
        </p:nvPicPr>
        <p:blipFill>
          <a:blip r:embed="rId1"/>
          <a:stretch/>
        </p:blipFill>
        <p:spPr>
          <a:xfrm>
            <a:off x="5791320" y="2895480"/>
            <a:ext cx="2773080" cy="346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stamente Dahrendorf o Rawls buscan asegurar el derecho de propiedad, de acuerdo con normas generales de justicia social, en contra de actos de posesión que surgen desde esa obsesión neoliberal que marca los albores del “nuevo capital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cosa es el derecho a la propiedad, es decir mirado desde el punto de vista del no propietario, que el derecho de propiedad que defiende al que lo e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62520" y="3809880"/>
            <a:ext cx="45831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1066320"/>
            <a:ext cx="777240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democratización de las democraci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risis de la política” puede ser algo sumamente peligros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 puede posibilitar el resurgimiento de caudillos demagógico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os demagogos –escribía Aristóteles- sólo aparecen allí donde la ley ha perdido la soberaní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te del retorno de los demagogos, el otro gran riesgo que amenaza al proceso de “redemocratización de la democracia” reside en la toma de poder de instancias políticas por parte de agencias internacionales, tanto económicas como administrativas.</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7086600" y="15228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09480"/>
            <a:ext cx="7772400" cy="5562720"/>
          </a:xfrm>
          <a:prstGeom prst="rect">
            <a:avLst/>
          </a:prstGeom>
          <a:noFill/>
          <a:ln w="0">
            <a:noFill/>
          </a:ln>
        </p:spPr>
        <p:txBody>
          <a:bodyPr lIns="90000" rIns="90000" tIns="46800" bIns="46800" anchor="t">
            <a:normAutofit fontScale="91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ía del liberalismo político: John Rawl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cepción de la justicia de Rawls se desprende de: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imero el “factum del pluralismo”. Somos divers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gundo sería una suerte de “acuerdo ciudadano” respecto al orden que ha de prevalecer. Debemos ponernos de acuerdo acerca de cómo vivir junt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ercero es el condicionamiento de la minoría a la mayoría propio de todo orden democrático.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uarto se trata de aquel fundus de intuiciones y saberes de que dispone toda sociedad demócratic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último, la diversidad de opiniones que resulta de la improbabilidad de que personas racionales y esclarecidas puedan tener las mismas decisiones frente a enjuiciamientos importantes.</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7086600" y="15228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371240"/>
            <a:ext cx="7772400" cy="4800600"/>
          </a:xfrm>
          <a:prstGeom prst="rect">
            <a:avLst/>
          </a:prstGeom>
          <a:noFill/>
          <a:ln w="0">
            <a:noFill/>
          </a:ln>
        </p:spPr>
        <p:txBody>
          <a:bodyPr lIns="90000" rIns="90000" tIns="46800" bIns="46800" anchor="t">
            <a:norm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cierto, para Rawls cada uno puede enriquecerse tanto como quiera (si no, no sería liberal). Pero bajo la condición de que no dañe al bien común.</a:t>
            </a:r>
            <a:endParaRPr b="0" lang="en-US" sz="2000" spc="-1" strike="noStrike">
              <a:solidFill>
                <a:srgbClr val="000000"/>
              </a:solidFill>
              <a:latin typeface="Times New Roman"/>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persona tiene el mismo derecho a un sistema universal de libertades fundamentales, sistema de libertades que ha de ser convenido por todos;</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sigualdades económicas y sociales están permitidas siempre que a) redunden en ventaja de los menos favorecidos y b) que estén unidas con posiciones y puestos que estén abiertos para todos bajos las condiciones de una justa igualdad de oportunidades”.</a:t>
            </a:r>
            <a:endParaRPr b="0" lang="en-US" sz="2000" spc="-1" strike="noStrike">
              <a:solidFill>
                <a:srgbClr val="000000"/>
              </a:solidFill>
              <a:latin typeface="Times New Roman"/>
            </a:endParaRPr>
          </a:p>
        </p:txBody>
      </p:sp>
      <p:pic>
        <p:nvPicPr>
          <p:cNvPr id="68" name="" descr=""/>
          <p:cNvPicPr/>
          <p:nvPr/>
        </p:nvPicPr>
        <p:blipFill>
          <a:blip r:embed="rId1"/>
          <a:stretch/>
        </p:blipFill>
        <p:spPr>
          <a:xfrm>
            <a:off x="5680080" y="5029200"/>
            <a:ext cx="3463920" cy="1828800"/>
          </a:xfrm>
          <a:prstGeom prst="rect">
            <a:avLst/>
          </a:prstGeom>
          <a:ln w="0">
            <a:noFill/>
          </a:ln>
        </p:spPr>
      </p:pic>
      <p:pic>
        <p:nvPicPr>
          <p:cNvPr id="69" name="" descr=""/>
          <p:cNvPicPr/>
          <p:nvPr/>
        </p:nvPicPr>
        <p:blipFill>
          <a:blip r:embed="rId2"/>
          <a:stretch/>
        </p:blipFill>
        <p:spPr>
          <a:xfrm>
            <a:off x="0" y="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retorno del liberalismo polític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movimiento plura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representantes pueden ser laboristas, socialdemócratas, socialistas y conservadores democrático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cuentas, se trata de un consenso básico que reconoce el régimen de representación partidaria, basado en elecciones secretas y libres, que destaca los derechos individuales frente al Estado, en el marco de una sociedad civil no ocupada por el Estado.</a:t>
            </a:r>
            <a:endParaRPr b="0" lang="en-US" sz="2000" spc="-1" strike="noStrike">
              <a:solidFill>
                <a:srgbClr val="000000"/>
              </a:solidFill>
              <a:latin typeface="Times New Roman"/>
            </a:endParaRPr>
          </a:p>
        </p:txBody>
      </p:sp>
      <p:pic>
        <p:nvPicPr>
          <p:cNvPr id="44" name="" descr=""/>
          <p:cNvPicPr/>
          <p:nvPr/>
        </p:nvPicPr>
        <p:blipFill>
          <a:blip r:embed="rId1"/>
          <a:stretch/>
        </p:blipFill>
        <p:spPr>
          <a:xfrm>
            <a:off x="6618240" y="838080"/>
            <a:ext cx="25257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es el liberalismo político?</a:t>
            </a:r>
            <a:endParaRPr b="0" lang="en-US" sz="2800" spc="-1" strike="noStrike">
              <a:solidFill>
                <a:srgbClr val="000000"/>
              </a:solidFill>
              <a:latin typeface="Times New Roman"/>
            </a:endParaRPr>
          </a:p>
        </p:txBody>
      </p:sp>
      <p:sp>
        <p:nvSpPr>
          <p:cNvPr id="46"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De acuerdo con mi opinión –afirmaba-, el liberalismo contiene dos elementos fundamentales, que se refieren ambos a la esfera del individuo, y que yo llamo “oportunidades de vida”. El primero de esos elementos concierne a la protección de cada uno y de sus oportunidades frente a arbitrarias limitaciones. Este es el elemento pasivo o negativo del liberalismo [...] El segundo elemento, no menos importante en el liberalismo, se encuentra en el siempre incansable esfuerzo para cambiar las relaciones sociales [...] de tal manera que siempre cada vez más seres humanos reciban la posibilidad de gozar de las “oportunidades de vida”” (Dahrendorf).</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0" y="1981080"/>
            <a:ext cx="1638360" cy="34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99840" y="456840"/>
            <a:ext cx="6629400" cy="57150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mánticamente el concepto de “liberalismo”, en casi todos los países latinoamericanos, no goza de mucho prestig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una parte fueron sectores oligárquicos los que, desde la independencia, levantaron el estandarte libera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gundo lugar, las fracciones radicales del liberalismo democrático adoptaron (eurocentrísticamente) en su gran mayoría la versión jacobina del liberalismo político tratando de imponerlo desde arriba, a través de una minoría iluminada y en forma violent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último, hay que mencionar la presencia del neoliberalismo económico de negativos efectos en términos de pobreza y desigualdad en nuestro continente.</a:t>
            </a:r>
            <a:endParaRPr b="0" lang="en-US" sz="2000" spc="-1" strike="noStrike">
              <a:solidFill>
                <a:srgbClr val="000000"/>
              </a:solidFill>
              <a:latin typeface="Times New Roman"/>
            </a:endParaRPr>
          </a:p>
        </p:txBody>
      </p:sp>
      <p:pic>
        <p:nvPicPr>
          <p:cNvPr id="49" name="" descr=""/>
          <p:cNvPicPr/>
          <p:nvPr/>
        </p:nvPicPr>
        <p:blipFill>
          <a:blip r:embed="rId1"/>
          <a:stretch/>
        </p:blipFill>
        <p:spPr>
          <a:xfrm>
            <a:off x="0" y="1981080"/>
            <a:ext cx="1638360" cy="346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eligro y el gran malestar de nuestro tiempo no reside en que se haya impuesto el liberalismo a escala mundial, sino en todo lo contrario: que las condiciones que hicieron posible el resurgimiento de la democracia liberal se encuentran amenazad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lo pues un mundo globalizado en el mercado y en la uniformidad de culturas, hábitos morales y modelos de consumo destruyen las bases materiales que hacen posible la existencia de individuos diversos y autónomos.</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228600" y="4038480"/>
            <a:ext cx="3048120" cy="2819520"/>
          </a:xfrm>
          <a:prstGeom prst="rect">
            <a:avLst/>
          </a:prstGeom>
          <a:ln w="0">
            <a:noFill/>
          </a:ln>
        </p:spPr>
      </p:pic>
      <p:sp>
        <p:nvSpPr>
          <p:cNvPr id="52" name=""/>
          <p:cNvSpPr/>
          <p:nvPr/>
        </p:nvSpPr>
        <p:spPr>
          <a:xfrm>
            <a:off x="1905120" y="345960"/>
            <a:ext cx="529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grandes desafíos de ho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fontScale="99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mos además cuidarnos de quienes promueven las libertades económicas violentando las polític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tenemos por el momento ninguna otra, lo que no quiere decir, por supuesto, que democracia y liberalismo sean sinónimos, pues, como postula Alain Touraine, “Si no hay democracia que no sea liberal, hay demasiados regímenes liberales que no son democrático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el liberalismo político no prescind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económico, el económico sí prescind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polític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 descr=""/>
          <p:cNvPicPr/>
          <p:nvPr/>
        </p:nvPicPr>
        <p:blipFill>
          <a:blip r:embed="rId1"/>
          <a:stretch/>
        </p:blipFill>
        <p:spPr>
          <a:xfrm>
            <a:off x="5562720" y="3048120"/>
            <a:ext cx="309240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057040" y="228600"/>
            <a:ext cx="6248520" cy="63244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liberalismo original surgió portando el estandarte de la libertad, tanto política como económica, frente al absolutismo político y religioso. En ese contexto, la libertad del individuo y la libertad de propiedad eran libertades complementarias; incluso, inseparabl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n embargo, derrotado el absolutismo político teológico medieval y en pleno ascenso el comunismo, cada vez más los liberales se identificaron con la defensa de la propiedad.</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y día, cuando el proyecto comunista casi carece de vigencia, al liberalismo político se le ofrecen, nuevamente, dos opciones: o continuar únicamente siendo el “partido de la propiedad”, o retomar algunas ideas igualitaria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liberalismo anticlerical y antiabsolutista no es el mismo que el igualitario. Ni el liberalismo propietarista es el mismo que el social. Ni el liberalismo político igual al económico. Y, sobre todo, el liberalismo no es el neoliberal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0" y="0"/>
            <a:ext cx="1792440" cy="179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eso surgen liberales políticos que quieren reconciliar su tradición con la igualdad. Ellos son Rawls en Estados Unidos o Dahrendorf en Europ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establece Dahrendorf: “Los socialistas tienen sin duda una determinada preferencia por el tema de la igualdad. También ellos afirman querer la igualdad para obtener una mayor libertad, pero su mayor atención la centran en la igualdad. Los liberales en cambio han dado al tema de la libertad la preferencia. Ahora bien, en la historia del pensamiento político siempre se ha demostrado que igualdad y libertad no constituyen en verdad ningún antagonismo”.</a:t>
            </a:r>
            <a:endParaRPr b="0" lang="en-US" sz="2000" spc="-1" strike="noStrike">
              <a:solidFill>
                <a:srgbClr val="000000"/>
              </a:solidFill>
              <a:latin typeface="Times New Roman"/>
            </a:endParaRPr>
          </a:p>
        </p:txBody>
      </p:sp>
      <p:pic>
        <p:nvPicPr>
          <p:cNvPr id="58" name="" descr=""/>
          <p:cNvPicPr/>
          <p:nvPr/>
        </p:nvPicPr>
        <p:blipFill>
          <a:blip r:embed="rId1"/>
          <a:stretch/>
        </p:blipFill>
        <p:spPr>
          <a:xfrm>
            <a:off x="3200400" y="4648320"/>
            <a:ext cx="205740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 y posesión no son lo mismo en Hannah Arendt</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iedad es el acceso a ese “pedazo de mundo” que nos corresponde por el solo hecho de ser. Propiedad es lo que nos pertenece, es decir, lo propio; y la primera propiedad, la más “propia”, es la de nuestro cuerp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esión, en cambio, es el desplazamiento de “lo propio” hacia otro espacio que ocupa, “apropiándolo” (lícita o ilícitamente, no es el caso de discutirlo aquí). Posesión no es inherente al ser, como la propiedad, sino un acto, o más bien un resultado de, valga la paradoja, actos de posesión.</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3962520" y="4724280"/>
            <a:ext cx="458316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5:13:02Z</dcterms:created>
  <dc:creator>Windows</dc:creator>
  <dc:description/>
  <dc:language>en-US</dc:language>
  <cp:lastModifiedBy>Departamento de Informática</cp:lastModifiedBy>
  <dcterms:modified xsi:type="dcterms:W3CDTF">2006-04-17T15:19:50Z</dcterms:modified>
  <cp:revision>28</cp:revision>
  <dc:subject/>
  <dc:title>CIVILIDAD:  TEORIA POLITICA DE LA POSTMODERNIDAD Fernando Mires</dc:title>
</cp:coreProperties>
</file>