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2.wmf" ContentType="image/x-wmf"/>
  <Override PartName="/ppt/media/image21.png" ContentType="image/png"/>
  <Override PartName="/ppt/media/image20.jpeg" ContentType="image/jpeg"/>
  <Override PartName="/ppt/media/image15.jpeg" ContentType="image/jpeg"/>
  <Override PartName="/ppt/media/image19.wmf" ContentType="image/x-wmf"/>
  <Override PartName="/ppt/media/image17.jpeg" ContentType="image/jpeg"/>
  <Override PartName="/ppt/media/image16.wmf" ContentType="image/x-wmf"/>
  <Override PartName="/ppt/media/image14.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2.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3E084-24E6-416F-9CF4-C1146CD71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EF1E-40EA-4C7D-9741-F51BA779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B80A-A033-4A4B-8C9F-1E8C375F7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7BA19-AA23-40B8-97C7-650199C9A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4EBD7-0EC7-4442-8EEE-4CAA08451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CF20-4F47-495D-85A5-5F703191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5DD0-DA6F-410A-97E4-A34A384C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109A-1B55-442C-A9B0-1295372B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0F1D-255A-4BCC-A66B-F36022C45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3A0C-6171-47F4-9619-04E376DF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19A7-A7D9-42BE-AE7D-41D3DF678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C8A94-6C54-4A9E-908D-8B375B3F2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3F74-F025-4BBF-8C1F-B37C0A07D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crítica a la democracia contemporáne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presente sesión quiere abordar dos críticas frecuentes a nuestra democracia: su falta de participación y su fracaso en pasar de la igualdad política a la soci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nalizar estos temas veremos los pensamientos de Robert Dahl, Norberto Bobbio y Carls Mar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los Marx, la crítica al Estado representativo y a la democracia liberal</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tiendo el dedo en la llag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bbio, Norberto; </a:t>
            </a:r>
            <a:r>
              <a:rPr b="1" lang="es-ES_tradnl" sz="1600" spc="-1" strike="noStrike">
                <a:solidFill>
                  <a:srgbClr val="000000"/>
                </a:solidFill>
                <a:latin typeface="Arial"/>
              </a:rPr>
              <a:t>La Teoría de las formas de gobierno en la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istoria del Pensamiento Político</a:t>
            </a:r>
            <a:r>
              <a:rPr b="0" lang="es-ES_tradnl" sz="1600" spc="-1" strike="noStrike">
                <a:solidFill>
                  <a:srgbClr val="000000"/>
                </a:solidFill>
                <a:latin typeface="Arial"/>
              </a:rPr>
              <a:t>; FCE; México; 1992.</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6797520" y="4191120"/>
            <a:ext cx="2346480" cy="2474640"/>
          </a:xfrm>
          <a:prstGeom prst="rect">
            <a:avLst/>
          </a:prstGeom>
          <a:ln w="0">
            <a:noFill/>
          </a:ln>
        </p:spPr>
      </p:pic>
      <p:pic>
        <p:nvPicPr>
          <p:cNvPr id="64" name="" descr=""/>
          <p:cNvPicPr/>
          <p:nvPr/>
        </p:nvPicPr>
        <p:blipFill>
          <a:blip r:embed="rId2"/>
          <a:stretch/>
        </p:blipFill>
        <p:spPr>
          <a:xfrm>
            <a:off x="0" y="0"/>
            <a:ext cx="3809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los Marx no tiene un pensamiento positivo (propositivo) ni acabado acerca del Estado y la democracia, pues a pesar de que se propuso escribir en sus primeros años “una crítica de la política” y que mostró interés por la teoría política al comentar algunos parágrafos sobre el Estado de la Filosofía del Derecho de Hegel (se trata del escrito de juventud, Crítica de la filosofía del derecho público de Hegel, escrita en 1843 y publicada por primera vez en 1927), no escribió ninguna obra dedicada expresamente al problema del Estado, tan es así que la teoría política marxista debe ser deducida de pasajes, generalmente breves, tomados de obras de economía, historia, política, literatura, etc.</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6553080" y="5410080"/>
            <a:ext cx="1828800" cy="1447920"/>
          </a:xfrm>
          <a:prstGeom prst="rect">
            <a:avLst/>
          </a:prstGeom>
          <a:ln w="0">
            <a:noFill/>
          </a:ln>
        </p:spPr>
      </p:pic>
      <p:pic>
        <p:nvPicPr>
          <p:cNvPr id="67" name="" descr=""/>
          <p:cNvPicPr/>
          <p:nvPr/>
        </p:nvPicPr>
        <p:blipFill>
          <a:blip r:embed="rId2"/>
          <a:stretch/>
        </p:blipFill>
        <p:spPr>
          <a:xfrm>
            <a:off x="6934320" y="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n parte de la filosofía política es una exaltación del Estado. Así el fin del Estado es la justicia (Platón), el bien común (Aristóteles), la felicidad de los súbditos (Leibniz), la libertad (Kant), la máxima expresión del ethos de un pueblo (Hegel). En contraste, Marx considera al Estado como un puro y simple instrumento de dominación, tiene una concepción técnica del Estado para oponerla a la prevaleciente concepción ética de los escritores anteriores, de los que el máximo representante ciertamente es el teórico del “Estado ético”.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13600" y="5159520"/>
            <a:ext cx="2030400" cy="1698480"/>
          </a:xfrm>
          <a:prstGeom prst="rect">
            <a:avLst/>
          </a:prstGeom>
          <a:ln w="0">
            <a:noFill/>
          </a:ln>
        </p:spPr>
      </p:pic>
      <p:pic>
        <p:nvPicPr>
          <p:cNvPr id="70" name="" descr=""/>
          <p:cNvPicPr/>
          <p:nvPr/>
        </p:nvPicPr>
        <p:blipFill>
          <a:blip r:embed="rId2"/>
          <a:stretch/>
        </p:blipFill>
        <p:spPr>
          <a:xfrm>
            <a:off x="0" y="5410080"/>
            <a:ext cx="1447920" cy="1447920"/>
          </a:xfrm>
          <a:prstGeom prst="rect">
            <a:avLst/>
          </a:prstGeom>
          <a:ln w="0">
            <a:noFill/>
          </a:ln>
        </p:spPr>
      </p:pic>
      <p:pic>
        <p:nvPicPr>
          <p:cNvPr id="71" name="" descr=""/>
          <p:cNvPicPr/>
          <p:nvPr/>
        </p:nvPicPr>
        <p:blipFill>
          <a:blip r:embed="rId3"/>
          <a:stretch/>
        </p:blipFill>
        <p:spPr>
          <a:xfrm>
            <a:off x="0" y="0"/>
            <a:ext cx="182880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6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y brevemente los dos elementos principales de esta concepción negativa del Estado en Marx son: a) la consideración del Estado como pura y simple superestructura que refleja la situación de las relaciones sociales determinadas por la base social, y b) la identificación del Estado con el aparato o los aparatos de los que se vale la clase dominante para mantener su dominio, razón por la cual el fin del Estado no es un fin noble, como la justicia, la libertad, el bienestar, etc., sino pura y simplemente es el interés específico de una parte de la sociedad, no el bien común.</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77760" y="5029200"/>
            <a:ext cx="3046320" cy="1828800"/>
          </a:xfrm>
          <a:prstGeom prst="rect">
            <a:avLst/>
          </a:prstGeom>
          <a:ln w="0">
            <a:noFill/>
          </a:ln>
        </p:spPr>
      </p:pic>
      <p:pic>
        <p:nvPicPr>
          <p:cNvPr id="74" name="" descr=""/>
          <p:cNvPicPr/>
          <p:nvPr/>
        </p:nvPicPr>
        <p:blipFill>
          <a:blip r:embed="rId2"/>
          <a:stretch/>
        </p:blipFill>
        <p:spPr>
          <a:xfrm>
            <a:off x="6572160" y="0"/>
            <a:ext cx="257184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El rechazo de la polític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sta recordar el famoso fragmento del Manifiesto del Partido Comunista (1848):</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ntido propio, el poder político es el poder de una clase organizado para oprimir con él a otra.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5486400"/>
            <a:ext cx="2057400" cy="1371600"/>
          </a:xfrm>
          <a:prstGeom prst="rect">
            <a:avLst/>
          </a:prstGeom>
          <a:ln w="0">
            <a:noFill/>
          </a:ln>
        </p:spPr>
      </p:pic>
      <p:pic>
        <p:nvPicPr>
          <p:cNvPr id="77" name="" descr=""/>
          <p:cNvPicPr/>
          <p:nvPr/>
        </p:nvPicPr>
        <p:blipFill>
          <a:blip r:embed="rId2"/>
          <a:stretch/>
        </p:blipFill>
        <p:spPr>
          <a:xfrm>
            <a:off x="6039000" y="0"/>
            <a:ext cx="31050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rechazo de la democracia representativ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emocracia directa fue el ideal de Rousseau, quien al criticar el sistema representativo británico, afirmó que el pueblo inglés “pienso que es libre y se engaña, lo es solamente durante la elección de los miembros del Parlamento: tan pronto como éstos son elegidos, vuelve a ser esclavo, no es nada”. (Contrato Social, III, 5).</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 descr=""/>
          <p:cNvPicPr/>
          <p:nvPr/>
        </p:nvPicPr>
        <p:blipFill>
          <a:blip r:embed="rId1"/>
          <a:stretch/>
        </p:blipFill>
        <p:spPr>
          <a:xfrm>
            <a:off x="5791320" y="4151160"/>
            <a:ext cx="3352680" cy="2706840"/>
          </a:xfrm>
          <a:prstGeom prst="rect">
            <a:avLst/>
          </a:prstGeom>
          <a:ln w="0">
            <a:noFill/>
          </a:ln>
        </p:spPr>
      </p:pic>
      <p:pic>
        <p:nvPicPr>
          <p:cNvPr id="80" name="" descr=""/>
          <p:cNvPicPr/>
          <p:nvPr/>
        </p:nvPicPr>
        <p:blipFill>
          <a:blip r:embed="rId2"/>
          <a:stretch/>
        </p:blipFill>
        <p:spPr>
          <a:xfrm>
            <a:off x="0" y="396252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x usa en la Crítica al programa de Goth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la sociedad capitalista y la comunista está el periodo de la transformación revolucionaria de una en otra. A él corresponde un periodo político de transición, cuyo Estado no puede ser otro más que la dictadura revolucionari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2" name="" descr=""/>
          <p:cNvPicPr/>
          <p:nvPr/>
        </p:nvPicPr>
        <p:blipFill>
          <a:blip r:embed="rId1"/>
          <a:stretch/>
        </p:blipFill>
        <p:spPr>
          <a:xfrm>
            <a:off x="5181480" y="4800600"/>
            <a:ext cx="3189240" cy="1523880"/>
          </a:xfrm>
          <a:prstGeom prst="rect">
            <a:avLst/>
          </a:prstGeom>
          <a:ln w="0">
            <a:noFill/>
          </a:ln>
        </p:spPr>
      </p:pic>
      <p:pic>
        <p:nvPicPr>
          <p:cNvPr id="83" name="" descr=""/>
          <p:cNvPicPr/>
          <p:nvPr/>
        </p:nvPicPr>
        <p:blipFill>
          <a:blip r:embed="rId2"/>
          <a:stretch/>
        </p:blipFill>
        <p:spPr>
          <a:xfrm>
            <a:off x="0" y="4343400"/>
            <a:ext cx="37339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828800"/>
            <a:ext cx="7772400" cy="22096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Últimamente las palabras dictadura del proletariado han vuelto a sumir en santo horror al filisteo socialdemócrata. Pues bien, caballeros, ¿queréis saber qué faz presenta esta dictadura? Mirad a la Comuna de París: ¡he ahí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tado de C. Marx y F. Engels) </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914400" y="4343400"/>
            <a:ext cx="1646280" cy="1733400"/>
          </a:xfrm>
          <a:prstGeom prst="rect">
            <a:avLst/>
          </a:prstGeom>
          <a:ln w="0">
            <a:noFill/>
          </a:ln>
        </p:spPr>
      </p:pic>
      <p:pic>
        <p:nvPicPr>
          <p:cNvPr id="86" name="" descr=""/>
          <p:cNvPicPr/>
          <p:nvPr/>
        </p:nvPicPr>
        <p:blipFill>
          <a:blip r:embed="rId2"/>
          <a:stretch/>
        </p:blipFill>
        <p:spPr>
          <a:xfrm>
            <a:off x="5334120" y="426708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El elogio de la democracia direct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amente, al hacer el elogio del gobierno de la Comuna, ejemplar aunque fuese efímero, Marx tiende a resaltar sobre todo el ejercicio directo del pueblo en los diversos niveles del poder estatal, en las diferentes funciones gubernamentales. Efectivamente, después de decir que la Comuna fue la antítesis directa del Imperio (es decir de la forma de Estado que le surgieron las páginas sobre el “bonapartismo”), enumera algunos rasgos del breve gobierno de la Comuna que le parecieron una innovación radical frente a las formas de gobierno anteriores. </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7086600" y="4648320"/>
            <a:ext cx="1158840" cy="160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4"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s rasgos son: 1) supresión del ejército permanente, sustituido por el pueblo armado; 2) elección por sufragio universal de los consejeros municipales, responsables y revocables en cualquier momento, y transformación de la Comuna en un lugar de trabajo, al mismo tiempo ejecutivo y legislativo; 3) privación a la policía de sus atribuciones políticas y su conversión en instrumento responsable de la Comuna; 4) lo mismo para la administración pública, con una drástica reducción de los sueldos (a salarios de obreros); 5) disolución y expropiación de todas las “iglesias en cuanto entes poseedores”; 6) apertura gratuita para el pueblo de todos los institutos de enseñanza, y 7) magistrados y jueves elegidos, responsables y revocables como todos los demás funcionarios públicos. El ejemplo de la Comuna de París debería haberse extendido a todos los entes locales frances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172404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Carlos Marx asertó al criticar a la democracia de su tiempo de forma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Pero fracasó pues su concepción de la política y del Estado fue enteramente negativa; 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Al centrarse en formas directas de democracia se equivocó pues la experiencia demuestra que ellas son insuficientes y cuestion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812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socialismo?</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800" spc="-1" strike="noStrike">
                <a:solidFill>
                  <a:srgbClr val="000000"/>
                </a:solidFill>
                <a:latin typeface="Times New Roman"/>
              </a:rPr>
              <a:t>Norberto Bobbio</a:t>
            </a: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obbio, Norberto; </a:t>
            </a:r>
            <a:r>
              <a:rPr b="1" lang="es-ES" sz="2000" spc="-1" strike="noStrike">
                <a:solidFill>
                  <a:srgbClr val="000000"/>
                </a:solidFill>
                <a:latin typeface="Times New Roman"/>
              </a:rPr>
              <a:t>¿Qué socialismo?;</a:t>
            </a:r>
            <a:r>
              <a:rPr b="0" lang="es-ES" sz="2000" spc="-1" strike="noStrike">
                <a:solidFill>
                  <a:srgbClr val="000000"/>
                </a:solidFill>
                <a:latin typeface="Times New Roman"/>
              </a:rPr>
              <a:t> Plaza &amp; Jané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arcelona; España; 1986.</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0" y="0"/>
            <a:ext cx="4267080" cy="335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problema de la democracia directa es que más la pedimos hoy cuando menos se puede practicar porque ella supone pequeños grupos y un gran amor a la patria (virtu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Estado crece al satisfacer las demandas sociales, lo que genera burocracia y tecnocracia que son inescapablemente no democráticas.</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ociedad de masas, vía industria cultural y política, destruye la iniciativa individual, la autonomía moral y genera pasivida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ictaduras, por muy socializantes e igualitaristas que sean, son dictaduras pues son ejercicios despóticos del poder que degeneran aún más si ella no es ni excepcional ni temporal.    </a:t>
            </a: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tretch/>
        </p:blipFill>
        <p:spPr>
          <a:xfrm>
            <a:off x="1600200" y="1752480"/>
            <a:ext cx="5622840" cy="2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o hay ningún régimen político que haya cerrado el Parlamento y mantenido las libertades ni un régimen que haya mantenido el Parlamento y suprimido las libertades.</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formas directas de democracia deben ser complementos y no alternativas a las formas representativas. Debemos cuidarnos del plebiscitos, asambleas  y revocaciones de mandato que pueden fácilmente degenerar en manipulación, arbitrariedad y caudillismo.</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blema de las democracias representativas en los países capitalistas parece ser más bien lo poco representativa que son, no que sean representativas.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6629400" y="5870520"/>
            <a:ext cx="168120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Departamento de Informática</cp:lastModifiedBy>
  <dcterms:modified xsi:type="dcterms:W3CDTF">2006-04-17T15:18:46Z</dcterms:modified>
  <cp:revision>22</cp:revision>
  <dc:subject/>
  <dc:title>La Teoría de las formas de gobierno en la historia del pensamiento político Noberto Bobbio</dc:title>
</cp:coreProperties>
</file>