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4.png" ContentType="image/png"/>
  <Override PartName="/ppt/media/image9.png" ContentType="image/png"/>
  <Override PartName="/ppt/media/image1.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8.png" ContentType="image/png"/>
  <Override PartName="/ppt/media/image11.jpeg" ContentType="image/jpeg"/>
  <Override PartName="/ppt/media/image7.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C52B4-0031-4295-862D-A96475EF1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583A6-671C-4123-89A0-F79A0AC9A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C1622-FDD5-4425-9D47-0033B6C4A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17BF5-C5E9-43A1-BCFB-5325CC5A1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A1ECD-19EA-4950-9D0B-D92C664BF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304DA-ECF8-4108-8730-E15D3F5DC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0ACD3-D94F-4893-974F-FEF8C1462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1B18B-111B-4909-AB14-A6D52108E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B957F-C4B1-48E7-AA28-3BA5A52B5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3ECC8-F296-48BC-A4A8-0960CF2F8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4340A-AE71-46DA-9EF2-3AF642E04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5ED15-A917-47AA-B8BB-1045AB8BFA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EE86F-6006-46B1-B357-EE6EAF8027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rítica al conservadurismo</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es aportes de Amitai Etzioni  y uno de Albert Hirschman</a:t>
            </a:r>
            <a:endParaRPr b="0" lang="en-US" sz="3200" spc="-1" strike="noStrike">
              <a:solidFill>
                <a:srgbClr val="000000"/>
              </a:solidFill>
              <a:latin typeface="Arial"/>
            </a:endParaRPr>
          </a:p>
        </p:txBody>
      </p:sp>
      <p:pic>
        <p:nvPicPr>
          <p:cNvPr id="43" name="" descr=""/>
          <p:cNvPicPr/>
          <p:nvPr/>
        </p:nvPicPr>
        <p:blipFill>
          <a:blip r:embed="rId1"/>
          <a:stretch/>
        </p:blipFill>
        <p:spPr>
          <a:xfrm>
            <a:off x="0" y="4829040"/>
            <a:ext cx="1428840" cy="2028960"/>
          </a:xfrm>
          <a:prstGeom prst="rect">
            <a:avLst/>
          </a:prstGeom>
          <a:ln w="0">
            <a:noFill/>
          </a:ln>
        </p:spPr>
      </p:pic>
      <p:pic>
        <p:nvPicPr>
          <p:cNvPr id="44" name="" descr=""/>
          <p:cNvPicPr/>
          <p:nvPr/>
        </p:nvPicPr>
        <p:blipFill>
          <a:blip r:embed="rId2"/>
          <a:stretch/>
        </p:blipFill>
        <p:spPr>
          <a:xfrm>
            <a:off x="7715160" y="0"/>
            <a:ext cx="1428840" cy="214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pensamiento conservador: una palabra confusa</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 conservador es, en uno u otro sentido, querer conservar el orden social;</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 conservador es promover las tradiciones y evitar el cambio;</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 conservador es promover el neoliberalismo en lo económico; </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 conservador es promover valores tradicionales del orden social; </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 conservador es tener una visión pesimista del ser humano y de la razón;</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 conservador es tener ciertas características psicológicas tales como aversión al conflicto, al cambio y a las visiones románticas del ser humano;</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 conservador es promover determinadas instituciones sociales, como la familia y la iglesia; y</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 conservador es promover un Estado, mínimo en lo económico social, pero fuerte en lo que se refiere al orden público, buenas costumbres y seguridad nacional.</a:t>
            </a:r>
            <a:endParaRPr b="0" lang="en-US" sz="1400" spc="-1" strike="noStrike">
              <a:solidFill>
                <a:srgbClr val="000000"/>
              </a:solidFill>
              <a:latin typeface="Arial"/>
            </a:endParaRPr>
          </a:p>
        </p:txBody>
      </p:sp>
      <p:pic>
        <p:nvPicPr>
          <p:cNvPr id="70" name="" descr=""/>
          <p:cNvPicPr/>
          <p:nvPr/>
        </p:nvPicPr>
        <p:blipFill>
          <a:blip r:embed="rId1"/>
          <a:stretch/>
        </p:blipFill>
        <p:spPr>
          <a:xfrm>
            <a:off x="5078520" y="1600200"/>
            <a:ext cx="317808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1.- La veneración de la tradició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 conservador es venerar las tradiciones. El conservador sabe lo que el liberal no ve: somos en buena parte fruto de tradiciones e instituciones que adoptan las principales decisiones de nuestras vidas. No elegimos normalmente ni la lengua que hablamos - que aprendimos imitando a nuestros padres -, ni la religión que profesamos - nuestros padres nos bautizaron en ella sin consultarnos - ; ni la patria que nos nacionalizó al nacer, en fin.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hesterton decía que “La tradición significaba hacer votos por la más oscura de todas las clases: nuestros ancestros. Es una democracia de los muertos. La tradición se niega a someterse a la arrogante oligarquía que forman aquellos que se limitan a andar dando vueltas por ah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1.- Pero, la tradición nació de un cambio</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culturas y las religiones son fruto de síntesis siempre inacabadas, en constante renovación. </a:t>
            </a:r>
            <a:r>
              <a:rPr b="0" lang="es-ES" sz="2000" spc="-1" strike="noStrike">
                <a:solidFill>
                  <a:srgbClr val="000000"/>
                </a:solidFill>
                <a:latin typeface="Arial"/>
              </a:rPr>
              <a:t>La propia tradición es el resultado de una serie de cambios históricos, reformas y evoluciones y no hay razón por la que no deba considerarse que un nuevo cambio sea posible. El conservador que reclama el respeto por los Padres de la Patria hace bien, pero no debe olvidar que ellos fueron jóvenes impetuosos que derribaron violentamente una tradición - la monarquía española - para crear una nueva la república de Chile. </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ay cambios que son buenos puesto que todo lo que existe no es bueno por sí mismo Como lo ha dicho Barbara Goodwin "el dictum, “lo que es, bueno es”, viola la convención filosófica de que los valores no pueden derivarse de los hechos". No vivimos en el mejor de los mundos posibles. Hegel creyó que todo lo real era racional, apostó al progreso y creyó ver en el Estado prusiano el mejor régimen político y sus seguidores de derecha fueron unos conservadores. Pero se equivocar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1.-No todo lo que es, es bueno</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y cambios que son buenos puesto que todo lo que existe no es bueno por sí mismo. Como lo ha dicho Barbara Goodwin "el dictum, “lo que es, bueno es”, viola la convención filosófica de que los valores no pueden derivarse de los hechos". No vivimos en el mejor de los mundos posibles. Hegel creyó que todo lo real era racional, apostó al progreso y creyó ver en el Estado prusiano el mejor régimen político y sus seguidores de derecha fueron unos conservadores. Pero se equivocar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2.- El miedo al cambio</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respeto a la tradición se traduce negativamente en el miedo al cambio. A los conservadores no gustan del cambio. Siempre el riesgo que perdamos lo avanzado está presente. Más aún, si ocupo un lugar central en la sociedad actual, todo cambio implica un gran riesgo de pérdida de derechos, privilegios, costumbres y prácticas seguras, benéficas y adquiridas.</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onservador cree que “todo tiempo pasado fue mejor”. Que las verdades son inmutables. Que “más vale diablo conocido que diablo por conocer”. Que de las tradiciones surge la sabiduría que da la experiencia comprobada. “Que hay que arar con los bueyes que se tiene” y que, por cierto, “más vale pájaro en la mano que cien vola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2.- La retórica de la intransigencia</a:t>
            </a: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lfred Hirschmann nos ha hablado cómo el conservador desarrolla tres estrategias discursivas.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rimera es la retórica de la futilidad. El cambio es inútil. “Algo debe cambiar para que todo siga igual”. “Siempre ha habido y habrán pobres”. “Al final siempre habrá una minoría que gobierne a la mayoría”. Con esta retórica se desecha la aspiración igualitarista por el cambio social y político.  </a:t>
            </a:r>
            <a:endParaRPr b="0" lang="en-US" sz="1800" spc="-1" strike="noStrike">
              <a:solidFill>
                <a:srgbClr val="000000"/>
              </a:solidFill>
              <a:latin typeface="Arial"/>
            </a:endParaRPr>
          </a:p>
          <a:p>
            <a:pPr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segunda retórica es la del peligro. Todo cambio, aún el mejor bien intencionado, acarrea riesgos enormes. “Si introducimos el derecho a sufragio universal sobrevendrá el caos ante la demagogia en la que caerán fácil los pobres e ignorantes”. Hoy se dice en Chile que discutir el modelo de desarrollo es “abrir una caja de Pandora”.</a:t>
            </a:r>
            <a:endParaRPr b="0" lang="en-US" sz="1800" spc="-1" strike="noStrike">
              <a:solidFill>
                <a:srgbClr val="000000"/>
              </a:solidFill>
              <a:latin typeface="Arial"/>
            </a:endParaRPr>
          </a:p>
          <a:p>
            <a:pPr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tercera es la retórica mixta que dice que lo más probable es que el cambio fracase o su impacto positivo sea mínimo. Así es que, ¿para qué afanarse ta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verdad es que no te creo</a:t>
            </a:r>
            <a:endParaRPr b="0" lang="en-US" sz="4400" spc="-1" strike="noStrike">
              <a:solidFill>
                <a:srgbClr val="000000"/>
              </a:solidFill>
              <a:latin typeface="Arial"/>
            </a:endParaRPr>
          </a:p>
        </p:txBody>
      </p:sp>
      <p:pic>
        <p:nvPicPr>
          <p:cNvPr id="82" name="" descr=""/>
          <p:cNvPicPr/>
          <p:nvPr/>
        </p:nvPicPr>
        <p:blipFill>
          <a:blip r:embed="rId1"/>
          <a:stretch/>
        </p:blipFill>
        <p:spPr>
          <a:xfrm>
            <a:off x="1450800" y="1600200"/>
            <a:ext cx="624240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2.- El cambio puede ser positivo</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cierto, hay ocasiones que la situación presente es tan mala, que las posibilidades que emerja una realidad mejor social es obvia. Además, la historia demuestra que hay cambios que, por no realizarse oportunamente, nos llevarán a otros no planificados y, por cierto más riesgosos. Un cambio puede ser positivo. Las democracias de Europa del norte erradicaron la pobreza. Los países desarrollados dieron el derecho a voto a la inmensa mayoría, y  surgió la estabilidad. La democracia más grande del mundo es la más pobre: la India. Hay otros modelos de desarrollo dentro del capitalismo, más justos y socialmente igualitarios. Alemania tiene una economía social de mercad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3.- El pesimismo</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onservador es un pesimista que cree que todo pasado fue mejor y que el futuro se abre amenazante. Y ello se debe a que tiene una concepción negativa de la condición humana. Platón no dudaba en que si el hombre pudiese delinquir, violar y matar sin ser descubierto, lo haría.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obbes veía en el estado de naturaleza al hombre como lobo del hombre.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rge así la “conciencia desgraciada” de quien logra el éxito mundano a costa del fracaso moral o viceversa. Desgarrado siempre por un cierto “no puedes, pero debes”, el ser humano termina siempre ensuciándose las manos hasta los cod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3.- El pesimismo de Maquiavelo</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ueba de lo anterior es Maquiavelo. Éste señala, “siendo difícil que estén juntos –temor y amor- mucho más seguro es ser temido que amado (...) porque de los hombres puede decirse generalmente que son ingratos, volubles, dados al fingimiento, aficionados a esquivar los peligros y codiciosos de ganancias: mientras les favorecen son completamente tuyos y te ofrecen su sangre, sus haciendas, su vida y hasta sus hijos (...) cuando la necesidad está lejos, pero si se acerca se te vuelven”.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a carta de 1512, concluye “duele más a los hombres la pérdida del poder que la muerte de un padre o de un hermano; y es que la muerte se olvida a menudo y lo que se poseyó, jamá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iberale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nservadores y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omunitarios</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3.- El pesimismo de Bobbio antes de morir</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esimismo cósmico, proveniente de la profunda convicción, que me ha acompañado toda la vida, de la radical inexplicabilidad e insuperabilidad del mal en las dos formas del mal activo, la maldad, y del mal pasivo, el sufrimiento, uno y otro en relación de interacción recíproca, y el pesimismo histórico, que se funda en la constatación del triunfo del mal sobre el bien, y nos deja siempre sin resuello en angustiosa espera de un mal cada vez peor: después de Auschwitz y la bomba de Hiroshima, la acumulación en los arsenales de todo el mundo de armas cada vez más mortíferas que podrían desencadenar el fin de la humanidad, el “fin de la historia” no en el sentido de su cumplimiento sino en el de su aniquilación. Y no dejaré de mencionar el pesimismo existencial, entendido como el sentido, que siempre he tenido agudísimo, del fracaso de todo esfuerzo por salir de la caverna (lo cual explica también mi pesimismo de la volunta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3.- El pesimismo, contra el orden del amor</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o, existe otra filosofía de la historia que afirma que si bien el trigo siempre va acompañado de la cizaña, surge la primacía del bien sobre el mal. En efecto, recurriendo a Jacques Maritain, entre el trigo y la cizaña va avanzando el bien cuyos frutos son, en la mirada larga, infinitamente más fecundos.</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ues si para el creyente Dios está presente en la historia y ésta no lo derrotará ni triunfará el mal, surge una visión optimista de ella, en la que se impone el designio amoroso de su Creador. Es la ley de las fructificaciones del bien.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o esto es materia de fe, creencia supra racional,  supra empírica y supra histórica</a:t>
            </a:r>
            <a:endParaRPr b="0" lang="en-US" sz="1600" spc="-1" strike="noStrike">
              <a:solidFill>
                <a:srgbClr val="000000"/>
              </a:solidFill>
              <a:latin typeface="Arial"/>
            </a:endParaRPr>
          </a:p>
        </p:txBody>
      </p:sp>
      <p:pic>
        <p:nvPicPr>
          <p:cNvPr id="93" name="" descr=""/>
          <p:cNvPicPr/>
          <p:nvPr/>
        </p:nvPicPr>
        <p:blipFill>
          <a:blip r:embed="rId1"/>
          <a:stretch/>
        </p:blipFill>
        <p:spPr>
          <a:xfrm>
            <a:off x="5514840" y="1957320"/>
            <a:ext cx="2305080" cy="381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3.- El pesimismo contra el realismo utópico</a:t>
            </a:r>
            <a:endParaRPr b="0" lang="en-US" sz="4000" spc="-1" strike="noStrike">
              <a:solidFill>
                <a:srgbClr val="000000"/>
              </a:solidFill>
              <a:latin typeface="Arial"/>
            </a:endParaRPr>
          </a:p>
        </p:txBody>
      </p:sp>
      <p:sp>
        <p:nvSpPr>
          <p:cNvPr id="95" name="PlaceHolder 2"/>
          <p:cNvSpPr>
            <a:spLocks noGrp="1"/>
          </p:cNvSpPr>
          <p:nvPr>
            <p:ph/>
          </p:nvPr>
        </p:nvSpPr>
        <p:spPr>
          <a:xfrm>
            <a:off x="456840" y="1600200"/>
            <a:ext cx="6491160" cy="452592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Kenneth Boulding ha dicho: “La aparición y la caída del poder integrador son aún más misteriosas. Si tenemos en cuenta su influencia en el mundo, resulta que los fundadores de las grandes religiones han tenido mucho más poder sobre el futuro que los emperadores y los gobernadores bajo los que vivieron (...) Confucio, Buda, Jesús y Mahoma han tenido una repercusión enorme en la historia, a pesar de vivir y trabajar en lugares bastante apartados. Especialmente Jesús y Mahoma nacieron en el seno de las clases bajas, vivieron en lugares remotos y, a pesar de ello, crearon estructuras integradoras enormes. Tales historias demuestran la imposibilidad de hacer predicciones sociales, particularmente sobre los sistemas integradores. Es un misterio saber lo que constituye el potencial para el cambio integrador”.</a:t>
            </a:r>
            <a:endParaRPr b="0" lang="en-US" sz="2000" spc="-1" strike="noStrike">
              <a:solidFill>
                <a:srgbClr val="000000"/>
              </a:solidFill>
              <a:latin typeface="Arial"/>
            </a:endParaRPr>
          </a:p>
        </p:txBody>
      </p:sp>
      <p:pic>
        <p:nvPicPr>
          <p:cNvPr id="96" name="" descr=""/>
          <p:cNvPicPr/>
          <p:nvPr/>
        </p:nvPicPr>
        <p:blipFill>
          <a:blip r:embed="rId1"/>
          <a:stretch/>
        </p:blipFill>
        <p:spPr>
          <a:xfrm>
            <a:off x="6732720" y="1843200"/>
            <a:ext cx="1954080" cy="244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3.- La apuesta pascaliana por el bien</a:t>
            </a:r>
            <a:endParaRPr b="0" lang="en-US" sz="4000" spc="-1" strike="noStrike">
              <a:solidFill>
                <a:srgbClr val="000000"/>
              </a:solidFill>
              <a:latin typeface="Arial"/>
            </a:endParaRPr>
          </a:p>
        </p:txBody>
      </p:sp>
      <p:sp>
        <p:nvSpPr>
          <p:cNvPr id="98" name="PlaceHolder 2"/>
          <p:cNvSpPr>
            <a:spLocks noGrp="1"/>
          </p:cNvSpPr>
          <p:nvPr>
            <p:ph/>
          </p:nvPr>
        </p:nvSpPr>
        <p:spPr>
          <a:xfrm>
            <a:off x="456840" y="1600200"/>
            <a:ext cx="6202440" cy="452592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uede haber otra forma de interpretar la condición humana y el discurrir de la historia que no sólo afirme el triunfo del mal. La historia es contingente, la hacen seres dotados de libertad y que están abiertos tanto al bien como al mal. Finalmente, hay que apostar en el sentido pascaliano y la apuesta por conciliar creadoramente ética y política no está llamada al fracaso. Si se apuesta por el triunfo del bien y se pierde, dicha derrota será dolorosa, pero el empeño habrá sido hermoso. Y si, por el contrario, se acierta en la apuesta, la humanidad recibirá el espíritu del vencedor con alegría humanista.</a:t>
            </a:r>
            <a:endParaRPr b="0" lang="en-US" sz="2400" spc="-1" strike="noStrike">
              <a:solidFill>
                <a:srgbClr val="000000"/>
              </a:solidFill>
              <a:latin typeface="Arial"/>
            </a:endParaRPr>
          </a:p>
        </p:txBody>
      </p:sp>
      <p:pic>
        <p:nvPicPr>
          <p:cNvPr id="99" name="" descr=""/>
          <p:cNvPicPr/>
          <p:nvPr/>
        </p:nvPicPr>
        <p:blipFill>
          <a:blip r:embed="rId1"/>
          <a:stretch/>
        </p:blipFill>
        <p:spPr>
          <a:xfrm>
            <a:off x="6948360" y="1484280"/>
            <a:ext cx="1765440" cy="417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3.- La verdad de Auschwitz</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 el contrario, proponemos apostar por el realismo de Viktor Frankl, sobreviviente de los campos de exterminio nazi. El psiquiatra vienés sostuvo: “nuestra generación es realista, pues hemos llegado a saber lo que realmente es el hombre. Después de todo, el hombre es ese ser que ha inventado las cámaras de gas de Auschwitz, pero también es el ser que ha entrado en esas cámaras con la cabeza erguida y el Padrenuestro o el Shema Yisrael en sus labios”.</a:t>
            </a:r>
            <a:endParaRPr b="0" lang="en-US" sz="2800" spc="-1" strike="noStrike">
              <a:solidFill>
                <a:srgbClr val="000000"/>
              </a:solidFill>
              <a:latin typeface="Arial"/>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onces, “pesimismo de la razón, pero optimismo de la volunt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II</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La buena sociedad supone un Estado fuerte,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un mercado competitivo y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una sociedad civil pluralista</a:t>
            </a:r>
            <a:endParaRPr b="0" lang="en-US" sz="3600" spc="-1" strike="noStrike">
              <a:solidFill>
                <a:srgbClr val="000000"/>
              </a:solidFill>
              <a:latin typeface="Arial"/>
            </a:endParaRPr>
          </a:p>
        </p:txBody>
      </p:sp>
      <p:pic>
        <p:nvPicPr>
          <p:cNvPr id="104" name="" descr=""/>
          <p:cNvPicPr/>
          <p:nvPr/>
        </p:nvPicPr>
        <p:blipFill>
          <a:blip r:embed="rId1"/>
          <a:stretch/>
        </p:blipFill>
        <p:spPr>
          <a:xfrm>
            <a:off x="6019920" y="3557520"/>
            <a:ext cx="1295280" cy="60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tado y mercado</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rticularmente, Etzioni señala que la buena sociedad está más allá del mercado y del Estado. Ni el libre mercado ni la administración pública encuentran soluciones adecuadas a los problemas sociales contemporáneos si desconocen las voces y el aporte de la sociedad civil y sus múltiples organizaci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tado, mercado y tercer sector</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Estado fuerte requiere del crecimiento económico - que le dé sustento material - y de un tamaño que lo haga manejable y flexible en una sociedad cada vez más compleja. </a:t>
            </a: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mercado, a su vez, aporta eficacia, eficiencia, generación de riqueza y libertad de emprender. Sin embargo, el mercado tiende a ser ciego ante  las demandas de los necesitados, a las del medio ambiente y a las geográficas y a las exigencias del mediano y largo plazo. De ahí que se requiera de un Estado que aporte una visión estratégica y ética de bienes y recursos públicos que se ponen al servicio de la socied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mercado y tercer sector</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to con ello se reclama una sociedad organizada, con capacidad de servir el interés publico mediante la cooperación y el enriquecimiento recíproco asumiendo todas aquellas tareas sociales valiosas que el mercado no enfrenta y   que el Estado no puede asumir sin grandes costos y ahogando la autonomía de los cuerpos intermed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do,  mercado y tercer sector</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Estado debe interpretar y dar respuesta a las demandas ciudadanas. Con mayor participación se puede lograr una mayor eficacia y eficiencia en las políticas públicas. Una sociedad fuerte y diversa fortalece la democracia en la medida que dichas comunidades se inspiren en valores pluralistas y que exista una mutua conexión, correspondencia e independencia entre ell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uperar los dualismos: </a:t>
            </a:r>
            <a:br>
              <a:rPr sz="4000"/>
            </a:br>
            <a:r>
              <a:rPr b="0" lang="es-ES_tradnl" sz="4000" spc="-1" strike="noStrike">
                <a:solidFill>
                  <a:srgbClr val="000000"/>
                </a:solidFill>
                <a:latin typeface="Arial"/>
              </a:rPr>
              <a:t>Ni liberales individualistas</a:t>
            </a:r>
            <a:endParaRPr b="0" lang="en-US" sz="4000" spc="-1" strike="noStrike">
              <a:solidFill>
                <a:srgbClr val="000000"/>
              </a:solidFill>
              <a:latin typeface="Arial"/>
            </a:endParaRPr>
          </a:p>
        </p:txBody>
      </p:sp>
      <p:sp>
        <p:nvSpPr>
          <p:cNvPr id="48" name="PlaceHolder 2"/>
          <p:cNvSpPr>
            <a:spLocks noGrp="1"/>
          </p:cNvSpPr>
          <p:nvPr>
            <p:ph/>
          </p:nvPr>
        </p:nvSpPr>
        <p:spPr>
          <a:xfrm>
            <a:off x="456840" y="1600200"/>
            <a:ext cx="6419880" cy="4525920"/>
          </a:xfrm>
          <a:prstGeom prst="rect">
            <a:avLst/>
          </a:prstGeom>
          <a:noFill/>
          <a:ln w="0">
            <a:noFill/>
          </a:ln>
        </p:spPr>
        <p:txBody>
          <a:bodyPr lIns="90000" rIns="90000" tIns="46800" bIns="46800" anchor="t">
            <a:normAutofit fontScale="99000"/>
          </a:bodyPr>
          <a:p>
            <a:pPr marL="3394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600" spc="-1" strike="noStrike">
                <a:solidFill>
                  <a:srgbClr val="000000"/>
                </a:solidFill>
                <a:latin typeface="Arial"/>
              </a:rPr>
              <a:t>Los liberales individualistas son aquellos que proclaman la ampliación de los derechos individuales y las libertades públicas. Ellos ven con mucho recelo la expansión del gobierno, los fanáticos religiosos y las elites políticas. Su lema es la defensa de la autonomía personal. La libertad es un fin en sí mismo, el más alto. Cada cual es dueño de fijar su vida sin aceptar conceptos de buena vida que venga de la política. La libertad se extiende hasta donde no dañe la libertad del otro y nada más. </a:t>
            </a:r>
            <a:endParaRPr b="0" lang="en-US" sz="2600" spc="-1" strike="noStrike">
              <a:solidFill>
                <a:srgbClr val="000000"/>
              </a:solidFill>
              <a:latin typeface="Arial"/>
            </a:endParaRPr>
          </a:p>
        </p:txBody>
      </p:sp>
      <p:pic>
        <p:nvPicPr>
          <p:cNvPr id="49" name="" descr=""/>
          <p:cNvPicPr/>
          <p:nvPr/>
        </p:nvPicPr>
        <p:blipFill>
          <a:blip r:embed="rId1"/>
          <a:stretch/>
        </p:blipFill>
        <p:spPr>
          <a:xfrm>
            <a:off x="7093080" y="2349360"/>
            <a:ext cx="1904760" cy="285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uperar los dualismos:</a:t>
            </a:r>
            <a:br>
              <a:rPr sz="4000"/>
            </a:br>
            <a:r>
              <a:rPr b="0" lang="es-ES_tradnl" sz="4000" spc="-1" strike="noStrike">
                <a:solidFill>
                  <a:srgbClr val="000000"/>
                </a:solidFill>
                <a:latin typeface="Arial"/>
              </a:rPr>
              <a:t>Ni  socialconservadores </a:t>
            </a:r>
            <a:endParaRPr b="0" lang="en-US" sz="4000" spc="-1" strike="noStrike">
              <a:solidFill>
                <a:srgbClr val="000000"/>
              </a:solidFill>
              <a:latin typeface="Arial"/>
            </a:endParaRPr>
          </a:p>
        </p:txBody>
      </p:sp>
      <p:sp>
        <p:nvSpPr>
          <p:cNvPr id="51" name="PlaceHolder 2"/>
          <p:cNvSpPr>
            <a:spLocks noGrp="1"/>
          </p:cNvSpPr>
          <p:nvPr>
            <p:ph/>
          </p:nvPr>
        </p:nvSpPr>
        <p:spPr>
          <a:xfrm>
            <a:off x="456840" y="1600200"/>
            <a:ext cx="6491160" cy="4525920"/>
          </a:xfrm>
          <a:prstGeom prst="rect">
            <a:avLst/>
          </a:prstGeom>
          <a:noFill/>
          <a:ln w="0">
            <a:noFill/>
          </a:ln>
        </p:spPr>
        <p:txBody>
          <a:bodyPr lIns="90000" rIns="90000" tIns="46800" bIns="46800" anchor="t">
            <a:normAutofit fontScale="98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socialconservadores ven como valor cardinal el orden. Una buena sociedad requiere de compromisos morales de sus miembros. En caso contrario surgen el abandono del trabajo, la evasión fiscal, el abuso del alcohol y las drogas, enfermedades psicosomáticas, crisis de la familia, abandono de los niños y empobrecimiento de las mujeres, ampliación de la delincuencia, etc.   Por ello el Estado no sólo tiene el derecho sino que también el deber de imponer coactivamente el orden social. Donde los liberales dicen derechos, los socialconservadores proclaman deberes; donde los liberales proclaman la autonomía, los conservadores exigen orden.</a:t>
            </a:r>
            <a:endParaRPr b="0" lang="en-US" sz="2400" spc="-1" strike="noStrike">
              <a:solidFill>
                <a:srgbClr val="000000"/>
              </a:solidFill>
              <a:latin typeface="Arial"/>
            </a:endParaRPr>
          </a:p>
        </p:txBody>
      </p:sp>
      <p:pic>
        <p:nvPicPr>
          <p:cNvPr id="52" name="" descr=""/>
          <p:cNvPicPr/>
          <p:nvPr/>
        </p:nvPicPr>
        <p:blipFill>
          <a:blip r:embed="rId1"/>
          <a:stretch/>
        </p:blipFill>
        <p:spPr>
          <a:xfrm>
            <a:off x="7093080" y="2349360"/>
            <a:ext cx="1619280" cy="309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32000" y="274320"/>
            <a:ext cx="73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4000" spc="-1" strike="noStrike">
                <a:solidFill>
                  <a:srgbClr val="000000"/>
                </a:solidFill>
                <a:latin typeface="Arial"/>
              </a:rPr>
              <a:t>Una tercer opción:</a:t>
            </a:r>
            <a:br>
              <a:rPr sz="4000"/>
            </a:br>
            <a:r>
              <a:rPr b="0" lang="es-ES_tradnl" sz="3600" spc="-1" strike="noStrike">
                <a:solidFill>
                  <a:srgbClr val="000000"/>
                </a:solidFill>
                <a:latin typeface="Arial"/>
              </a:rPr>
              <a:t>Comunitaria, más acá del conservadulismo.</a:t>
            </a:r>
            <a:br>
              <a:rPr sz="3600"/>
            </a:br>
            <a:endParaRPr b="0" lang="en-US" sz="3600" spc="-1" strike="noStrike">
              <a:solidFill>
                <a:srgbClr val="000000"/>
              </a:solidFill>
              <a:latin typeface="Arial"/>
            </a:endParaRPr>
          </a:p>
        </p:txBody>
      </p:sp>
      <p:sp>
        <p:nvSpPr>
          <p:cNvPr id="54" name="PlaceHolder 2"/>
          <p:cNvSpPr>
            <a:spLocks noGrp="1"/>
          </p:cNvSpPr>
          <p:nvPr>
            <p:ph/>
          </p:nvPr>
        </p:nvSpPr>
        <p:spPr>
          <a:xfrm>
            <a:off x="468360" y="1916280"/>
            <a:ext cx="6059520" cy="452592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diferencias de los comunitaristas con los conservadores  son tres: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Se valora la autonomía personal dándole una importancia central;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Se promueven las virtudes morales, cívicas y sociales mediante la educación, la persuasión, la exhortación y la ejemplaridad (voz moral). Los socialconservadores tienden a utilizar métodos más coactivos y legales (Estado); y </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 descr=""/>
          <p:cNvPicPr/>
          <p:nvPr/>
        </p:nvPicPr>
        <p:blipFill>
          <a:blip r:embed="rId1"/>
          <a:stretch/>
        </p:blipFill>
        <p:spPr>
          <a:xfrm>
            <a:off x="6948360" y="2781360"/>
            <a:ext cx="1800360" cy="2879640"/>
          </a:xfrm>
          <a:prstGeom prst="rect">
            <a:avLst/>
          </a:prstGeom>
          <a:ln w="0">
            <a:noFill/>
          </a:ln>
        </p:spPr>
      </p:pic>
      <p:pic>
        <p:nvPicPr>
          <p:cNvPr id="56" name="" descr=""/>
          <p:cNvPicPr/>
          <p:nvPr/>
        </p:nvPicPr>
        <p:blipFill>
          <a:blip r:embed="rId2"/>
          <a:stretch/>
        </p:blipFill>
        <p:spPr>
          <a:xfrm>
            <a:off x="0" y="0"/>
            <a:ext cx="1187280" cy="148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4000" spc="-1" strike="noStrike">
                <a:solidFill>
                  <a:srgbClr val="000000"/>
                </a:solidFill>
                <a:latin typeface="Arial"/>
              </a:rPr>
              <a:t>Una tercer opción:</a:t>
            </a:r>
            <a:br>
              <a:rPr sz="4000"/>
            </a:br>
            <a:r>
              <a:rPr b="0" lang="es-ES_tradnl" sz="3600" spc="-1" strike="noStrike">
                <a:solidFill>
                  <a:srgbClr val="000000"/>
                </a:solidFill>
                <a:latin typeface="Arial"/>
              </a:rPr>
              <a:t>Comunitaria, más allá del liberalismo.</a:t>
            </a:r>
            <a:br>
              <a:rPr sz="3600"/>
            </a:br>
            <a:endParaRPr b="0" lang="en-US" sz="3600" spc="-1" strike="noStrike">
              <a:solidFill>
                <a:srgbClr val="000000"/>
              </a:solidFill>
              <a:latin typeface="Arial"/>
            </a:endParaRPr>
          </a:p>
        </p:txBody>
      </p:sp>
      <p:sp>
        <p:nvSpPr>
          <p:cNvPr id="58" name="PlaceHolder 2"/>
          <p:cNvSpPr>
            <a:spLocks noGrp="1"/>
          </p:cNvSpPr>
          <p:nvPr>
            <p:ph/>
          </p:nvPr>
        </p:nvSpPr>
        <p:spPr>
          <a:xfrm>
            <a:off x="457200" y="2781000"/>
            <a:ext cx="6059520" cy="334476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 Los valores sociales que promueven los comunitarios son compartidos y menos religiosos, penetrantes y unitarios como los de los socialconservadores. </a:t>
            </a:r>
            <a:endParaRPr b="0" lang="en-US" sz="2400" spc="-1" strike="noStrike">
              <a:solidFill>
                <a:srgbClr val="000000"/>
              </a:solidFill>
              <a:latin typeface="Arial"/>
            </a:endParaRPr>
          </a:p>
        </p:txBody>
      </p:sp>
      <p:pic>
        <p:nvPicPr>
          <p:cNvPr id="59" name="" descr=""/>
          <p:cNvPicPr/>
          <p:nvPr/>
        </p:nvPicPr>
        <p:blipFill>
          <a:blip r:embed="rId1"/>
          <a:stretch/>
        </p:blipFill>
        <p:spPr>
          <a:xfrm>
            <a:off x="6588000" y="2060640"/>
            <a:ext cx="2237040" cy="35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ás allá del liberalismo-individualista</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comunitarios se diferencian de los liberales pu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aloran el orden social y la buena vida en comunidad; </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aloran el papel de las virtudes y promueven el pluralismo limitado por valores socialmente comunes (libertad, igualdad, paz, solidaridad, etc);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 descr=""/>
          <p:cNvPicPr/>
          <p:nvPr/>
        </p:nvPicPr>
        <p:blipFill>
          <a:blip r:embed="rId1"/>
          <a:stretch/>
        </p:blipFill>
        <p:spPr>
          <a:xfrm>
            <a:off x="155520" y="46080"/>
            <a:ext cx="857160" cy="1333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ás allá del liberalismo-individualista</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6275520" cy="4525920"/>
          </a:xfrm>
          <a:prstGeom prst="rect">
            <a:avLst/>
          </a:prstGeom>
          <a:noFill/>
          <a:ln w="0">
            <a:noFill/>
          </a:ln>
        </p:spPr>
        <p:txBody>
          <a:bodyPr lIns="90000" rIns="90000" tIns="46800" bIns="46800" anchor="t">
            <a:normAutofit/>
          </a:bodyPr>
          <a:p>
            <a:pPr marL="380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omunitarios se diferencian de los liberales pues: </a:t>
            </a:r>
            <a:endParaRPr b="0" lang="en-US" sz="2000" spc="-1" strike="noStrike">
              <a:solidFill>
                <a:srgbClr val="000000"/>
              </a:solidFill>
              <a:latin typeface="Arial"/>
            </a:endParaRPr>
          </a:p>
          <a:p>
            <a:pPr marL="380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 </a:t>
            </a:r>
            <a:r>
              <a:rPr b="0" lang="es-ES" sz="2000" spc="-1" strike="noStrike">
                <a:solidFill>
                  <a:srgbClr val="000000"/>
                </a:solidFill>
                <a:latin typeface="Arial"/>
              </a:rPr>
              <a:t>	</a:t>
            </a:r>
            <a:r>
              <a:rPr b="0" lang="es-ES" sz="2000" spc="-1" strike="noStrike">
                <a:solidFill>
                  <a:srgbClr val="000000"/>
                </a:solidFill>
                <a:latin typeface="Arial"/>
              </a:rPr>
              <a:t>Para los comunitarios no basta con el hecho que se ejerza la libertad sin hacer daño (¿qué daño? ¿sólo el físico? ¿también el psicológico? ¿Qué nivel de daño es tolerable? ¿Se reconoce el derecho al suicidio o a autoesclavizarse, si no se daña a nadie? ¿La libertad de expresar pornografía públicamente no atenta contra mi libertad de transitar tranquilamente con mis hijos por las calles?) ;  y </a:t>
            </a:r>
            <a:endParaRPr b="0" lang="en-US" sz="2000" spc="-1" strike="noStrike">
              <a:solidFill>
                <a:srgbClr val="000000"/>
              </a:solidFill>
              <a:latin typeface="Arial"/>
            </a:endParaRPr>
          </a:p>
          <a:p>
            <a:pPr marL="380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  Promueven la buena sociedad pues, en caso contrario, dejada al mero arbitrio de cada cual, la libertad terminará por favorecer a los poderosos y perjudicar a los débiles. </a:t>
            </a:r>
            <a:endParaRPr b="0" lang="en-US" sz="2000" spc="-1" strike="noStrike">
              <a:solidFill>
                <a:srgbClr val="000000"/>
              </a:solidFill>
              <a:latin typeface="Arial"/>
            </a:endParaRPr>
          </a:p>
        </p:txBody>
      </p:sp>
      <p:pic>
        <p:nvPicPr>
          <p:cNvPr id="65" name="" descr=""/>
          <p:cNvPicPr/>
          <p:nvPr/>
        </p:nvPicPr>
        <p:blipFill>
          <a:blip r:embed="rId1"/>
          <a:stretch/>
        </p:blipFill>
        <p:spPr>
          <a:xfrm>
            <a:off x="6732720" y="1844640"/>
            <a:ext cx="1800000" cy="249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I</a:t>
            </a:r>
            <a:endParaRPr b="0" lang="en-US" sz="4400" spc="-1" strike="noStrike">
              <a:solidFill>
                <a:srgbClr val="000000"/>
              </a:solidFill>
              <a:latin typeface="Arial"/>
            </a:endParaRPr>
          </a:p>
        </p:txBody>
      </p:sp>
      <p:sp>
        <p:nvSpPr>
          <p:cNvPr id="67" name="PlaceHolder 2"/>
          <p:cNvSpPr>
            <a:spLocks noGrp="1"/>
          </p:cNvSpPr>
          <p:nvPr>
            <p:ph/>
          </p:nvPr>
        </p:nvSpPr>
        <p:spPr>
          <a:xfrm>
            <a:off x="457200" y="2708280"/>
            <a:ext cx="8229600" cy="341784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rítica al conservadurism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9T21:59:23Z</dcterms:created>
  <dc:creator>Sergio Micco</dc:creator>
  <dc:description/>
  <dc:language>en-US</dc:language>
  <cp:lastModifiedBy>Departamento de Informática</cp:lastModifiedBy>
  <dcterms:modified xsi:type="dcterms:W3CDTF">2006-04-17T15:26:08Z</dcterms:modified>
  <cp:revision>12</cp:revision>
  <dc:subject/>
  <dc:title>Liberales, conservadores y comunitarios</dc:title>
</cp:coreProperties>
</file>