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8E6BF-7AC8-41EA-A795-AB85D38CB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6A81E-88F5-42E9-8A92-8A3303832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72658-21FB-44D7-B765-B7292E43A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7C480-D890-4B49-8F7A-5253C28C7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8A55F-320E-4C04-B981-5EFA441F1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293A6-27E4-4384-A6BB-6FBA10EF5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B9E34-F2C1-41B9-9541-6CA0087EB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3C00F-8035-42A5-BC3F-D4EF53466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5CD05-EE46-4A82-B061-9CB7F58BC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E8DA4-ED2A-43E2-AC20-3F94D381C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606D2-EF37-4BC9-A233-4C09B7CC2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EEF4B-7ABF-4F00-ABD2-EFB13E52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869F3-CD52-4CC9-A272-88E4FC3EF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E237A-3785-44B8-9060-C73FA3C15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DD437-559B-430D-B3C8-309D22351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2FDAC-E825-4876-A35E-74E28045F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23B7E-C3F6-4F5E-984F-A31571EF3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77001-9C62-4A68-B496-6B32E837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2C06-233D-4827-A334-B032B6308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691F9-4298-42F0-B308-D36944C03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8C10E-6410-4BAB-8ABE-F15D561F0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6D635-5B8F-4582-9DE4-D4D181077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99B18-6DC4-4006-95E4-CEA285609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8DBC-7C7E-4390-AEE1-3351949C3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B985-E9D2-48CB-8893-1FBA5666FBBB}"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5EB2-9986-46E9-AFE3-D98BEE1E4ADA}"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8"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 humana</a:t>
            </a:r>
            <a:endParaRPr b="0" lang="en-US" sz="4000" spc="-1" strike="noStrike">
              <a:solidFill>
                <a:srgbClr val="ffcc66"/>
              </a:solidFill>
              <a:latin typeface="Times New Roman"/>
            </a:endParaRPr>
          </a:p>
        </p:txBody>
      </p:sp>
      <p:sp>
        <p:nvSpPr>
          <p:cNvPr id="12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Nuestras opciones de vida buena como, creer en el amor para toda la vida, en la honradez y en el respeto de la palabra empreñada, dependen de las tradiciones culturales en las que nacemos y vivimos. En otras sociedades son distintos los valores que imperan. Y no sería deseable que cada individuo fuese cambiando constante y arbitrariamente dichas concepciones, por mucho que se valore su libertad. Reconocer tal liberal llevaría a la imposibilidad de la convivencia social pacífica.</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a:t>
            </a:r>
            <a:endParaRPr b="0" lang="en-US" sz="4000" spc="-1" strike="noStrike">
              <a:solidFill>
                <a:srgbClr val="ffcc66"/>
              </a:solidFill>
              <a:latin typeface="Times New Roman"/>
            </a:endParaRPr>
          </a:p>
        </p:txBody>
      </p:sp>
      <p:sp>
        <p:nvSpPr>
          <p:cNvPr id="122" name="PlaceHolder 2"/>
          <p:cNvSpPr>
            <a:spLocks noGrp="1"/>
          </p:cNvSpPr>
          <p:nvPr>
            <p:ph/>
          </p:nvPr>
        </p:nvSpPr>
        <p:spPr>
          <a:xfrm>
            <a:off x="1219320" y="1294920"/>
            <a:ext cx="7772400" cy="48006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los liberales reducen la persona al individuo y no perciben que el "yo" en buena parte es fruto de tradiciones, costumbres, ideas y valores comunitarios que no son absolutamente objeto de elección individual, racional y libre. Es cierto que la persona humana tiene por núcleo central su racionalidad, libertad y autonomía. Pero es igualmente cierto que ese hombre que opta es un ser encarnado, con una historia y una cultura, inmerso en distintas relaciones inter-subjetivas que son su punto de pertenencia y de referencia. No entenderlo así, es reducirlo a una abstracción fantasmagórica.</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 éticos</a:t>
            </a:r>
            <a:endParaRPr b="0" lang="en-US" sz="4000" spc="-1" strike="noStrike">
              <a:solidFill>
                <a:srgbClr val="ffcc66"/>
              </a:solidFill>
              <a:latin typeface="Times New Roman"/>
            </a:endParaRPr>
          </a:p>
        </p:txBody>
      </p:sp>
      <p:sp>
        <p:nvSpPr>
          <p:cNvPr id="12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proclama un individualismo asocial que ignora que las comunidades moldean fuertemente la identidad y valores de las personas que las integran. La socialización temprana en la familia, en el barrio, en la parroquia, en la sinagoga y en la escuela nos van constituyendo, dando forma. El pensamiento, el lenguaje y la vida moral son imposibles fuera de la comunidad.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a:t>
            </a:r>
            <a:endParaRPr b="0" lang="en-US" sz="4000" spc="-1" strike="noStrike">
              <a:solidFill>
                <a:srgbClr val="ffcc66"/>
              </a:solidFill>
              <a:latin typeface="Times New Roman"/>
            </a:endParaRPr>
          </a:p>
        </p:txBody>
      </p:sp>
      <p:sp>
        <p:nvSpPr>
          <p:cNvPr id="12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El pensamiento liberal no valora, cuando no olvida, obligaciones y compromisos comunitarios tales como los familiares o nacionales. Así, es sensible a la demanda por los derechos subjetivos, pero impermeable a su contrapartida de deberes y responsabilidades sociales. Así se descuidan, minan y destruyen comunidades esenciales para la buena vida, entre ellas el cuerpo político.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Los valores e intereses que queremos promover a través del cuerpo político no son anteriores a la sociedad. El hombre nace, vive y muere en sociedad. 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30"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fontScale="98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Tal planteamiento comunitario no debe ser confundido con el relativismo ni con la indiferencia escéptica. Una concepción pluralista no es necesariamente relativista como nos lo enseñó Isaiah Berlin. </a:t>
            </a: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Los comunitaristas reclaman contra el subjetivismo presente en los planteamientos liberales. Pareciera ser que los juicios morales que distinguen lo bueno de lo malo son meramente arbitrarios. Dependen del más autónomo de los pareceres de cada individuo. Sin embargo, los comunitaristas sostienen que una vida dedicada a la búsqueda de la belleza, de la bondad y de la verdad es preferible a una hedonista y egoísta.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3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Hay verdades intersubjetivas, modos de vida considerados valiosos por las distintas tradiciones culturales, una de las cuales es el liberalismo. 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3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comunitaristas rechazan el antiperfeccionismo y la neutralidad del Estado promovida por los liberales. Estos últimos sostienen que cada cual es libre de elegir su propio estilo de vida y que no es conveniente, y sí peligroso, darle tal poder al Estado, a quien no le corresponde andar promoviendo ciertos estilos de vida por sobre otros. Sin embargo, los liberales exigen al Estado que imponga la separación de la Iglesia, promueva la justicia y los derechos individuales. Todo ello está muy bien, pero ello significa en los hechos que el Estado no es siempre neutral.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3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4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4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CL" sz="32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4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45" name=""/>
          <p:cNvSpPr/>
          <p:nvPr/>
        </p:nvSpPr>
        <p:spPr>
          <a:xfrm>
            <a:off x="1143000" y="1447920"/>
            <a:ext cx="74674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En esta visión, la sociedad aparece integrada por individuos que pueden vivir fuera de ella, lo cual es absurdo. 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4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4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49" name=""/>
          <p:cNvSpPr/>
          <p:nvPr/>
        </p:nvSpPr>
        <p:spPr>
          <a:xfrm>
            <a:off x="1219320" y="1676520"/>
            <a:ext cx="792468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52"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5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56" name=""/>
          <p:cNvSpPr/>
          <p:nvPr/>
        </p:nvSpPr>
        <p:spPr>
          <a:xfrm>
            <a:off x="1523880" y="1447920"/>
            <a:ext cx="76201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5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0" name=""/>
          <p:cNvSpPr/>
          <p:nvPr/>
        </p:nvSpPr>
        <p:spPr>
          <a:xfrm>
            <a:off x="1219320" y="144792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61"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6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4"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6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8"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Por último, señalamos que este filósofo cuestiona a quienes, valorando sinceramente la libertad, olvidan la deuda que ella tiene para con la sociedad occidental. En efecto, Charles Taylor plantea que la capacidad de ser libres se desarrolla en el ámbito de una civilización con determinadas características. La libertad surge en el mundo occidental como una conquista histórica alcanzada a través de un largo proceso de reformas políticas, sociales, culturales, artísticas y filosóficas. 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9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6"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Algunas ideas de Charles Taylor</a:t>
            </a:r>
            <a:endParaRPr b="0" lang="en-US" sz="3600" spc="-1" strike="noStrike">
              <a:solidFill>
                <a:srgbClr val="ffcc66"/>
              </a:solidFill>
              <a:latin typeface="Times New Roman"/>
            </a:endParaRPr>
          </a:p>
        </p:txBody>
      </p:sp>
      <p:sp>
        <p:nvSpPr>
          <p:cNvPr id="17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2"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7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17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6"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9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1"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2"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04"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5" name=""/>
          <p:cNvSpPr/>
          <p:nvPr/>
        </p:nvSpPr>
        <p:spPr>
          <a:xfrm>
            <a:off x="1143000" y="2055960"/>
            <a:ext cx="76960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y a los lazos sociales -en el caso de los comunitaristas asiáticos también valoran la armonía social-, elementos negados por las ideologías individualistas. Además, se preocupan por el balance entre las fuerzas sociales y la persona, entre la comunidad y la autonomía, entre el bien común y la libertad, entre los derechos individuales y las responsabilidades soci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07"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8" name=""/>
          <p:cNvSpPr/>
          <p:nvPr/>
        </p:nvSpPr>
        <p:spPr>
          <a:xfrm>
            <a:off x="1143000" y="1447920"/>
            <a:ext cx="76960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1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Departamento de Informática</cp:lastModifiedBy>
  <dcterms:modified xsi:type="dcterms:W3CDTF">2006-04-17T15:28:22Z</dcterms:modified>
  <cp:revision>22</cp:revision>
  <dc:subject/>
  <dc:title>Michael Walzer  </dc:title>
</cp:coreProperties>
</file>