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55A9F7-0FC3-4E75-9373-371D50B5CD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A9F3D-C096-4232-93F8-2CF2DE963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66FB1D-09AD-4299-8A01-7A41BA61E9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4EE86C-6840-41AC-B3DC-CD08446B9E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EFF92E-CA70-447C-8B22-1D5FC0CE1A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5"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ED3152-FF7D-467E-BF91-D2FF9B0031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82FDD2-8C24-4816-AD7D-0CD2F72A45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F36A5D-B459-48BC-BCB6-8E2A95D82B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C80749-C3E7-4CE2-A6BC-17CB0DB6C2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556C3A-6F3B-49C4-B01A-C6F3296A4F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58A19E-4A82-4598-AC80-EEA63DA062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863D4-B723-4716-BD8B-DE0AF75E5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436C7C-DA21-47CF-B513-CF975CF14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C1B0F3-1BE7-4BAD-BD5F-27AE6F908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99179D-7E76-4D68-A8D9-CC1F839ED7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48E170-C5F9-4090-9B7E-C7587AB733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4E07C9-F70D-45AC-B469-978B7410AA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E6DE8-E0C0-4D0D-AC93-B260872C1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4B9AD-6E94-41AD-B4AF-BEB98DE3D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57800-8C1F-4983-A08A-10D949CED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1FE47-134B-4703-838D-E2D92286B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3D1C3-C733-4E28-8E3A-38967DD03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9B56C-13AE-4EDF-BEEF-6107A9CBD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857F9-D531-44F3-ABC2-EB0E43BFAD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0" y="0"/>
            <a:ext cx="1143000" cy="6856560"/>
            <a:chOff x="0" y="0"/>
            <a:chExt cx="1143000" cy="6856560"/>
          </a:xfrm>
        </p:grpSpPr>
        <p:sp>
          <p:nvSpPr>
            <p:cNvPr id="1" name=""/>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 name="" descr=""/>
            <p:cNvPicPr/>
            <p:nvPr/>
          </p:nvPicPr>
          <p:blipFill>
            <a:blip r:embed="rId2"/>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5605B-29CA-4AC8-9409-BE29D21EA506}"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1828800" cy="6856560"/>
            <a:chOff x="0" y="0"/>
            <a:chExt cx="1828800" cy="6856560"/>
          </a:xfrm>
        </p:grpSpPr>
        <p:sp>
          <p:nvSpPr>
            <p:cNvPr id="46" name=""/>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 name=""/>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8" name=""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0" name="PlaceHolder 2"/>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40B75-8D7A-4426-B981-FC9D2A01D510}"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eaeaea"/>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ffcc66"/>
                </a:solidFill>
                <a:latin typeface="Times New Roman"/>
              </a:rPr>
              <a:t>Charles Taylor</a:t>
            </a:r>
            <a:br>
              <a:rPr sz="6000"/>
            </a:br>
            <a:endParaRPr b="0" lang="en-US" sz="6000" spc="-1" strike="noStrike">
              <a:solidFill>
                <a:srgbClr val="ffcc66"/>
              </a:solidFill>
              <a:latin typeface="Times New Roman"/>
            </a:endParaRPr>
          </a:p>
        </p:txBody>
      </p:sp>
      <p:sp>
        <p:nvSpPr>
          <p:cNvPr id="91" name="PlaceHolder 2"/>
          <p:cNvSpPr>
            <a:spLocks noGrp="1"/>
          </p:cNvSpPr>
          <p:nvPr>
            <p:ph type="subTitle"/>
          </p:nvPr>
        </p:nvSpPr>
        <p:spPr>
          <a:xfrm>
            <a:off x="1911240" y="3968280"/>
            <a:ext cx="640080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De la crítica comunitaria al liberalismo individualista</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Qué podemos entender por liberalismo?</a:t>
            </a:r>
            <a:endParaRPr b="0" lang="en-US" sz="3600" spc="-1" strike="noStrike">
              <a:solidFill>
                <a:srgbClr val="ffcc66"/>
              </a:solidFill>
              <a:latin typeface="Times New Roman"/>
            </a:endParaRPr>
          </a:p>
        </p:txBody>
      </p:sp>
      <p:sp>
        <p:nvSpPr>
          <p:cNvPr id="11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18" name=""/>
          <p:cNvSpPr/>
          <p:nvPr/>
        </p:nvSpPr>
        <p:spPr>
          <a:xfrm>
            <a:off x="1295280" y="1447920"/>
            <a:ext cx="762012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Se pueden pueden constatar ciertos temas que unen a Adam Smith, John Locke, Benjamín Constant, James Madison, Emmanuel Kant, David Hume, John Stuart Mill, entre otros.</a:t>
            </a:r>
            <a:endParaRPr b="0" lang="en-US" sz="2400" spc="-1" strike="noStrike">
              <a:solidFill>
                <a:srgbClr val="eaeaea"/>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1.- Defensa de los derechos individuales conculcados por los despotismos. Dichos derechos surgen de la naturaleza propia del hombre; y</a:t>
            </a:r>
            <a:endParaRPr b="0" lang="en-US" sz="2400" spc="-1" strike="noStrike">
              <a:solidFill>
                <a:srgbClr val="eaeaea"/>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2.- Rechazo a la idea de objetividad en el campo valórico, tanto individual como colectivo.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Primera crítica: concepción de la persona humana</a:t>
            </a:r>
            <a:endParaRPr b="0" lang="en-US" sz="4000" spc="-1" strike="noStrike">
              <a:solidFill>
                <a:srgbClr val="ffcc66"/>
              </a:solidFill>
              <a:latin typeface="Times New Roman"/>
            </a:endParaRPr>
          </a:p>
        </p:txBody>
      </p:sp>
      <p:sp>
        <p:nvSpPr>
          <p:cNvPr id="120"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Nuestras opciones de vida buena como, creer en el amor para toda la vida, en la honradez y en el respeto de la palabra empreñada, dependen de las tradiciones culturales en las que nacemos y vivimos. En otras sociedades son distintos los valores que imperan. Y no sería deseable que cada individuo fuese cambiando constante y arbitrariamente dichas concepciones, por mucho que se valore su libertad. Reconocer tal liberal llevaría a la imposibilidad de la convivencia social pacífica.</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Primera crítica</a:t>
            </a:r>
            <a:endParaRPr b="0" lang="en-US" sz="4000" spc="-1" strike="noStrike">
              <a:solidFill>
                <a:srgbClr val="ffcc66"/>
              </a:solidFill>
              <a:latin typeface="Times New Roman"/>
            </a:endParaRPr>
          </a:p>
        </p:txBody>
      </p:sp>
      <p:sp>
        <p:nvSpPr>
          <p:cNvPr id="122" name="PlaceHolder 2"/>
          <p:cNvSpPr>
            <a:spLocks noGrp="1"/>
          </p:cNvSpPr>
          <p:nvPr>
            <p:ph/>
          </p:nvPr>
        </p:nvSpPr>
        <p:spPr>
          <a:xfrm>
            <a:off x="1219320" y="1294920"/>
            <a:ext cx="7772400" cy="48006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Así, los liberales reducen la persona al individuo y no perciben que el "yo" en buena parte es fruto de tradiciones, costumbres, ideas y valores comunitarios que no son absolutamente objeto de elección individual, racional y libre. Es cierto que la persona humana tiene por núcleo central su racionalidad, libertad y autonomía. Pero es igualmente cierto que ese hombre que opta es un ser encarnado, con una historia y una cultura, inmerso en distintas relaciones inter-subjetivas que son su punto de pertenencia y de referencia. No entenderlo así, es reducirlo a una abstracción fantasmagórica.</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Segunda  crítica: los deberes éticos</a:t>
            </a:r>
            <a:endParaRPr b="0" lang="en-US" sz="4000" spc="-1" strike="noStrike">
              <a:solidFill>
                <a:srgbClr val="ffcc66"/>
              </a:solidFill>
              <a:latin typeface="Times New Roman"/>
            </a:endParaRPr>
          </a:p>
        </p:txBody>
      </p:sp>
      <p:sp>
        <p:nvSpPr>
          <p:cNvPr id="124"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El liberalismo proclama un individualismo asocial que ignora que las comunidades moldean fuertemente la identidad y valores de las personas que las integran. La socialización temprana en la familia, en el barrio, en la parroquia, en la sinagoga y en la escuela nos van constituyendo, dando forma. El pensamiento, el lenguaje y la vida moral son imposibles fuera de la comunidad. </a:t>
            </a:r>
            <a:endParaRPr b="0" lang="en-US" sz="2800" spc="-1" strike="noStrike">
              <a:solidFill>
                <a:srgbClr val="eaeaea"/>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Segunda  crítica</a:t>
            </a:r>
            <a:endParaRPr b="0" lang="en-US" sz="4000" spc="-1" strike="noStrike">
              <a:solidFill>
                <a:srgbClr val="ffcc66"/>
              </a:solidFill>
              <a:latin typeface="Times New Roman"/>
            </a:endParaRPr>
          </a:p>
        </p:txBody>
      </p:sp>
      <p:sp>
        <p:nvSpPr>
          <p:cNvPr id="12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aeaea"/>
                </a:solidFill>
                <a:latin typeface="Times New Roman"/>
                <a:ea typeface="Times New Roman"/>
              </a:rPr>
              <a:t>El pensamiento liberal no valora, cuando no olvida, obligaciones y compromisos comunitarios tales como los familiares o nacionales. Así, es sensible a la demanda por los derechos subjetivos, pero impermeable a su contrapartida de deberes y responsabilidades sociales. Así se descuidan, minan y destruyen comunidades esenciales para la buena vida, entre ellas el cuerpo político.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Tercera crítica: la esfera pública</a:t>
            </a:r>
            <a:endParaRPr b="0" lang="en-US" sz="4000" spc="-1" strike="noStrike">
              <a:solidFill>
                <a:srgbClr val="ffcc66"/>
              </a:solidFill>
              <a:latin typeface="Times New Roman"/>
            </a:endParaRPr>
          </a:p>
        </p:txBody>
      </p:sp>
      <p:sp>
        <p:nvSpPr>
          <p:cNvPr id="12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fontScale="96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El liberalismo menosprecia la vida política y por ello recurre a una explicación contractualista del origen de la asociación política. Se presenta a los individuos como seres pre-sociales que crean la asociación política como simple instrumento al servicio de sus derechos individuales. Los valores e intereses que queremos promover a través del cuerpo político no son anteriores a la sociedad. El hombre nace, vive y muere en sociedad. En particular la vida política tiene un enorme valor en sí misma y es mucho más que un simple instrumento para garantizar los intereses particulare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Cuarta crítica: falso universalismo</a:t>
            </a:r>
            <a:endParaRPr b="0" lang="en-US" sz="4000" spc="-1" strike="noStrike">
              <a:solidFill>
                <a:srgbClr val="ffcc66"/>
              </a:solidFill>
              <a:latin typeface="Times New Roman"/>
            </a:endParaRPr>
          </a:p>
        </p:txBody>
      </p:sp>
      <p:sp>
        <p:nvSpPr>
          <p:cNvPr id="130" name="PlaceHolder 2"/>
          <p:cNvSpPr>
            <a:spLocks noGrp="1"/>
          </p:cNvSpPr>
          <p:nvPr>
            <p:ph/>
          </p:nvPr>
        </p:nvSpPr>
        <p:spPr>
          <a:xfrm>
            <a:off x="1218960" y="1371600"/>
            <a:ext cx="7924680" cy="5029200"/>
          </a:xfrm>
          <a:prstGeom prst="rect">
            <a:avLst/>
          </a:prstGeom>
          <a:noFill/>
          <a:ln w="0">
            <a:noFill/>
          </a:ln>
        </p:spPr>
        <p:txBody>
          <a:bodyPr lIns="90000" rIns="90000" tIns="46800" bIns="46800" anchor="t">
            <a:normAutofit fontScale="98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os liberales creen defender una concepción de la persona como universalista y transcultural. Sin embargo, los valores e intereses que el liberalismo proclama tales como la libertad, la igualdad, los derechos individuales, la libertad religiosa y el Estado neutral existen sólo y en la medida que un determinado tipo sociedad los respete y promueva (el Estado liberal occidental y contemporáneo). Tal planteamiento comunitario no debe ser confundido con el relativismo ni con la indiferencia escéptica. Una concepción pluralista no es necesariamente relativista como nos lo enseñó Isaiah Berlin. </a:t>
            </a:r>
            <a:br>
              <a:rPr sz="2800"/>
            </a:b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Quinta crítica: contra el subjetivismo </a:t>
            </a:r>
            <a:endParaRPr b="0" lang="en-US" sz="4000" spc="-1" strike="noStrike">
              <a:solidFill>
                <a:srgbClr val="ffcc66"/>
              </a:solidFill>
              <a:latin typeface="Times New Roman"/>
            </a:endParaRPr>
          </a:p>
        </p:txBody>
      </p:sp>
      <p:sp>
        <p:nvSpPr>
          <p:cNvPr id="13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aeaea"/>
                </a:solidFill>
                <a:latin typeface="Times New Roman"/>
                <a:ea typeface="Times New Roman"/>
              </a:rPr>
              <a:t>Los comunitaristas reclaman contra el subjetivismo presente en los planteamientos liberales. Pareciera ser que los juicios morales que distinguen lo bueno de lo malo son meramente arbitrarios. Dependen del más autónomo de los pareceres de cada individuo. Sin embargo, los comunitaristas sostienen que una vida dedicada a la búsqueda de la belleza, de la bondad y de la verdad es preferible a una hedonista y egoísta.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Quinta crítica</a:t>
            </a:r>
            <a:endParaRPr b="0" lang="en-US" sz="4000" spc="-1" strike="noStrike">
              <a:solidFill>
                <a:srgbClr val="ffcc66"/>
              </a:solidFill>
              <a:latin typeface="Times New Roman"/>
            </a:endParaRPr>
          </a:p>
        </p:txBody>
      </p:sp>
      <p:sp>
        <p:nvSpPr>
          <p:cNvPr id="134"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fontScale="95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De hecho, los liberales creen que un Estado democrático es mejor que uno autocrático. Si todo es arbitrario no se ve por qué los liberales aprecian tanto la libertad de cambiar los propios valores si ellos siempre son arbitrarios. Por lo tanto, no todo es subjetivo. Hay verdades intersubjetivas, modos de vida considerados valiosos por las distintas tradiciones culturales, una de las cuales es el liberalismo. Otra cosa distinta es propugnar, cosa que los comunitaristas no proclaman, que el Estado coercitivamente imponga esos estilos de vida particulares por considerarlos buenos.</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Sexta crítica: el antiestatismo</a:t>
            </a:r>
            <a:endParaRPr b="0" lang="en-US" sz="4000" spc="-1" strike="noStrike">
              <a:solidFill>
                <a:srgbClr val="ffcc66"/>
              </a:solidFill>
              <a:latin typeface="Times New Roman"/>
            </a:endParaRPr>
          </a:p>
        </p:txBody>
      </p:sp>
      <p:sp>
        <p:nvSpPr>
          <p:cNvPr id="13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fontScale="97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os comunitaristas rechazan el antiperfeccionismo y la neutralidad del Estado promovida por los liberales. Estos últimos sostienen que cada cual es libre de elegir su propio estilo de vida y que no es conveniente, y sí peligroso, darle tal poder al Estado, a quien no le corresponde andar promoviendo ciertos estilos de vida por sobre otros. Sin embargo, los liberales exigen al Estado que imponga la separación de la Iglesia, promueva la justicia y los derechos individuales. Todo ello está muy bien, pero ello significa en los hechos que el Estado no es siempre neutral.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Recordemos sus obras...</a:t>
            </a:r>
            <a:endParaRPr b="0" lang="en-US" sz="3600" spc="-1" strike="noStrike">
              <a:solidFill>
                <a:srgbClr val="ffcc66"/>
              </a:solidFill>
              <a:latin typeface="Times New Roman"/>
            </a:endParaRPr>
          </a:p>
        </p:txBody>
      </p:sp>
      <p:sp>
        <p:nvSpPr>
          <p:cNvPr id="9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Charles Taylor es un pensador católico canadiense de Quebec. Encontramos actualmente en librerías los siguientes libros: </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Taylor, Fuentes del Yo, Paidós, Barcelona, España, 1996; </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La Ética de la Autenticidad, Paidós, Barcelona, España, 1996 y </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Argumentos Filosóficos, Paidós, Barcelona, 1997.</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Sexta crítica</a:t>
            </a:r>
            <a:endParaRPr b="0" lang="en-US" sz="4000" spc="-1" strike="noStrike">
              <a:solidFill>
                <a:srgbClr val="ffcc66"/>
              </a:solidFill>
              <a:latin typeface="Times New Roman"/>
            </a:endParaRPr>
          </a:p>
        </p:txBody>
      </p:sp>
      <p:sp>
        <p:nvSpPr>
          <p:cNvPr id="13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aeaea"/>
                </a:solidFill>
                <a:latin typeface="Times New Roman"/>
                <a:ea typeface="Times New Roman"/>
              </a:rPr>
              <a:t>De hecho, y por ejemplo, se promueve el matrimonio monogámico por considerarlo el único que respeta la igualdad, no así el poligámico o poliándrico. Además los comunitaristas dicen que sin el apoyo del Estado determinados estilos de vida, las artes y la cultura de élite o locales por ejemplo, desaparecerían.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Séptima crítica: su concepción de la justicia</a:t>
            </a:r>
            <a:endParaRPr b="0" lang="en-US" sz="3600" spc="-1" strike="noStrike">
              <a:solidFill>
                <a:srgbClr val="ffcc66"/>
              </a:solidFill>
              <a:latin typeface="Times New Roman"/>
            </a:endParaRPr>
          </a:p>
        </p:txBody>
      </p:sp>
      <p:sp>
        <p:nvSpPr>
          <p:cNvPr id="140"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fontScale="97000"/>
          </a:bodyPr>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CL" sz="2800" spc="-1" strike="noStrike">
                <a:solidFill>
                  <a:srgbClr val="eaeaea"/>
                </a:solidFill>
                <a:latin typeface="Times New Roman"/>
                <a:ea typeface="Times New Roman"/>
              </a:rPr>
              <a:t>Incluso la filosofía política liberal más avanzada y preocupada de la sociedad, encarnada especialmente por el filósofo John Rawls, presenta la justi­cia como "la primera virtud de las instituciones sociales", cuando en realidad es una virtud reparadora, que no reemplaza ni es preeminente a los valores de la amistad cívica, la comunidad y la solidaridad, destacados ya desde Aristóteles. El estagirita señala en la Ética a Nicómaco, que cuando los hombres son amigos no necesitan de la justicia, en tanto que cuando son justos requieren también de la amistad.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Séptima crítica</a:t>
            </a:r>
            <a:endParaRPr b="0" lang="en-US" sz="3600" spc="-1" strike="noStrike">
              <a:solidFill>
                <a:srgbClr val="ffcc66"/>
              </a:solidFill>
              <a:latin typeface="Times New Roman"/>
            </a:endParaRPr>
          </a:p>
        </p:txBody>
      </p:sp>
      <p:sp>
        <p:nvSpPr>
          <p:cNvPr id="142"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CL" sz="3200" spc="-1" strike="noStrike">
                <a:solidFill>
                  <a:srgbClr val="eaeaea"/>
                </a:solidFill>
                <a:latin typeface="Times New Roman"/>
                <a:ea typeface="Times New Roman"/>
              </a:rPr>
              <a:t>El cristianismo, por su parte, eleva el amor al prójimo a la categoría ética fundamental, más allá de la justicia y de dar lo debido. Si necesitamos andar litigando y buscando la justicia por los caminos del derecho, es porque el amor ha fallado.</a:t>
            </a:r>
            <a:r>
              <a:rPr b="0" lang="en-US" sz="3200" spc="-1" strike="noStrike">
                <a:solidFill>
                  <a:srgbClr val="eaeaea"/>
                </a:solidFill>
                <a:latin typeface="Times New Roman"/>
              </a:rPr>
              <a:t> </a:t>
            </a:r>
            <a:endParaRPr b="0" lang="en-US" sz="3200" spc="-1" strike="noStrike">
              <a:solidFill>
                <a:srgbClr val="eaeaea"/>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Algunas ideas de Charles Taylor</a:t>
            </a:r>
            <a:endParaRPr b="0" lang="en-US" sz="3600" spc="-1" strike="noStrike">
              <a:solidFill>
                <a:srgbClr val="ffcc66"/>
              </a:solidFill>
              <a:latin typeface="Times New Roman"/>
            </a:endParaRPr>
          </a:p>
        </p:txBody>
      </p:sp>
      <p:sp>
        <p:nvSpPr>
          <p:cNvPr id="144"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45" name=""/>
          <p:cNvSpPr/>
          <p:nvPr/>
        </p:nvSpPr>
        <p:spPr>
          <a:xfrm>
            <a:off x="1143000" y="1447920"/>
            <a:ext cx="746748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Taylor valora la modernidad, el liberalismo y los derechos individuales, pero cuestiona el individualismo asocial y el atomismo. Su visión es holista, vale decir, releva el valor de la sociedad. Así, critica reducir el objetivo del Bien Común simplemente a la defensa y protección del individuo, para que éste elabore y realice planes de vida particulares. En esta visión, la sociedad aparece integrada por individuos que pueden vivir fuera de ella, lo cual es absurdo. Además, la pone en tela de juicio por el hecho de que los individuos aparecen simplemente valorando sus planes individuales y sin tener valores comunitarios, lo que le parece éticamente inaceptable y empíricamente dudoso.</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p:txBody>
      </p:sp>
      <p:sp>
        <p:nvSpPr>
          <p:cNvPr id="146"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Algunas ideas de Charles Taylor</a:t>
            </a:r>
            <a:endParaRPr b="0" lang="en-US" sz="3600" spc="-1" strike="noStrike">
              <a:solidFill>
                <a:srgbClr val="ffcc66"/>
              </a:solidFill>
              <a:latin typeface="Times New Roman"/>
            </a:endParaRPr>
          </a:p>
        </p:txBody>
      </p:sp>
      <p:sp>
        <p:nvSpPr>
          <p:cNvPr id="148"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49" name=""/>
          <p:cNvSpPr/>
          <p:nvPr/>
        </p:nvSpPr>
        <p:spPr>
          <a:xfrm>
            <a:off x="1219320" y="1676520"/>
            <a:ext cx="7924680" cy="4254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La democracia reducida a reglas y procedimientos que garantizan el derecho de los individuos a definir sus planes de vida, también es fuertemente criticada por este autor. Según John Rawls, convergemos en la regla de derecho porque sólo esto tenemos en común en una sociedad pluralista, en la cual son múltiples los credos éticos, filosóficos y religiosos. Lo que se requiere es un Estado laico y una democracia procedimental, donde las ideas de todos tengan cabida. No pudiendo compartir una misma concepción integral del bien, sí podemos tener un acuerdo respecto a un consenso mínimo superpuesto.</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eaeaea"/>
                </a:solidFill>
                <a:latin typeface="Times New Roman"/>
                <a:ea typeface="Times New Roman"/>
              </a:rPr>
              <a:t> </a:t>
            </a:r>
            <a:endParaRPr b="0" lang="en-US" sz="9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Algunas ideas de Charles Taylor</a:t>
            </a:r>
            <a:endParaRPr b="0" lang="en-US" sz="3600" spc="-1" strike="noStrike">
              <a:solidFill>
                <a:srgbClr val="ffcc66"/>
              </a:solidFill>
              <a:latin typeface="Times New Roman"/>
            </a:endParaRPr>
          </a:p>
        </p:txBody>
      </p:sp>
      <p:sp>
        <p:nvSpPr>
          <p:cNvPr id="151"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52" name=""/>
          <p:cNvSpPr/>
          <p:nvPr/>
        </p:nvSpPr>
        <p:spPr>
          <a:xfrm>
            <a:off x="1143000" y="2133720"/>
            <a:ext cx="80010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Taylor valora el esfuerzo de Rawls, pero lo cuestiona, pues sostiene que no es históricamente cierto que este consenso se agote en la regla de derecho. Así, menciona sociedades modernas en las cuales la solidari­dad, la participación en el autogobierno y la defensa de culturas nacionales y regionales son parte del consenso societal.</a:t>
            </a:r>
            <a:endParaRPr b="0" lang="en-US" sz="2400" spc="-1" strike="noStrike">
              <a:solidFill>
                <a:srgbClr val="eaeaea"/>
              </a:solidFill>
              <a:latin typeface="Times New Roman"/>
            </a:endParaRPr>
          </a:p>
        </p:txBody>
      </p:sp>
      <p:sp>
        <p:nvSpPr>
          <p:cNvPr id="153"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Algunas ideas de Charles Taylor</a:t>
            </a:r>
            <a:endParaRPr b="0" lang="en-US" sz="3600" spc="-1" strike="noStrike">
              <a:solidFill>
                <a:srgbClr val="ffcc66"/>
              </a:solidFill>
              <a:latin typeface="Times New Roman"/>
            </a:endParaRPr>
          </a:p>
        </p:txBody>
      </p:sp>
      <p:sp>
        <p:nvSpPr>
          <p:cNvPr id="155"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56" name=""/>
          <p:cNvSpPr/>
          <p:nvPr/>
        </p:nvSpPr>
        <p:spPr>
          <a:xfrm>
            <a:off x="1523880" y="1447920"/>
            <a:ext cx="762012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Por otra parte, a nivel ya no histórico sino filosófico, Taylor señala que es igualmente falso el planteamiento que sostiene que la norma de derecho está sobre el concepto de bien. Ello porque, para Rawls, la pregunta del derecho –“cómo debo ac­tuar para los demás"- se impo­ne a la pregunta del bien -"cuáles son las cosas buenas que debo buscar en la vida"-. Las razones que da Rawls son de peso. Todo hombre maduro tiene el derecho a definir su propio concepto de bien, siem­pre que no dañe al otro. En una sociedad pluralista y relativista, un bien supremo es intolerable. Por último, aceptar una visión del bien, aunque sea la de la mayoría, puede constituir un acto de violencia e injusticia flagrantes para quienes no la compartan. Estos son los fundamentos sólidos de un “liberalismo neutro”. </a:t>
            </a:r>
            <a:endParaRPr b="0" lang="en-US" sz="2400" spc="-1" strike="noStrike">
              <a:solidFill>
                <a:srgbClr val="eaeaea"/>
              </a:solidFill>
              <a:latin typeface="Times New Roman"/>
            </a:endParaRPr>
          </a:p>
        </p:txBody>
      </p:sp>
      <p:sp>
        <p:nvSpPr>
          <p:cNvPr id="157"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Algunas ideas de Charles Taylor</a:t>
            </a:r>
            <a:endParaRPr b="0" lang="en-US" sz="3600" spc="-1" strike="noStrike">
              <a:solidFill>
                <a:srgbClr val="ffcc66"/>
              </a:solidFill>
              <a:latin typeface="Times New Roman"/>
            </a:endParaRPr>
          </a:p>
        </p:txBody>
      </p:sp>
      <p:sp>
        <p:nvSpPr>
          <p:cNvPr id="159"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60" name=""/>
          <p:cNvSpPr/>
          <p:nvPr/>
        </p:nvSpPr>
        <p:spPr>
          <a:xfrm>
            <a:off x="1219320" y="1447920"/>
            <a:ext cx="723888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Sin embargo, Taylor expresa que hay bienes que sólo se pueden perseguir en común, por ejemplo la ecología o la defensa de la identidad regional, por lo que se impone un concepto compartido de bien, ante el cual no se podría ser neutral. Frente a estos bienes comunes, como la iden­tidad nacional, la neutralidad del gobierno acarrearía su des­trucción. Además, una cosa es coaccionar a favor de un bien y otra muy distinta es alentarlo, favorecerlo o estimu­larlo positivamente, rompiendo así la neutralidad.</a:t>
            </a:r>
            <a:endParaRPr b="0" lang="en-US" sz="2400" spc="-1" strike="noStrike">
              <a:solidFill>
                <a:srgbClr val="eaeaea"/>
              </a:solidFill>
              <a:latin typeface="Times New Roman"/>
            </a:endParaRPr>
          </a:p>
        </p:txBody>
      </p:sp>
      <p:sp>
        <p:nvSpPr>
          <p:cNvPr id="161"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Algunas ideas de Charles Taylor</a:t>
            </a:r>
            <a:endParaRPr b="0" lang="en-US" sz="3600" spc="-1" strike="noStrike">
              <a:solidFill>
                <a:srgbClr val="ffcc66"/>
              </a:solidFill>
              <a:latin typeface="Times New Roman"/>
            </a:endParaRPr>
          </a:p>
        </p:txBody>
      </p:sp>
      <p:sp>
        <p:nvSpPr>
          <p:cNvPr id="163"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64" name=""/>
          <p:cNvSpPr/>
          <p:nvPr/>
        </p:nvSpPr>
        <p:spPr>
          <a:xfrm>
            <a:off x="1219320" y="1447920"/>
            <a:ext cx="723888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Los comunitarios están cons­cientes de que los bienes y las jerarquías de valores son relati­vos a los distintos contextos y circunstancias. Sin embargo, no son relativistas, pues sostienen que en cada circunstancia y contexto se puede y se debe optar entre las distintas visiones morales en disputa. Cuando “todo es relativo” -por lo demás una contradicción en los términos-, podemos caer en la indi­ferencia y en aceptarlo todo, facilitando el advenimiento de los totalitarismos.</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5"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Algunas ideas de Charles Taylor</a:t>
            </a:r>
            <a:endParaRPr b="0" lang="en-US" sz="3600" spc="-1" strike="noStrike">
              <a:solidFill>
                <a:srgbClr val="ffcc66"/>
              </a:solidFill>
              <a:latin typeface="Times New Roman"/>
            </a:endParaRPr>
          </a:p>
        </p:txBody>
      </p:sp>
      <p:sp>
        <p:nvSpPr>
          <p:cNvPr id="167"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68" name=""/>
          <p:cNvSpPr/>
          <p:nvPr/>
        </p:nvSpPr>
        <p:spPr>
          <a:xfrm>
            <a:off x="1219320" y="1447920"/>
            <a:ext cx="723888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Por último, señalamos que este filósofo cuestiona a quienes, valorando sinceramente la libertad, olvidan la deuda que ella tiene para con la sociedad occidental. En efecto, Charles Taylor plantea que la capacidad de ser libres se desarrolla en el ámbito de una civilización con determinadas características. La libertad surge en el mundo occidental como una conquista histórica alcanzada a través de un largo proceso de reformas políticas, sociales, culturales, artísticas y filosóficas. Por ello, quien valora la libertad y no quiere asumir sus responsabili­dades para con la sociedad, probablemente está erosionando aquello que hizo posible la conquista de la primera.</a:t>
            </a:r>
            <a:r>
              <a:rPr b="0" lang="en-US"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9"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os fundamentos teóricos lejanos</a:t>
            </a:r>
            <a:endParaRPr b="0" lang="en-US" sz="3600" spc="-1" strike="noStrike">
              <a:solidFill>
                <a:srgbClr val="ffcc66"/>
              </a:solidFill>
              <a:latin typeface="Times New Roman"/>
            </a:endParaRPr>
          </a:p>
        </p:txBody>
      </p:sp>
      <p:sp>
        <p:nvSpPr>
          <p:cNvPr id="95"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96" name=""/>
          <p:cNvSpPr/>
          <p:nvPr/>
        </p:nvSpPr>
        <p:spPr>
          <a:xfrm>
            <a:off x="1143000" y="2055960"/>
            <a:ext cx="76960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Charles Taylor y los comunitaristas reconocen que sus ideas pueden ser encontradas a través de la historia: en los antiguos griegos –en las comparaciones de la vida en ciudades grandes y pequeñas en Aristóteles-, en el Nuevo y Viejo Testamento, en el pensamiento católico social y en los primeros sociólogos –como Ferdinand Tönnies, Emile Durkheim, Talcott Parsons, William Kornhauser-.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Algunas ideas de Charles Taylor</a:t>
            </a:r>
            <a:endParaRPr b="0" lang="en-US" sz="3600" spc="-1" strike="noStrike">
              <a:solidFill>
                <a:srgbClr val="ffcc66"/>
              </a:solidFill>
              <a:latin typeface="Times New Roman"/>
            </a:endParaRPr>
          </a:p>
        </p:txBody>
      </p:sp>
      <p:sp>
        <p:nvSpPr>
          <p:cNvPr id="171"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72" name=""/>
          <p:cNvSpPr/>
          <p:nvPr/>
        </p:nvSpPr>
        <p:spPr>
          <a:xfrm>
            <a:off x="1219320" y="1447920"/>
            <a:ext cx="723888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De este modo, Taylor promueve una libertad ordenada sobre la base de un pensar moral. Éste tiene tres ejes: las relaciones con los demás seres humanos, la concep­ción de la “buena vida” (vida plena) y el sentido de la propia dignidad y estatus. Sin estas valoraciones de lo bueno, la libertad queda reducida a una infinitud de pequeñas opciones cotidia­nas carentes de toda trascen­dencia. Ser libre es evaluar y optar en sentido “fuerte”, es decir, según un modelo o proyecto de vida. En el fondo la pregunta consiste en para qué se es libre.</a:t>
            </a:r>
            <a:r>
              <a:rPr b="0" lang="en-US"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p:txBody>
      </p:sp>
      <p:sp>
        <p:nvSpPr>
          <p:cNvPr id="173"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Más sobre liberalismo y comunitarismo</a:t>
            </a:r>
            <a:endParaRPr b="0" lang="en-US" sz="3600" spc="-1" strike="noStrike">
              <a:solidFill>
                <a:srgbClr val="ffcc66"/>
              </a:solidFill>
              <a:latin typeface="Times New Roman"/>
            </a:endParaRPr>
          </a:p>
        </p:txBody>
      </p:sp>
      <p:sp>
        <p:nvSpPr>
          <p:cNvPr id="175"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76" name=""/>
          <p:cNvSpPr/>
          <p:nvPr/>
        </p:nvSpPr>
        <p:spPr>
          <a:xfrm>
            <a:off x="1219320" y="1447920"/>
            <a:ext cx="723888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Walzer, Michael, La Crítica Comunitarista del Liberalismo, En: Revista La Política N° 1, Liberalismo, Comunitarismo y Democracia, Paidós, Barcelona, España, 1996, pp. 47-64.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Taylor, Charles; Equívocos: el Debate Liberalismo-Comunitarismo, en: Taylor, Charles; Argumentos Filosóficos, Paidós, 1997, pp. 239-268.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Mulhall, Stephen y Swift, Adam; El Individuo frente a la Comunidad. El Debate entre Liberales y Comunitaristas, Temas de Hoy S.A., Paseo de la Castellana, Madrid, España, 1996,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7"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os fundamentos teóricos contemporáneos I</a:t>
            </a:r>
            <a:endParaRPr b="0" lang="en-US" sz="3600" spc="-1" strike="noStrike">
              <a:solidFill>
                <a:srgbClr val="ffcc66"/>
              </a:solidFill>
              <a:latin typeface="Times New Roman"/>
            </a:endParaRPr>
          </a:p>
        </p:txBody>
      </p:sp>
      <p:sp>
        <p:nvSpPr>
          <p:cNvPr id="98"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99" name=""/>
          <p:cNvSpPr/>
          <p:nvPr/>
        </p:nvSpPr>
        <p:spPr>
          <a:xfrm>
            <a:off x="1143000" y="2055960"/>
            <a:ext cx="76960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Asimismo, encontramos cientos de intentos por crear nuevas comunidades, desde los </a:t>
            </a:r>
            <a:r>
              <a:rPr b="0" i="1" lang="es-CL" sz="2800" spc="-1" strike="noStrike">
                <a:solidFill>
                  <a:srgbClr val="eaeaea"/>
                </a:solidFill>
                <a:latin typeface="Times New Roman"/>
                <a:ea typeface="Times New Roman"/>
              </a:rPr>
              <a:t>Shakers</a:t>
            </a:r>
            <a:r>
              <a:rPr b="0" lang="es-CL" sz="2800" spc="-1" strike="noStrike">
                <a:solidFill>
                  <a:srgbClr val="eaeaea"/>
                </a:solidFill>
                <a:latin typeface="Times New Roman"/>
                <a:ea typeface="Times New Roman"/>
              </a:rPr>
              <a:t> a los asentamientos comunales en Palestina, los que fueron acompañados de reflexiones y escritos comunitarios. Más tarde, en los ’80, un grupo de filósofos políticos -Charles Taylor, Michael J. Sandel y Michael Walzer- retaron a la oposición liberal individualista respecto al concepto de bien común.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os fundamentos teóricos contemporáneos II</a:t>
            </a:r>
            <a:endParaRPr b="0" lang="en-US" sz="3600" spc="-1" strike="noStrike">
              <a:solidFill>
                <a:srgbClr val="ffcc66"/>
              </a:solidFill>
              <a:latin typeface="Times New Roman"/>
            </a:endParaRPr>
          </a:p>
        </p:txBody>
      </p:sp>
      <p:sp>
        <p:nvSpPr>
          <p:cNvPr id="101"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02" name=""/>
          <p:cNvSpPr/>
          <p:nvPr/>
        </p:nvSpPr>
        <p:spPr>
          <a:xfrm>
            <a:off x="1143000" y="2055960"/>
            <a:ext cx="76960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Aunque todos se sentían incómodos con el término "comunitario", trabajos particularmente importantes escritos por Robert Bellah, Philip Selznick y Daniel Bell avanzaron en una tesis comunitaria, que fue enriquecida tanto por pensadores liberales, como Robert Putnam, Hans Joas y John Gray como por conservadores, como David Willetts y Meinhard Miegel.</a:t>
            </a: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s ideas centrales I</a:t>
            </a:r>
            <a:endParaRPr b="0" lang="en-US" sz="3600" spc="-1" strike="noStrike">
              <a:solidFill>
                <a:srgbClr val="ffcc66"/>
              </a:solidFill>
              <a:latin typeface="Times New Roman"/>
            </a:endParaRPr>
          </a:p>
        </p:txBody>
      </p:sp>
      <p:sp>
        <p:nvSpPr>
          <p:cNvPr id="104"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05" name=""/>
          <p:cNvSpPr/>
          <p:nvPr/>
        </p:nvSpPr>
        <p:spPr>
          <a:xfrm>
            <a:off x="1143000" y="2055960"/>
            <a:ext cx="769608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Estos nuevos comunitaristas no sólo le dan importancia al significado de las fuerzas sociales de la comunidad y a los lazos sociales -en el caso de los comunitaristas asiáticos también valoran la armonía social-, elementos negados por las ideologías individualistas. Además, se preocupan por el balance entre las fuerzas sociales y la persona, entre la comunidad y la autonomía, entre el bien común y la libertad, entre los derechos individuales y las responsabilidades sociales.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s ideas centrales II</a:t>
            </a:r>
            <a:endParaRPr b="0" lang="en-US" sz="3600" spc="-1" strike="noStrike">
              <a:solidFill>
                <a:srgbClr val="ffcc66"/>
              </a:solidFill>
              <a:latin typeface="Times New Roman"/>
            </a:endParaRPr>
          </a:p>
        </p:txBody>
      </p:sp>
      <p:sp>
        <p:nvSpPr>
          <p:cNvPr id="107"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08" name=""/>
          <p:cNvSpPr/>
          <p:nvPr/>
        </p:nvSpPr>
        <p:spPr>
          <a:xfrm>
            <a:off x="1143000" y="1447920"/>
            <a:ext cx="7696080" cy="4909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Se trata entonces de promover comunidades pluralistas en que los derechos humanos sean protegidos en su interior, rechazando toda comunidad autocrática o totalitaria. Así, se preocupan por promover las responsabilidades que tenemos para con la sociedad junto con respetar activamente los derechos personales. No hay, en consecuencia, una idolatría de la comunidad o de toda comunidad en concreto. El orden social y la libertad se sustentan y refuerzan mutuamente, pero si sobrepasan un punto se convierten en antagónicas y adversarias. Si todo es libertad individual surge el riesgo de la anarquía. Si todo es orden social surge el peligro del autoritarismo.</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s ideas centrales III</a:t>
            </a:r>
            <a:endParaRPr b="0" lang="en-US" sz="3600" spc="-1" strike="noStrike">
              <a:solidFill>
                <a:srgbClr val="ffcc66"/>
              </a:solidFill>
              <a:latin typeface="Times New Roman"/>
            </a:endParaRPr>
          </a:p>
        </p:txBody>
      </p:sp>
      <p:sp>
        <p:nvSpPr>
          <p:cNvPr id="110"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11" name=""/>
          <p:cNvSpPr/>
          <p:nvPr/>
        </p:nvSpPr>
        <p:spPr>
          <a:xfrm>
            <a:off x="1143000" y="2055960"/>
            <a:ext cx="76960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Particularmente, los nuevos comunitaristas proclaman que la buena sociedad está más allá del mercado y del Estado. Ni el libre mercado ni la administración pública encuentran soluciones adecuadas a los problemas sociales contemporáneos si desconocen las voces y el aporte de la sociedad civil y sus múltiples organizaciones.</a:t>
            </a: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Qué podemos entender por liberalismo?</a:t>
            </a:r>
            <a:endParaRPr b="0" lang="en-US" sz="3600" spc="-1" strike="noStrike">
              <a:solidFill>
                <a:srgbClr val="ffcc66"/>
              </a:solidFill>
              <a:latin typeface="Times New Roman"/>
            </a:endParaRPr>
          </a:p>
        </p:txBody>
      </p:sp>
      <p:sp>
        <p:nvSpPr>
          <p:cNvPr id="11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14" name=""/>
          <p:cNvSpPr/>
          <p:nvPr/>
        </p:nvSpPr>
        <p:spPr>
          <a:xfrm>
            <a:off x="1066680" y="1447920"/>
            <a:ext cx="7848720" cy="457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5" name=""/>
          <p:cNvSpPr/>
          <p:nvPr/>
        </p:nvSpPr>
        <p:spPr>
          <a:xfrm>
            <a:off x="1371600" y="1600200"/>
            <a:ext cx="777240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El liberalismo es ciertamente un movimiento heterogéneo. Los comunitarios anglosajones tienen al frente sobre todo a liberales de inspiración kantiana, antiutilitarios y/o preocupados de la relación libertad-igualdad. Nos referimos a John Rawls, Bruce Ackermann y Ronald Dworkin.</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Sin embargo, existe otra vertiente del liberalismo, más individualista y partidaria acérrima del Estado mínimo. En ella des­tacan Robert Nozick, James Buchanan y Milton Friedman. Esta última corriente lamentablemente es hegemónica en nuestro país, tanto en la expresión pública como en las prácticas sociales.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0T12:38:45Z</dcterms:created>
  <dc:creator>Sergio Micco</dc:creator>
  <dc:description/>
  <dc:language>en-US</dc:language>
  <cp:lastModifiedBy>Departamento de Informática</cp:lastModifiedBy>
  <dcterms:modified xsi:type="dcterms:W3CDTF">2006-04-17T15:28:22Z</dcterms:modified>
  <cp:revision>22</cp:revision>
  <dc:subject/>
  <dc:title>Michael Walzer  </dc:title>
</cp:coreProperties>
</file>