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603D-C6AF-46E2-B185-D524B32C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94D-52CE-4139-B702-BA04227E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57FA-C1B5-48E8-A154-33ABCFD6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922-B688-4638-A3CE-5B06B166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F6EB-F012-42AB-AACD-20AFDEB1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F84D-6FD0-440D-A9EC-DE4A4BD3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A6AD-BA12-456E-8C2A-8D5C60C4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4F9-7D7C-4230-BDB5-8F2BB4E5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7F19-40F2-474D-9A08-2A4B23FC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46C9-1F00-4138-A95B-7777F78F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E537-519D-4C6E-8929-6D7C329E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4EE2-71AA-45AC-8474-E5CF7004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8671-FF38-4C8C-8097-F6A1BDD7539C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otestad de Contro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la facultad que tiene un órgano público para analizar o examinar las organizaciones o actuaciones de los sujetos sometidos a control, con miras a emitir una opinión especializada sobre los aspectos fiscalizado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tículo 12. Las autoridades y funcionarios facultados para elaborar planes o dictar normas, deberán velar permanentemente por el cumplimiento de aquéllos y la aplicación de éstas, dentro del ámbito de sus atribuciones, sin perjuicio de las obligaciones propias del personal de su dependenc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2.2. De entidades priva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stituciones fiscalizador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-con personalidad juríd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-patrimonio pro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-autóno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-se relacionan con el Presidente de la República a través del Ministerio correspondien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intendenci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Bancos e Instituciones Financie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Valores y Segu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AF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Seguridad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Electricidad y Combust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Servicios Sani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ISAP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ros organismos con funciones de fiscalización y control de la actividad privada como la Fiscalía Nacional Económica, el Servicio de Aduanas y la Dirección del Trabaj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lementos de la relación de contro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jeto controlad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jeto controla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rón o criterio de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asificación del control: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1. Sujeto controlado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ítico: Cámara de Diputados, artículo 48 de la Constitu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vo: organismo adscrito a la Administración del Estad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2. En cuanto a los sujetos controlado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1. De entidades públ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ontrol externo: cuando el controlador es ajeno a la administración acti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ontrol interno: es el realizado por la misma Administr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undamentos normativos del control interno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t. 24. El Gobierno y la administración del Estado corresponden al Presidente de la República, quien es el </a:t>
            </a:r>
            <a:r>
              <a:rPr b="0" lang="es-ES" sz="2800" spc="-1" strike="noStrike">
                <a:solidFill>
                  <a:srgbClr val="0bfb2d"/>
                </a:solidFill>
                <a:latin typeface="Arial"/>
              </a:rPr>
              <a:t>Jefe del Est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u autoridad se extiende a todo cuanto tiene por objeto la conservación del orden público en el interior y la seguridad externa de la República, de acuerdo con la Constitución y las ley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residente de la República, a lo menos una vez al año, dará cuenta al país del estado administrativo y político de la n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t. 101. El intendente presidirá el consejo regional y le corresponderá la coordinación, supervigilancia o fiscalización de los servicios públicos creados por la ley para el cumplimiento de las funciones administrativas que operen en la reg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t. 102. El </a:t>
            </a:r>
            <a:r>
              <a:rPr b="0" lang="es-ES" sz="3200" spc="-1" strike="noStrike">
                <a:solidFill>
                  <a:srgbClr val="0bfb2d"/>
                </a:solidFill>
                <a:latin typeface="Arial"/>
              </a:rPr>
              <a:t>consejo region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será un órgano de carácter normativo, resolutivo y </a:t>
            </a:r>
            <a:r>
              <a:rPr b="0" lang="es-ES" sz="3200" spc="-1" strike="noStrike">
                <a:solidFill>
                  <a:srgbClr val="0bfb2d"/>
                </a:solidFill>
                <a:latin typeface="Arial"/>
              </a:rPr>
              <a:t>fiscalizado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dentro del ámbito propio de competencia del gobierno regional, encargado de hacer efectiva la participación de la ciudadanía regional y ejercer las atribuciones que la ley orgánica constitucional respectiva le encomiende, la que regulará además su integración y organiz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t. 108.  En cada municipalidad habrá un concejo integrado por concejales elegidos por sufragio universal en conformidad a la ley orgánica constitucional de municipalidades. Durarán cuatro años en sus cargos y podrán ser reelegidos. La misma ley determinará el número de concejales y la forma de elegir al alcal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2800" spc="-1" strike="noStrike">
                <a:solidFill>
                  <a:srgbClr val="0bfb2d"/>
                </a:solidFill>
                <a:latin typeface="Arial"/>
              </a:rPr>
              <a:t>concej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erá un órgano encargado de hacer efectiva la participación de la comunidad local, ejercerá funciones normativas, resolutivas y </a:t>
            </a:r>
            <a:r>
              <a:rPr b="0" lang="es-ES" sz="2800" spc="-1" strike="noStrike">
                <a:solidFill>
                  <a:srgbClr val="0bfb2d"/>
                </a:solidFill>
                <a:latin typeface="Arial"/>
              </a:rPr>
              <a:t>fiscalizador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y otras atribuciones que se le encomienden, en la forma que determine la ley orgánica constitucional respecti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CBGA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rtículo 11.- Las autoridades y jefaturas, dentro del ámbito de su competencia y en los niveles que corresponda, ejercerán un </a:t>
            </a:r>
            <a:r>
              <a:rPr b="0" lang="es-ES" sz="2800" spc="-1" strike="noStrike">
                <a:solidFill>
                  <a:srgbClr val="0bfb2d"/>
                </a:solidFill>
                <a:latin typeface="Arial"/>
              </a:rPr>
              <a:t>control jerárquic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permanente del funcionamiento de los organismos y de la actuación del personal de su depend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e control se extenderá tanto a la </a:t>
            </a:r>
            <a:r>
              <a:rPr b="0" lang="es-ES" sz="2800" spc="-1" strike="noStrike">
                <a:solidFill>
                  <a:srgbClr val="0bfb2d"/>
                </a:solidFill>
                <a:latin typeface="Arial"/>
              </a:rPr>
              <a:t>eficiencia y eficacia en el cumplimiento de los fines y objetivos establecidos, como a la legalidad y oportunidad de las actuacion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9T15:26:19Z</dcterms:created>
  <dc:creator>BARBARA CHIU</dc:creator>
  <dc:description/>
  <dc:language>en-US</dc:language>
  <cp:lastModifiedBy>NATALIA</cp:lastModifiedBy>
  <dcterms:modified xsi:type="dcterms:W3CDTF">2005-06-08T08:10:02Z</dcterms:modified>
  <cp:revision>8</cp:revision>
  <dc:subject/>
  <dc:title>Potestad de Control</dc:title>
</cp:coreProperties>
</file>