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E882A-5C22-44C3-9843-EA2FF35C3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8A126-E7C3-41D1-A239-8532B757D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32996-29B9-4DF5-914B-1EAD81DBF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6651F-AF08-4E2F-B15B-73CAB84C2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389EA-1BF0-4CB7-8299-4E628BF5D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CCE1B-3574-47F7-B3D7-3C1E73F50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2930E-8D8F-4D10-9998-FB6C5F9F2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04E91-BA9B-4E2D-9995-C362A3DF0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10979-E376-4CD8-BD0B-D5BFDFB2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A8CC9-FB77-427E-A723-F232A5EDA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3F454-1DE9-4908-8443-DC293491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3D404-4B57-45E5-8CA0-741DE1539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8EC8-88DC-428A-A884-95B6584D52D2}" type="slidenum">
              <a:rPr b="0" lang="es-MX"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incipios Legales.</a:t>
            </a:r>
            <a:endParaRPr b="0" lang="en-US" sz="4400" spc="-1" strike="noStrike">
              <a:solidFill>
                <a:srgbClr val="ccffff"/>
              </a:solidFill>
              <a:latin typeface="Arial"/>
            </a:endParaRPr>
          </a:p>
        </p:txBody>
      </p:sp>
      <p:sp>
        <p:nvSpPr>
          <p:cNvPr id="42" name="PlaceHolder 2"/>
          <p:cNvSpPr>
            <a:spLocks noGrp="1"/>
          </p:cNvSpPr>
          <p:nvPr>
            <p:ph type="subTitle"/>
          </p:nvPr>
        </p:nvSpPr>
        <p:spPr>
          <a:xfrm>
            <a:off x="755640" y="1699920"/>
            <a:ext cx="7704000" cy="5157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ff33"/>
                </a:solidFill>
                <a:latin typeface="Arial"/>
              </a:rPr>
              <a:t>Artículo 3º. Inciso 2°.</a:t>
            </a:r>
            <a:endParaRPr b="0" lang="en-US" sz="2800" spc="-1" strike="noStrike">
              <a:solidFill>
                <a:srgbClr val="ffffff"/>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dministración del Estado deberá observar los principios de responsabilidad, eficiencia, eficacia, coordinación, impulsión de oficio del procedimiento, impugnabilidad de los actos administrativos, control, probidad, transparencia y publicidad administrativas, y garantizará la debida autonomía de los grupos intermedios de la sociedad para cumplir sus propios fines específicos, respetando el derecho de las  personas para realizar cualquier actividad económica</a:t>
            </a:r>
            <a:r>
              <a:rPr b="0" lang="es-MX"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cffff"/>
                </a:solidFill>
                <a:latin typeface="Arial"/>
              </a:rPr>
              <a:t>CONCEPTO</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BernhardMod BT"/>
              </a:rPr>
              <a:t>LOCBGAE, Art. 52, inc. 2°</a:t>
            </a:r>
            <a:endParaRPr b="0" lang="en-US" sz="3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rtículo 52.- Las autoridades de la Administración del Estado, cualquiera que sea la denominación con que las designen la Constitución y las leyes, y los funcionarios de la Administración Pública, sean de planta o a contrata, deberán dar estricto cumplimiento al principio de la probidad administrativa.</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principio de la probidad administrativa </a:t>
            </a:r>
            <a:r>
              <a:rPr b="1" lang="es-ES" sz="2000" spc="-1" strike="noStrike">
                <a:solidFill>
                  <a:srgbClr val="66ff33"/>
                </a:solidFill>
                <a:latin typeface="Arial"/>
              </a:rPr>
              <a:t>consiste en observar una conducta funcionaria intachable y un desempeño honesto y leal de la función o cargo, con preeminencia del interés general sobre el particular.</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 inobservancia acarreará las responsabilidades y sanciones que determinen la Constitución, las leyes y el párrafo 4º de este Título,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0640"/>
            <a:ext cx="807552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ffff"/>
                </a:solidFill>
                <a:latin typeface="Arial"/>
              </a:rPr>
              <a:t>CAMPO DE APLICACIÓN</a:t>
            </a:r>
            <a:br>
              <a:rPr sz="3600"/>
            </a:br>
            <a:endParaRPr b="0" lang="en-US" sz="4400" spc="-1" strike="noStrike">
              <a:solidFill>
                <a:srgbClr val="ccffff"/>
              </a:solidFill>
              <a:latin typeface="Arial"/>
            </a:endParaRPr>
          </a:p>
        </p:txBody>
      </p:sp>
      <p:sp>
        <p:nvSpPr>
          <p:cNvPr id="58"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lang="es-ES_tradnl" sz="4400" spc="-1" strike="noStrike">
                <a:solidFill>
                  <a:srgbClr val="ffffff"/>
                </a:solidFill>
                <a:latin typeface="Arial"/>
              </a:rPr>
              <a:t>OBJETIVO, Arts 3 y 53</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SUBJETIVO, Art. 52, inc. 1°</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ffff"/>
                </a:solidFill>
                <a:latin typeface="Arial"/>
              </a:rPr>
              <a:t>CONTENIDO DEL TÍTULO III</a:t>
            </a:r>
            <a:endParaRPr b="0" lang="en-US" sz="36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LOCBGAE</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INHABILIDADES, Art. 54</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INCOMPATIBILIDADES, 56</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DECLARACIÓN DE  INTERESES, Arts. 57 a 60</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RESPONSABILIDAD Y </a:t>
            </a:r>
            <a:r>
              <a:rPr b="1" lang="es-ES_tradnl" sz="3000" spc="-1" strike="noStrike">
                <a:solidFill>
                  <a:srgbClr val="ffffff"/>
                </a:solidFill>
                <a:latin typeface="Arial"/>
              </a:rPr>
              <a:t>	</a:t>
            </a:r>
            <a:r>
              <a:rPr b="1" lang="es-ES_tradnl" sz="3000" spc="-1" strike="noStrike">
                <a:solidFill>
                  <a:srgbClr val="ffffff"/>
                </a:solidFill>
                <a:latin typeface="Arial"/>
              </a:rPr>
              <a:t>SANCIONES, Art. 61 inc 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	</a:t>
            </a:r>
            <a:r>
              <a:rPr b="0" lang="en-US" sz="4000" spc="-1" strike="noStrike">
                <a:solidFill>
                  <a:srgbClr val="ccffff"/>
                </a:solidFill>
                <a:latin typeface="Arial"/>
              </a:rPr>
              <a:t>Responsabilidad por falta de probidad</a:t>
            </a:r>
            <a:endParaRPr b="0" lang="en-US" sz="4000" spc="-1" strike="noStrike">
              <a:solidFill>
                <a:srgbClr val="cc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 61.- Las reparticiones encargadas del control interno en los órganos u organismos de la Administración del Estado tendrán la obligación de velar por la observancia de las normas de este Título, sin perjuicio de las atribuciones de la Contraloría General de la República.</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fracción a las conductas exigibles prescritas en este Título hará incurrir en responsabilidad y traerá consigo las sanciones que determine la ley. La responsabilidad administrativa se hará efectiva con sujeción a las normas estatutarias que rijan al órgano u organismo en que se produjo la infrac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60" y="333360"/>
            <a:ext cx="8435880" cy="65246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 62.- Contravienen especialmente el principio de la probidad administrativa, las siguientes conducta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Usar en beneficio propio o de terceros la información reservada o privilegiada a que se tuviere acceso en razón de la función pública que se desempeña;</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Hacer valer indebidamente la posición funcionaria para influir sobre una persona con el objeto de conseguir un beneficio directo o indirecto para sí o para un tercero;</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3. Emplear, bajo cualquier forma, dinero o bienes de la institución, en provecho propio o de tercero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 Ejecutar actividades, ocupar tiempo de la jornada de trabajo o utilizar personal o recursos del organismo en beneficio propio o para fines ajenos a los institucionale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5. Solicitar, hacerse prometer o aceptar, en razón del cargo o función, para sí o para terceros, donativos, ventajas o privilegios de cualquier naturalez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parencia y Publicidad, Principio constitucional, según reforma año 2005 </a:t>
            </a:r>
            <a:endParaRPr b="0" lang="en-US" sz="4400" spc="-1" strike="noStrike">
              <a:solidFill>
                <a:srgbClr val="ccffff"/>
              </a:solidFill>
              <a:latin typeface="Arial"/>
            </a:endParaRPr>
          </a:p>
        </p:txBody>
      </p:sp>
      <p:sp>
        <p:nvSpPr>
          <p:cNvPr id="6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rtículo 13. Los funcionarios de la Administración del Estado deberán observar el principio de probidad administrativa y, en particular, las normas legales generales y especiales que lo regulan.</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función pública se ejercerá con </a:t>
            </a:r>
            <a:r>
              <a:rPr b="0" lang="es-ES" sz="2000" spc="-1" strike="noStrike">
                <a:solidFill>
                  <a:srgbClr val="66ff33"/>
                </a:solidFill>
                <a:latin typeface="Arial"/>
              </a:rPr>
              <a:t>transparencia</a:t>
            </a:r>
            <a:r>
              <a:rPr b="0" lang="es-ES" sz="2000" spc="-1" strike="noStrike">
                <a:solidFill>
                  <a:srgbClr val="ffffff"/>
                </a:solidFill>
                <a:latin typeface="Arial"/>
              </a:rPr>
              <a:t>, de manera que permita y promueva el conocimiento de los procedimientos, contenidos y fundamentos de las decisiones que se adopten en ejercicio de ella.</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n </a:t>
            </a:r>
            <a:r>
              <a:rPr b="0" lang="es-ES" sz="2000" spc="-1" strike="noStrike">
                <a:solidFill>
                  <a:srgbClr val="66ff33"/>
                </a:solidFill>
                <a:latin typeface="Arial"/>
              </a:rPr>
              <a:t>públicos los actos administrativos de los órganos de la Administración del Estado y los documentos</a:t>
            </a:r>
            <a:r>
              <a:rPr b="0" lang="es-ES" sz="2000" spc="-1" strike="noStrike">
                <a:solidFill>
                  <a:srgbClr val="ffffff"/>
                </a:solidFill>
                <a:latin typeface="Arial"/>
              </a:rPr>
              <a:t> que les sirvan de sustento o complemento directo y esencial.</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274680"/>
            <a:ext cx="821844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tos que deben ser públicos: </a:t>
            </a:r>
            <a:endParaRPr b="0" lang="en-US" sz="4000" spc="-1" strike="noStrike">
              <a:solidFill>
                <a:srgbClr val="ccffff"/>
              </a:solidFill>
              <a:latin typeface="Arial"/>
            </a:endParaRPr>
          </a:p>
        </p:txBody>
      </p:sp>
      <p:sp>
        <p:nvSpPr>
          <p:cNvPr id="6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tos administrativos de los órganos de la Administración del Estado</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documentos que les sirvan de sustento o complemento directo y esencial.</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informes y antecedentes que las empresas privadas que presten servicios de utilidad pública y las empresas a que se refieren los incisos tercero y quinto del artículo 37 de la ley Nº 18.046, sobre Sociedades Anónimas proporcionen a las entidades estatales encargadas de su fiscalización.</a:t>
            </a:r>
            <a:r>
              <a:rPr b="0" lang="es-MX"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rtículo 8.º El ejercicio de las funcione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úblicas obliga a sus titulares a dar estricto</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umplimiento al principio de probidad en todas su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uacione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on públicos los actos y resoluciones de lo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órganos del Estado, así como sus fundamentos y lo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cedimientos que utilicen. Sin embargo, sólo una ley</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quórum calificado podrá establecer la reserva o</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creto de aquéllos o de éstos, cuando la publicidad</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fectare el debido cumplimiento de las funciones de</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chos órganos, los derechos de las personas, la</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guridad de la Nación o el interés 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ficacia y Eficiencia</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rtículo 5º. Las autoridades y funcionarios deberán velar por la eficiente e idónea administración de los medios públicos y por el debido cumplimiento de la función públic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incipios relacionados</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í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id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ordinación</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ículo 5º. Las autoridades y funcionarios deberán velar por la eficiente e idónea administración de los medios públicos y por el debido cumplimiento de la función pública.</a:t>
            </a:r>
            <a:endParaRPr b="0" lang="en-US" sz="28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órganos de la Administración del Estado deberán cumplir sus cometidos coordinadamente y propender a la unidad de acción, evitando la duplicación o interferencia de funci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762120"/>
            <a:ext cx="8229600" cy="53640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 114 CPE. La ley deberá determinar las formas en que se descentralizará la administración del Estado, así como la transferencia de competencias a los gobiernos regionales.</a:t>
            </a: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n perjuicio de lo anterior, también establecerá, con las excepciones que procedan, la desconcentración regional de los ministerios y de los servicios públicos. Asimismo, regulará los procedimientos que aseguren la debida coordinación entre los órganos de la administración del Estado para facilitar el ejercicio de las facultades de las autoridades regiona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476280"/>
            <a:ext cx="8820000" cy="5649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118 CPE. ….. </a:t>
            </a:r>
            <a:r>
              <a:rPr b="0" lang="es-ES" sz="2400" spc="-1" strike="noStrike">
                <a:solidFill>
                  <a:srgbClr val="66ff33"/>
                </a:solidFill>
                <a:latin typeface="Arial"/>
              </a:rPr>
              <a:t>Las municipalidades podrán asociarse entre ellas para el cumplimiento de sus fines propios</a:t>
            </a:r>
            <a:r>
              <a:rPr b="0" lang="es-ES" sz="2400" spc="-1" strike="noStrike">
                <a:solidFill>
                  <a:srgbClr val="ffffff"/>
                </a:solidFill>
                <a:latin typeface="Arial"/>
              </a:rPr>
              <a:t>. Asimismo, podrán constituir o integrar corporaciones o fundaciones de derecho privado sin fines de lucro cuyo objeto sea la promoción y difusión del arte, la cultura y el deporte. La participación municipal en ellas se regirá por la ley orgánica constitucional respectiva.</a:t>
            </a:r>
            <a:endParaRPr b="0" lang="en-US" sz="2400" spc="-1" strike="noStrike">
              <a:solidFill>
                <a:srgbClr val="ffffff"/>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municipalidades podrán establecer en el ámbito de las comunas o agrupación de comunas, de conformidad con la ley orgánica constitucional respectiva, territorios denominados unidades vecinales, con el objeto de propender a un desarrollo equilibrado y a una adecuada canalización de la participación ciudadana.</a:t>
            </a:r>
            <a:endParaRPr b="0" lang="en-US" sz="2400" spc="-1" strike="noStrike">
              <a:solidFill>
                <a:srgbClr val="ffffff"/>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66ff33"/>
                </a:solidFill>
                <a:latin typeface="Arial"/>
              </a:rPr>
              <a:t>Los servicios públicos deberán coordinarse</a:t>
            </a:r>
            <a:r>
              <a:rPr b="0" lang="es-ES" sz="2400" spc="-1" strike="noStrike">
                <a:solidFill>
                  <a:srgbClr val="ffffff"/>
                </a:solidFill>
                <a:latin typeface="Arial"/>
              </a:rPr>
              <a:t> con el municipio cuando desarrollen su labor en el territorio comunal respectivo, en conformidad con la ley</a:t>
            </a:r>
            <a:r>
              <a:rPr b="0" lang="es-E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836280"/>
            <a:ext cx="7978680" cy="52894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rt. 123 CPE.   La ley establecerá fórmulas de </a:t>
            </a:r>
            <a:r>
              <a:rPr b="0" lang="es-ES" sz="4000" spc="-1" strike="noStrike">
                <a:solidFill>
                  <a:srgbClr val="66ff33"/>
                </a:solidFill>
                <a:latin typeface="Arial"/>
              </a:rPr>
              <a:t>coordinación</a:t>
            </a:r>
            <a:r>
              <a:rPr b="0" lang="es-ES" sz="4000" spc="-1" strike="noStrike">
                <a:solidFill>
                  <a:srgbClr val="ffffff"/>
                </a:solidFill>
                <a:latin typeface="Arial"/>
              </a:rPr>
              <a:t> para la administración de todos o algunos de los municipios, con respecto a los problemas que les sean comunes, así como entre los municipios y los demás servicios público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pulsión de oficio del procedimiento</a:t>
            </a:r>
            <a:endParaRPr b="0" lang="en-US" sz="40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rtículo 8°.- Los órganos de la Administración del Estado actuarán por propia iniciativa en el cumplimiento de sus funciones, o a petición de parte cuando la ley lo exija expresamente o se haga uso del derecho de petición o reclamo, procurando la simplificación y rapidez de l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trámites.</a:t>
            </a:r>
            <a:endParaRPr b="0" lang="en-US" sz="2800" spc="-1" strike="noStrike">
              <a:solidFill>
                <a:srgbClr val="ffffff"/>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rocedimientos administrativos deberán ser ágiles y expeditos, sin más formalidades que las que establezcan las leyes y reglamen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680"/>
            <a:ext cx="8229600" cy="531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Arial"/>
              </a:rPr>
              <a:t>Probidad Administrativa</a:t>
            </a:r>
            <a:br>
              <a:rPr sz="4400"/>
            </a:br>
            <a:br>
              <a:rPr sz="4400"/>
            </a:br>
            <a:r>
              <a:rPr b="0" lang="es-MX" sz="4400" spc="-1" strike="noStrike">
                <a:solidFill>
                  <a:srgbClr val="ccffff"/>
                </a:solidFill>
                <a:latin typeface="Arial"/>
              </a:rPr>
              <a:t>Principio actualmente constitucional, en virtud de la reforma del año 2005.</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21:38:59Z</dcterms:created>
  <dc:creator>BARBARA CHIU</dc:creator>
  <dc:description/>
  <dc:language>en-US</dc:language>
  <cp:lastModifiedBy>aypublico</cp:lastModifiedBy>
  <dcterms:modified xsi:type="dcterms:W3CDTF">2007-06-11T22:02:36Z</dcterms:modified>
  <cp:revision>19</cp:revision>
  <dc:subject/>
  <dc:title>Diapositiva 1</dc:title>
</cp:coreProperties>
</file>