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7A1A-47DC-49FD-A7E8-3E9FCA911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60B8-680A-4A48-B87C-E1D5956B4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9AE6-F597-4FB1-83CC-B8AACD64A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6347-3A84-42DF-99E3-8EB79AF32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EB30-7F7F-4AF9-8538-838035638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78E3-33BB-48E5-9B8E-6CE1E0625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5B39-9818-41A8-B864-8CE023D5E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81FF-3548-4CC3-99A6-4CF31A87F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A58A-A30E-4068-B5F6-152588E58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3DC5-3F12-4742-A5AA-5AC49A2C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D2B7-721B-43F9-9358-17B57209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A446-C469-412C-AF0A-F9F46DA7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A8237-76D4-4F59-A817-CFD998D1CDE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imes New Roman"/>
              </a:rPr>
              <a:t>Estatuto Administra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Segunda Pa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imes New Roman"/>
              </a:rPr>
              <a:t>Definición de sueldo </a:t>
            </a: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artículo 3 letra d)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ueldo: Es la retribución pecuniaria, de carácter fijo y por períodos iguales, asignada a un empleo público de acuerdo con el nivel o grado en que se encuentra clasific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imes New Roman"/>
              </a:rPr>
              <a:t>Asigna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Remuneración específica que el funcionario tiene derecho a percibir en razón de su empleo o funció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Características de las remuneraciones: artículos 94, 95, 96 del EA.</a:t>
            </a:r>
            <a:br>
              <a:rPr sz="48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1. Se pagan por mensualidades venci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2. Inembarg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3. Indeduci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4. Se devengan desde el día que el funcionario asume el car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6. Probidad administrati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Prohibicion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- artículo 84 letra b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- artículo 84 letra f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- artículo 85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ffff"/>
                </a:solidFill>
                <a:latin typeface="Times New Roman"/>
              </a:rPr>
              <a:t>7. Responsabilidad Administrativ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Responsabilida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atrimon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ersonal: pena o medida disciplinaria. Constituye la obligación que tienen los empleados públicos de soportar una medida disciplinaria cuando hayan contravenido sus deberes estatuari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odos estarán sujetos a este tipo de responsabilidad salvo el Presidente y los Ministros de Estad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Medidas disciplinar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2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ensura: correcti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2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Multa:correcti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2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uspensión del empleo desde treinta días a tres meses: correcti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2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stitución: expulsi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Principi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23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Times New Roman"/>
              </a:rPr>
              <a:t>A. Independencia de las sanciones, artículo 120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B. Debido proces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27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e aplica al campo administrativo, e implica la posibilidad  de efectuar cargos y descarg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Elementos debido proces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recho a defensa, se debe imputar hechos y escuchar la defensa por parte del funcionar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ribunal compet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xistencia de ley prev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bido y justo procedi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ipificación legal de las pe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Deberes de los funciona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2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Positivo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2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Negativo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0" spc="-1" strike="noStrike">
                <a:solidFill>
                  <a:srgbClr val="ffffff"/>
                </a:solidFill>
                <a:latin typeface="Times New Roman"/>
              </a:rPr>
              <a:t>C. Principipo de Legalidad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0" spc="-1" strike="noStrike">
                <a:solidFill>
                  <a:srgbClr val="ffffff"/>
                </a:solidFill>
                <a:latin typeface="Times New Roman"/>
              </a:rPr>
              <a:t>Sólo pueden aplicarse las sanciones que establece la ley.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Tipos de Responsabilida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1.- patrimonial o civi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2.- pen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3.- administrativ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4.-polític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Investigación suma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Sumario administra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Similitud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1.- Procedimiento disciplinar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2.- La autoridad que ordena su inicio es generalmente la mis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3.- En ambos debe haber etapa de formulación de cargos y descarg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4.- Frente a la aplicación de la sanción el afectado puede interponer reposición con apelación en subsid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5.- Se envía a la Contraloría para que tome razón del regist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6.- Ambos se notifican al funcionario, artículos 126 inc. 2° y 13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02920" y="549000"/>
            <a:ext cx="7054920" cy="51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Times New Roman"/>
              </a:rPr>
              <a:t>Diferencias:</a:t>
            </a:r>
            <a:br>
              <a:rPr sz="6000"/>
            </a:br>
            <a:r>
              <a:rPr b="0" lang="es-ES_tradnl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6000"/>
            </a:br>
            <a:r>
              <a:rPr b="0" lang="es-ES_tradnl" sz="6000" spc="-1" strike="noStrike">
                <a:solidFill>
                  <a:srgbClr val="ffffff"/>
                </a:solidFill>
                <a:latin typeface="Times New Roman"/>
              </a:rPr>
              <a:t>1.  Causa</a:t>
            </a:r>
            <a:br>
              <a:rPr sz="6000"/>
            </a:br>
            <a:r>
              <a:rPr b="0" lang="es-ES_tradnl" sz="6000" spc="-1" strike="noStrike">
                <a:solidFill>
                  <a:srgbClr val="ffffff"/>
                </a:solidFill>
                <a:latin typeface="Times New Roman"/>
              </a:rPr>
              <a:t>2. Procedimient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6840" y="1142640"/>
            <a:ext cx="8001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6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Times New Roman"/>
              </a:rPr>
              <a:t>Sumario administrativo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Se designa a un fiscal instructor del sumario quien designa un actuario, es de lato conocimien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6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Times New Roman"/>
              </a:rPr>
              <a:t>Investigación sumaria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Se designa un investigador que se denomina funcionario instructor, es de tramitación reduci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imes New Roman"/>
              </a:rPr>
              <a:t>PROCEDI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SAN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1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ff"/>
                </a:solidFill>
                <a:uFillTx/>
                <a:latin typeface="Times New Roman"/>
              </a:rPr>
              <a:t>Sumario administrativo:</a:t>
            </a: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 Censura, multa, suspensión, destitució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1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ff"/>
                </a:solidFill>
                <a:uFillTx/>
                <a:latin typeface="Times New Roman"/>
              </a:rPr>
              <a:t>Investigación sumaria</a:t>
            </a: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: censura,  multa, y suspensió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Etapas del Sumario Administra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nstitución de la Fiscalía: asunción de la función y nombramiento de actuario: investig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ierre del sumario o investig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tapa acusatori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- carg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- descarg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tapa Decis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tapa Impugnato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0" spc="-1" strike="noStrike">
                <a:solidFill>
                  <a:srgbClr val="000000"/>
                </a:solidFill>
                <a:latin typeface="Times New Roman"/>
              </a:rPr>
              <a:t>Ley 19.88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ítulo I. Remuneraciones y otros beneficios. (Arts. 1-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ítulo II. Bonificación por retiro. (Arts. 7-2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ítulo III. De la Dirección Nacional del Servicio Civil.       (Art. 2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ítulo IV. Normas sobre la Carrera Funcionaria. (Art. 2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ítulo V. Normas Remuneraciones Particulares. (Arts. 28-3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ítulo VI. Del Sistema de Alta Dirección Pública. (Arts. 35-6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ítulo Fin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0" spc="-1" strike="noStrike">
                <a:solidFill>
                  <a:srgbClr val="000000"/>
                </a:solidFill>
                <a:latin typeface="Times New Roman"/>
              </a:rPr>
              <a:t>Ley 19.88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421000"/>
            <a:ext cx="77724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500" spc="-1" strike="noStrike">
                <a:solidFill>
                  <a:srgbClr val="000000"/>
                </a:solidFill>
                <a:latin typeface="Times New Roman"/>
              </a:rPr>
              <a:t>Dirección Nacional del Servicio Civi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3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500" spc="-1" strike="noStrike">
                <a:solidFill>
                  <a:srgbClr val="000000"/>
                </a:solidFill>
                <a:latin typeface="Times New Roman"/>
              </a:rPr>
              <a:t>Sistema de Alta Dirección Públic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Positiv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Buen comportamien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umplimiento de horario de trabaj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esempeño personal de sus funciones en forma regular y continua, entre otr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rtículo 6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DE LA DIRECCIÓN NACIONAL DEL SERVICIO CIVIL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Artículo 1°.- Créase la Dirección Nacional del Servicio Civil como un servicio público descentralizado, con personalidad jurídica y patrimonio propio, que se relacionará con el Presidente de la República a través del Ministerio de Hacienda y que tendrá por objeto la coordinación, supervisión y perfeccionamiento de las funciones de personal en los servicios de la administración civil del Estado”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219320" y="1522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00"/>
                </a:solidFill>
                <a:latin typeface="Trebuchet MS"/>
              </a:rPr>
              <a:t>Dirección Nacional del Servicio Civil</a:t>
            </a:r>
            <a:br>
              <a:rPr sz="2800"/>
            </a:br>
            <a:r>
              <a:rPr b="1" i="1" lang="es-MX" sz="2800" spc="-1" strike="noStrike">
                <a:solidFill>
                  <a:srgbClr val="000000"/>
                </a:solidFill>
                <a:latin typeface="Trebuchet MS"/>
              </a:rPr>
              <a:t>Organigram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35280" y="2286000"/>
            <a:ext cx="2016360" cy="800280"/>
          </a:xfrm>
          <a:prstGeom prst="rect">
            <a:avLst/>
          </a:prstGeom>
          <a:gradFill rotWithShape="0">
            <a:gsLst>
              <a:gs pos="0">
                <a:srgbClr val="a82100"/>
              </a:gs>
              <a:gs pos="50000">
                <a:srgbClr val="ff3300"/>
              </a:gs>
              <a:gs pos="100000">
                <a:srgbClr val="a821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Dirección Nacional del Servicio Civ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(DNS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35280" y="3573360"/>
            <a:ext cx="1257120" cy="685800"/>
          </a:xfrm>
          <a:prstGeom prst="rect">
            <a:avLst/>
          </a:prstGeom>
          <a:gradFill rotWithShape="0">
            <a:gsLst>
              <a:gs pos="0">
                <a:srgbClr val="5e755e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ubdirección de Alta Dirección Públic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72360" y="3581280"/>
            <a:ext cx="1655640" cy="784440"/>
          </a:xfrm>
          <a:prstGeom prst="rect">
            <a:avLst/>
          </a:prstGeom>
          <a:gradFill rotWithShape="0">
            <a:gsLst>
              <a:gs pos="0">
                <a:srgbClr val="5e755e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ubdirección de Personal de la Administración Pública Cent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79640" y="4797360"/>
            <a:ext cx="914400" cy="6858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100000">
                <a:srgbClr val="ffff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visión de Estud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4876920"/>
            <a:ext cx="914400" cy="78408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100000">
                <a:srgbClr val="ffff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ivisión de Nuevo Trato Labor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9000" y="5119560"/>
            <a:ext cx="1071720" cy="6858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100000">
                <a:srgbClr val="ffff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visión de Planificación y Control de Gest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48360" y="5013360"/>
            <a:ext cx="914400" cy="6858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100000">
                <a:srgbClr val="ffff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visió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uríd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9880" y="4586400"/>
            <a:ext cx="18288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9880" y="4586400"/>
            <a:ext cx="0" cy="5331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38680" y="4586400"/>
            <a:ext cx="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43280" y="3068640"/>
            <a:ext cx="0" cy="1512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38480" y="1066680"/>
            <a:ext cx="1257480" cy="800280"/>
          </a:xfrm>
          <a:prstGeom prst="rect">
            <a:avLst/>
          </a:prstGeom>
          <a:gradFill rotWithShape="0">
            <a:gsLst>
              <a:gs pos="0">
                <a:srgbClr val="a85154"/>
              </a:gs>
              <a:gs pos="50000">
                <a:srgbClr val="ff7c80"/>
              </a:gs>
              <a:gs pos="100000">
                <a:srgbClr val="a8515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NISTERIO DE HACIEN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48320" y="1905120"/>
            <a:ext cx="0" cy="3808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48320" y="3352680"/>
            <a:ext cx="25146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362320" y="3352680"/>
            <a:ext cx="22860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362320" y="3352680"/>
            <a:ext cx="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162920" y="3352680"/>
            <a:ext cx="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62320" y="4267080"/>
            <a:ext cx="0" cy="5335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238880" y="4267080"/>
            <a:ext cx="0" cy="6098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-360" y="476280"/>
            <a:ext cx="845964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ículo 2º.- Corresponderá especialmente a la Dirección Nacional del Servicio Civil: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) Participar en el diseño de las políticas de administración de personal del sector público y colaborar con los servicios públicos en la aplicación descentralizada de las mismas, en el marco del proceso de modernización del Estado;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) Promover reformas y medidas tendientes al mejoramiento de la gestión del personal del sector público;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620280"/>
            <a:ext cx="853272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 Prestar asesoría en materias de personal a las autoridades de gobierno, así como también a los subsecretarios y jefes de los servicios no incluidos en el Sistema de Alta Dirección Pública en materias de personal de alto nivel;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) Realizar las acciones necesarias para asegurar el eficiente y eficaz funcionamiento del Sistema de Alta Dirección Pública;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) Constituir y administrar un registro de los cargos de altos directivos públicos que comprenda toda la información relevante de los mismos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Times New Roman"/>
              </a:rPr>
              <a:t>Sistema de Alta Dirección Públ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...La Alta Dirección Pública estará compuesta por los funcionarios que desempeñen cargos de jefatura de los servicios o en unidades organizativas de éstos y cuyas funciones sean predominantemente de ejecución de políticas públicas y de provisión directa de servicios a la comunidad..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Negativ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6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Subjetivos: incompatibilidades artículo 85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16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Objetivos: prohibiciones, artículo 84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44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Times New Roman"/>
              </a:rPr>
              <a:t>4.- Capacitación o perfeccionamient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Fundament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3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Artículo 38 CP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3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Artículo 26 y siguientes E.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Tip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Para el ascens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Perfeccionamient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Voluntari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Obligacion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2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sistencia a los curs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2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ermanencia en el servicio por el doble de tiempo de la duración del curso, artículo 3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5cd6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5. Principio Retributiv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ncepto genérico artículo 3 letra e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muneración: Es cualquier contraprestación en dinero que el funcionario tenga derecho a percibir en razón de su empleo o función, como, por ejemplo, sueldo, asignación de zona, asignación profesional y otr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7T14:46:27Z</dcterms:created>
  <dc:creator>Natalia Muñoz</dc:creator>
  <dc:description/>
  <dc:language>en-US</dc:language>
  <cp:lastModifiedBy>Casa</cp:lastModifiedBy>
  <dcterms:modified xsi:type="dcterms:W3CDTF">2007-05-31T18:05:31Z</dcterms:modified>
  <cp:revision>21</cp:revision>
  <dc:subject/>
  <dc:title>Estatuto Administrativo</dc:title>
</cp:coreProperties>
</file>