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495-ED91-4513-B4C1-ABEBA481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F8B-0FA7-4E09-B4F9-9DC29613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DC8-A5EB-4794-9962-3DD9C32A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D50-6961-4E42-8694-554F7575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3F9-871E-473B-98C4-775CEACF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B24-49ED-4B30-8C8D-DB9A4963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5E3-C263-464C-993B-64B7917C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BEB-AC24-4E22-A516-65D9387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2CE-5B08-4DCF-9DD6-426E4DEE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46A-72A6-4134-A767-DD861341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F94-4D31-4739-954D-035AA5FF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34C-23FB-42BA-81AC-D954441A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022D-DF99-4CFC-92DD-0A3C9289A88B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testad de Contr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facultad que tiene un órgano público para analizar o examinar las organizaciones o actuaciones de los sujetos sometidos a control, con miras a emitir una opinión especializada sobre los aspectos fiscalizado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12. Las autoridades y funcionarios facultados para elaborar planes o dictar normas, deberán velar permanentemente por el cumplimiento de aquéllos y la aplicación de éstas, dentro del ámbito de sus atribuciones, sin perjuicio de las obligaciones propias del personal de su depend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2. De entidades p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stituciones fiscalizado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con personalidad juríd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patrimonio pro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autón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se relacionan con el Presidente de la República a través del Ministerio correspondi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intendenci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Bancos e Institucione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alores y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guridad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Electricidad y Combust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rvicios Sa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SAP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os organismos con funciones de fiscalización y control de la actividad privada como la Fiscalía Nacional Económica, el Servicio de Aduanas y la Dirección del Trabaj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lementos de la relación de contr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jeto control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jeto control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rón o criterio de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asificación del control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Sujeto controlad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ítico: Cámara de Diputados, artículo 48 de la Constit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o: organismo adscrito a la Administración del Esta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En cuanto a los sujetos controlado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1. De entidades públ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trol externo: cuando el controlador es ajeno a la administración ac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trol interno: es el realizado por la misma Adminis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undamentos normativos del control interno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. 24. El Gobierno y la administración del Estado corresponden al Presidente de la República, quien es el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Jefe del Es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autoridad se extiende a todo cuanto tiene por objeto la conservación del orden público en el interior y la seguridad externa de la República, de acuerdo con la Constitución y las ley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esidente de la República, a lo menos una vez al año, dará cuenta al país del estado administrativo y político de la n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. 101. El intendente presidirá el consejo regional y le corresponderá la coordinación, supervigilancia o fiscalización de los servicios públicos creados por la ley para el cumplimiento de las funciones administrativas que operen en la reg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. 102. El </a:t>
            </a:r>
            <a:r>
              <a:rPr b="0" lang="es-ES" sz="3200" spc="-1" strike="noStrike">
                <a:solidFill>
                  <a:srgbClr val="0bfb2d"/>
                </a:solidFill>
                <a:latin typeface="Arial"/>
              </a:rPr>
              <a:t>consejo region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erá un órgano de carácter normativo, resolutivo y </a:t>
            </a:r>
            <a:r>
              <a:rPr b="0" lang="es-ES" sz="3200" spc="-1" strike="noStrike">
                <a:solidFill>
                  <a:srgbClr val="0bfb2d"/>
                </a:solidFill>
                <a:latin typeface="Arial"/>
              </a:rPr>
              <a:t>fiscalizad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dentro del ámbito propio de competencia del gobierno regional, encargado de hacer efectiva la participación de la ciudadanía regional y ejercer las atribuciones que la ley orgánica constitucional respectiva le encomiende, la que regulará además su integración y organ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. 108.  En cada municipalidad habrá un concejo integrado por concejales elegidos por sufragio universal en conformidad a la ley orgánica constitucional de municipalidades. Durarán cuatro años en sus cargos y podrán ser reelegidos. La misma ley determinará el número de concejales y la forma de elegir al alcal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concej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rá un órgano encargado de hacer efectiva la participación de la comunidad local, ejercerá funciones normativas, resolutivas y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fiscalizador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otras atribuciones que se le encomienden, en la forma que determine la ley orgánica constitucional respec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CBGA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ículo 11.- Las autoridades y jefaturas, dentro del ámbito de su competencia y en los niveles que corresponda, ejercerán un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control jerárquic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ermanente del funcionamiento de los organismos y de la actuación del personal de su depen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e control se extenderá tanto a la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eficiencia y eficacia en el cumplimiento de los fines y objetivos establecidos, como a la legalidad y oportunidad de las actu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5:26:19Z</dcterms:created>
  <dc:creator>BARBARA CHIU</dc:creator>
  <dc:description/>
  <dc:language>en-US</dc:language>
  <cp:lastModifiedBy>NATALIA</cp:lastModifiedBy>
  <dcterms:modified xsi:type="dcterms:W3CDTF">2005-06-08T08:10:02Z</dcterms:modified>
  <cp:revision>8</cp:revision>
  <dc:subject/>
  <dc:title>Potestad de Control</dc:title>
</cp:coreProperties>
</file>