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AFD-4F18-4118-AD96-4FA6D86F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9F5-D5D7-404D-A667-16768E7A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E8B-E3FF-48FC-88D8-A97BF3B8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AA4-C10F-435F-B712-0C4019FC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7AD-2F88-4DC8-B07C-9E33C74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C1C-083F-4D8F-916E-B6C7E557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14A-F2E8-43E0-83C6-3C8D9A7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B80-D1DF-4533-B20A-96C26D0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117-5424-464D-946F-17B17A0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144-1A65-428A-A63B-56A3678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051-4DDA-4C7C-B5B9-664F11F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2AC-4CA4-491D-8279-BB331AD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44F4-5543-4AE8-BAE5-9580D75776D8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testad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facultad que tiene un órgano público para analizar o examinar las organizaciones o actuaciones de los sujetos sometidos a control, con miras a emitir una opinión especializada sobre los aspectos fiscalizad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12. Las autoridades y funcionarios facultados para elaborar planes o dictar normas, deberán velar permanentemente por el cumplimiento de aquéllos y la aplicación de éstas, dentro del ámbito de sus atribuciones, sin perjuicio de las obligaciones propias del personal de su depend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2. De entidades p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stituciones fiscalizado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con personalidad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patrimonio pro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autón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se relacionan con el Presidente de la República a través del Ministerio correspond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intendenci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ancos e Institucione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alores y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guridad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lectricidad y Combust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rvicio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SAP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os organismos con funciones de fiscalización y control de la actividad privada como la Fiscalía Nacional Económica, el Servicio de Aduanas y la Dirección del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lementos de la relación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rón o criterio de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ificación del control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Sujeto controlad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ítico: Cámara de Diputados, artículo 48 de la Constit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o: organismo adscrito a la Administración del Est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En cuanto a los sujetos controlad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. De entidades públ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externo: cuando el controlador es ajeno a la administración ac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interno: es el realizado por la misma Adminis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undamentos normativos del control interno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24. El Gobierno y la administración del Estado corresponden al Presidente de la República, quien es 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Jefe del Es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esidente de la República, a lo menos una vez al año, dará cuenta al país del estado administrativo y político de la 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1. El intendente presidirá el consejo regional y le corresponderá la coordinación, supervigilancia o fiscalización de los servicios públicos creados por la ley para el cumplimiento de las funciones administrativas que operen en la reg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2. El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consejo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rá un órgano de carácter normativo, resolutivo y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fiscaliz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dentro del ámbito propio de competencia del gobierno regional, encargado de hacer efectiva la participación de la ciudadanía regional y ejercer las atribuciones que la ley orgánica constitucional respectiva le encomiende, la que regulará además su integración y orga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108.  En cada municipalidad habrá un concejo integrado por concejales elegidos por sufragio universal en conformidad a la ley orgánica constitucional de municipalidades. Durarán cuatro años en sus cargos y podrán ser reelegidos. La misma ley determinará el número de concejales y la forma de elegir al alcal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cej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rá un órgano encargado de hacer efectiva la participación de la comunidad local, ejercerá funciones normativas, resolutivas y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fiscalizador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otras atribuciones que se le encomienden, en la forma que determine la ley orgánica constitucional respec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CBGA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11.- Las autoridades y jefaturas, dentro del ámbito de su competencia y en los niveles que corresponda, ejercerán un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trol jerárqu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ermanente del funcionamiento de los organismos y de la actuación del personal de su depen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control se extenderá tanto a la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eficiencia y eficacia en el cumplimiento de los fines y objetivos establecidos, como a la legalidad y oportunidad de las actu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5:26:19Z</dcterms:created>
  <dc:creator>BARBARA CHIU</dc:creator>
  <dc:description/>
  <dc:language>en-US</dc:language>
  <cp:lastModifiedBy>NATALIA</cp:lastModifiedBy>
  <dcterms:modified xsi:type="dcterms:W3CDTF">2005-06-08T08:10:02Z</dcterms:modified>
  <cp:revision>8</cp:revision>
  <dc:subject/>
  <dc:title>Potestad de Control</dc:title>
</cp:coreProperties>
</file>