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513-33C2-489D-A247-4FF1E2DB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94B-3C80-4792-84B7-B800E09F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158-D4D1-44E3-A456-E494CB56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5CE-420B-476D-B6F1-A05BC0F3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0D0-6894-44BD-BF72-DEFDB438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8BC-A0D2-48CE-BC10-C29C1C78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15C-D363-44E7-A958-6358238B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309-FAEA-42A2-9C2E-3B17E8AB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79C-FCD9-4659-BB90-E7C219AE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11B-25DE-426A-B083-7992D0C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881-805D-4AB3-886F-D853AFD6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2A3-17E2-4E0D-82CA-0B3D323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BE9-8B69-4259-9424-8FA8795E07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statut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gunda P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Definición de sueldo </a:t>
            </a: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artículo 3 letra d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eldo: Es la retribución pecuniaria, de carácter fijo y por períodos iguales, asignada a un empleo público de acuerdo con el nivel o grado en que se encuentra clasifi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sign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Remuneración específica que el funcionario tiene derecho a percibir en razón de su empleo o fun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aracterísticas de las remuneraciones: artículos 94, 95, 96 del EA.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 Se pagan por mensualidades ven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 Inembarg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3. Indedu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. Se devengan desde el día que el funcionario asume el car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6. Probidad administ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hibic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Times New Roman"/>
              </a:rPr>
              <a:t>7. Responsabilidad Administrativ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Responsabilid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trimon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sonal: pena o medida disciplinaria. Constituye la obligación que tienen los empleados públicos de soportar una medida disciplinaria cuando hayan contravenido sus deberes estatu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s estarán sujetos a este tipo de responsabilidad salvo el Presidente y los Ministros de Est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edidas disciplin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sura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ulta: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spensión del empleo desde treinta días a tres meses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titución: expuls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rincipi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A. Independencia de las sanciones, artículo 12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.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aplica al campo administrativo, e implica la posibilidad  de efectuar cargos y descar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lementos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 a defensa, se debe imputar hechos y escuchar la defensa por parte del fun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ibunal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istencia de ley prev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ido y justo proced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pificación legal de las p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eberes de los fun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C. Principipo de Legalida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Sólo pueden aplicarse las sanciones que establece la ley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Tipos de Responsabilid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1.- patrimonial o civ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2.- pe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3.- administrati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4.-polít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Investigación su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militu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- Procedimiento discipli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- La autoridad que ordena su inicio es generalmente la mis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.- En ambos debe haber etapa de formulación de cargos y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.- Frente a la aplicación de la sanción el afectado puede interponer reposición con apelación en subsi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.- Se envía a la Contraloría para que tome razón del reg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- Ambos se notifican al funcionario, artículos 126 inc. 2° y 13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05492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Diferencias: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1.  Causa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2. Procedi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Se designa a un fiscal instructor del sumario quien designa un actuario, es de lato cono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designa un investigador que se denomina funcionario instructor, es de tramitación reduc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PROCED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A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: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Censura, multa, suspensión, destitu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: censura,  multa, y suspen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tapas del 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itución de la Fiscalía: asunción de la función y nombramiento de actuario: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ierre del sumario o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acusato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Deci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Impugn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. Remuneraciones y otros beneficios. (Arts. 1-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. Bonificación por retiro. (Arts. 7-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I. De la Dirección Nacional del Servicio Civil.       (Art. 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V. Normas sobre la Carrera Funcionaria. (Art. 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. Normas Remuneraciones Particulares. (Arts. 28-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I. Del Sistema de Alta Dirección Pública. (Arts. 35-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Fi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Dirección Nacional del Servicio Civ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uen comport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mplimiento de horario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empeño personal de sus funciones en forma regular y continua, entre ot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ículo 6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E LA DIRECCIÓN NACIONAL DEL SERVICIO CIV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Artículo 1°.- Créase la Dirección Nacional del Servicio Civil como un servicio público descentralizado, con personalidad jurídica y patrimonio propio, que se relacionará con el Presidente de la República a través del Ministerio de Hacienda y que tendrá por objeto la coordinación, supervisión y perfeccionamiento de las funciones de personal en los servicios de la administración civil del Estado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Dirección Nacional del Servicio Civil</a:t>
            </a:r>
            <a:br>
              <a:rPr sz="2800"/>
            </a:b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Organi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286000"/>
            <a:ext cx="2016360" cy="8002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irección Nacional del Servicio Ci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DNS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3573360"/>
            <a:ext cx="1257120" cy="685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Alta Dirección Públ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3581280"/>
            <a:ext cx="1655640" cy="78444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Personal de la Administración Pública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4797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de E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876920"/>
            <a:ext cx="914400" cy="7840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visión de Nuevo Trat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119560"/>
            <a:ext cx="107172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sión de Planificación y Control de Gest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5013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rí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586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58640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45864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3068640"/>
            <a:ext cx="0" cy="1512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066680"/>
            <a:ext cx="1257480" cy="800280"/>
          </a:xfrm>
          <a:prstGeom prst="rect">
            <a:avLst/>
          </a:prstGeom>
          <a:gradFill rotWithShape="0">
            <a:gsLst>
              <a:gs pos="0">
                <a:srgbClr val="a85154"/>
              </a:gs>
              <a:gs pos="50000">
                <a:srgbClr val="ff7c80"/>
              </a:gs>
              <a:gs pos="100000">
                <a:srgbClr val="a851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905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352680"/>
            <a:ext cx="2514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362320" y="3352680"/>
            <a:ext cx="228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2670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4267080"/>
            <a:ext cx="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4596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ículo 2º.- Corresponderá especialmente a la Dirección Nacional del Servicio Civil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Participar en el diseño de las políticas de administración de personal del sector público y colaborar con los servicios públicos en la aplicación descentralizada de las mismas, en el marco del proceso de modernización del Estado;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romover reformas y medidas tendientes al mejoramiento de la gestión del personal del sector público;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532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Prestar asesoría en materias de personal a las autoridades de gobierno, así como también a los subsecretarios y jefes de los servicios no incluidos en el Sistema de Alta Dirección Pública en materias de personal de alto nivel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Realizar las acciones necesarias para asegurar el eficiente y eficaz funcionamiento del Sistema de Alta Dirección Pública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Constituir y administrar un registro de los cargos de altos directivos públicos que comprenda toda la información relevante de los mism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...La Alta Dirección Pública estará compuesta por los funcionarios que desempeñen cargos de jefatura de los servicios o en unidades organizativas de éstos y cuyas funciones sean predominantemente de ejecución de políticas públicas y de provisión directa de servicios a la comunidad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bjetivos: incompatibilidades artículo 8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Objetivos: prohibiciones, artículo 8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4.- Capacitación o perfecciona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Fundame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38 C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26 y siguientes E.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ip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ara el ascen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erfeccionamien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Volunta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Oblig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istencia a los 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manencia en el servicio por el doble de tiempo de la duración del curso, artículo 3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5. Principio Retributiv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pto genérico artículo 3 letra 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muneración: Es cualquier contraprestación en dinero que el funcionario tenga derecho a percibir en razón de su empleo o función, como, por ejemplo, sueldo, asignación de zona, asignación profesional y ot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46:27Z</dcterms:created>
  <dc:creator>Natalia Muñoz</dc:creator>
  <dc:description/>
  <dc:language>en-US</dc:language>
  <cp:lastModifiedBy>Casa</cp:lastModifiedBy>
  <dcterms:modified xsi:type="dcterms:W3CDTF">2007-05-31T18:05:31Z</dcterms:modified>
  <cp:revision>21</cp:revision>
  <dc:subject/>
  <dc:title>Estatuto Administrativo</dc:title>
</cp:coreProperties>
</file>