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6F40-E80F-4AA9-AD39-B7B7F70F5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E287-C04A-45D5-AA9E-38C514EDA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FF5A-9AB5-4142-8F9D-C377B5201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9662-C351-4C52-AA3D-C6D59A103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6EB3-28C4-4AC9-A85C-0B5F5606B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96AB-FABE-4D83-BC59-98522BFA0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41B0-B64D-4927-A91D-C90FB23AB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8B22-A781-4A69-8762-3E7F49C55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983E-7B2A-4A38-A52A-C59079CE2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C495-DD35-4EFF-9D7B-AD5601DC3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6107-C8ED-403B-A481-4565695BA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FC40-7B7E-4528-B487-350A0983E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5cd6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E7D57-E1C8-45C8-ADA8-6520E8494F77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5cd6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Times New Roman"/>
              </a:rPr>
              <a:t>Estatuto Administrativ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Segunda Par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5cd6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Times New Roman"/>
              </a:rPr>
              <a:t>Definición de sueldo </a:t>
            </a:r>
            <a:r>
              <a:rPr b="0" lang="es-ES_tradnl" sz="4400" spc="-1" strike="noStrike">
                <a:solidFill>
                  <a:srgbClr val="ffffff"/>
                </a:solidFill>
                <a:latin typeface="Times New Roman"/>
              </a:rPr>
              <a:t>artículo 3 letra d)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just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Sueldo: Es la retribución pecuniaria, de carácter fijo y por períodos iguales, asignada a un empleo público de acuerdo con el nivel o grado en que se encuentra clasifica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5cd6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Times New Roman"/>
              </a:rPr>
              <a:t>Asignac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Remuneración específica que el funcionario tiene derecho a percibir en razón de su empleo o funció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5cd6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Características de las remuneraciones: artículos 94, 95, 96 del EA.</a:t>
            </a:r>
            <a:br>
              <a:rPr sz="48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1. Se pagan por mensualidades venci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2. Inembarg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3. Indeduci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4. Se devengan desde el día que el funcionario asume el carg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5cd6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Times New Roman"/>
              </a:rPr>
              <a:t>6. Probidad administrati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Prohibicione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- artículo 84 letra b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- artículo 84 letra f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- artículo 85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5cd6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ffffff"/>
                </a:solidFill>
                <a:latin typeface="Times New Roman"/>
              </a:rPr>
              <a:t>7. Responsabilidad Administrativ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5cd6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Times New Roman"/>
              </a:rPr>
              <a:t>Responsabilidad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atrimon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ersonal: pena o medida disciplinaria. Constituye la obligación que tienen los empleados públicos de soportar una medida disciplinaria cuando hayan contravenido sus deberes estatuari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Todos estarán sujetos a este tipo de responsabilidad salvo el Presidente y los Ministros de Estad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5cd6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Times New Roman"/>
              </a:rPr>
              <a:t>Medidas disciplinari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2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Censura: correctiv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2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Multa:correctiv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2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Suspensión del empleo desde treinta días a tres meses: correctiv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2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estitución: expulsiv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5cd6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Times New Roman"/>
              </a:rPr>
              <a:t>Principio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23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ffffff"/>
                </a:solidFill>
                <a:latin typeface="Times New Roman"/>
              </a:rPr>
              <a:t>A. Independencia de las sanciones, artículo 120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5cd6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Times New Roman"/>
              </a:rPr>
              <a:t>B. Debido proces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27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Se aplica al campo administrativo, e implica la posibilidad  de efectuar cargos y descarg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5cd6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Times New Roman"/>
              </a:rPr>
              <a:t>Elementos debido proces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erecho a defensa, se debe imputar hechos y escuchar la defensa por parte del funcionar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Tribunal compete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xistencia de ley prev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ebido y justo procedimien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Tipificación legal de las pen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5cd6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Times New Roman"/>
              </a:rPr>
              <a:t>Deberes de los funcionar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220000"/>
              </a:lnSpc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Times New Roman"/>
              </a:rPr>
              <a:t>Positivo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20000"/>
              </a:lnSpc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Times New Roman"/>
              </a:rPr>
              <a:t>Negativo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5cd6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0" spc="-1" strike="noStrike">
                <a:solidFill>
                  <a:srgbClr val="ffffff"/>
                </a:solidFill>
                <a:latin typeface="Times New Roman"/>
              </a:rPr>
              <a:t>C. Principipo de Legalidad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0" spc="-1" strike="noStrike">
                <a:solidFill>
                  <a:srgbClr val="ffffff"/>
                </a:solidFill>
                <a:latin typeface="Times New Roman"/>
              </a:rPr>
              <a:t>Sólo pueden aplicarse las sanciones que establece la ley.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5cd6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Tipos de Responsabilida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1.- patrimonial o civi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2.- pena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3.- administrativ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4.-polític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5cd6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Times New Roman"/>
              </a:rPr>
              <a:t>Investigación suma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Times New Roman"/>
              </a:rPr>
              <a:t>Sumario administrativ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5cd6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Times New Roman"/>
              </a:rPr>
              <a:t>Similitud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1.- Procedimiento disciplinari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2.- La autoridad que ordena su inicio es generalmente la mism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3.- En ambos debe haber etapa de formulación de cargos y descarg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4.- Frente a la aplicación de la sanción el afectado puede interponer reposición con apelación en subsid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5.- Se envía a la Contraloría para que tome razón del regist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6.- Ambos se notifican al funcionario, artículos 126 inc. 2° y 13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5cd6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02920" y="549000"/>
            <a:ext cx="7054920" cy="51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ffffff"/>
                </a:solidFill>
                <a:latin typeface="Times New Roman"/>
              </a:rPr>
              <a:t>Diferencias:</a:t>
            </a:r>
            <a:br>
              <a:rPr sz="6000"/>
            </a:br>
            <a:r>
              <a:rPr b="0" lang="es-ES_tradnl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6000"/>
            </a:br>
            <a:r>
              <a:rPr b="0" lang="es-ES_tradnl" sz="6000" spc="-1" strike="noStrike">
                <a:solidFill>
                  <a:srgbClr val="ffffff"/>
                </a:solidFill>
                <a:latin typeface="Times New Roman"/>
              </a:rPr>
              <a:t>1.  Causa</a:t>
            </a:r>
            <a:br>
              <a:rPr sz="6000"/>
            </a:br>
            <a:r>
              <a:rPr b="0" lang="es-ES_tradnl" sz="6000" spc="-1" strike="noStrike">
                <a:solidFill>
                  <a:srgbClr val="ffffff"/>
                </a:solidFill>
                <a:latin typeface="Times New Roman"/>
              </a:rPr>
              <a:t>2. Procedimiento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5cd6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6840" y="1142640"/>
            <a:ext cx="8001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6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ffffff"/>
                </a:solidFill>
                <a:uFillTx/>
                <a:latin typeface="Times New Roman"/>
              </a:rPr>
              <a:t>Sumario administrativo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: Se designa a un fiscal instructor del sumario quien designa un actuario, es de lato conocimien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6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ffffff"/>
                </a:solidFill>
                <a:uFillTx/>
                <a:latin typeface="Times New Roman"/>
              </a:rPr>
              <a:t>Investigación sumaria: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Se designa un investigador que se denomina funcionario instructor, es de tramitación reducid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Times New Roman"/>
              </a:rPr>
              <a:t>PROCEDIMIEN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5cd6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Times New Roman"/>
              </a:rPr>
              <a:t>SAN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lnSpc>
                <a:spcPct val="1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 u="sng">
                <a:solidFill>
                  <a:srgbClr val="ffffff"/>
                </a:solidFill>
                <a:uFillTx/>
                <a:latin typeface="Times New Roman"/>
              </a:rPr>
              <a:t>Sumario administrativo:</a:t>
            </a: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 Censura, multa, suspensión, destitució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lnSpc>
                <a:spcPct val="1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 u="sng">
                <a:solidFill>
                  <a:srgbClr val="ffffff"/>
                </a:solidFill>
                <a:uFillTx/>
                <a:latin typeface="Times New Roman"/>
              </a:rPr>
              <a:t>Investigación sumaria</a:t>
            </a: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: censura,  multa, y suspensió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5cd6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Times New Roman"/>
              </a:rPr>
              <a:t>Etapas del Sumario Administrativ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Constitución de la Fiscalía: asunción de la función y nombramiento de actuario: investig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Cierre del sumario o investig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tapa acusatori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- carg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- descarg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tapa Decis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tapa Impugnato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5cd6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0" spc="-1" strike="noStrike">
                <a:solidFill>
                  <a:srgbClr val="000000"/>
                </a:solidFill>
                <a:latin typeface="Times New Roman"/>
              </a:rPr>
              <a:t>Ley 19.88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Título I. Remuneraciones y otros beneficios. (Arts. 1-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Título II. Bonificación por retiro. (Arts. 7-2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Título III. De la Dirección Nacional del Servicio Civil.       (Art. 2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Título IV. Normas sobre la Carrera Funcionaria. (Art. 2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Título V. Normas Remuneraciones Particulares. (Arts. 28-3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Título VI. Del Sistema de Alta Dirección Pública. (Arts. 35-6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Título Fin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5cd6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0" spc="-1" strike="noStrike">
                <a:solidFill>
                  <a:srgbClr val="000000"/>
                </a:solidFill>
                <a:latin typeface="Times New Roman"/>
              </a:rPr>
              <a:t>Ley 19.88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421000"/>
            <a:ext cx="77724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500" spc="-1" strike="noStrike">
                <a:solidFill>
                  <a:srgbClr val="000000"/>
                </a:solidFill>
                <a:latin typeface="Times New Roman"/>
              </a:rPr>
              <a:t>Dirección Nacional del Servicio Civi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35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500" spc="-1" strike="noStrike">
                <a:solidFill>
                  <a:srgbClr val="000000"/>
                </a:solidFill>
                <a:latin typeface="Times New Roman"/>
              </a:rPr>
              <a:t>Sistema de Alta Dirección Pública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5cd6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Times New Roman"/>
              </a:rPr>
              <a:t>Positivo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Buen comportamien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Cumplimiento de horario de trabaj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Desempeño personal de sus funciones en forma regular y continua, entre otro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Artículo 61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5cd6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DE LA DIRECCIÓN NACIONAL DEL SERVICIO CIVIL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"Artículo 1°.- Créase la Dirección Nacional del Servicio Civil como un servicio público descentralizado, con personalidad jurídica y patrimonio propio, que se relacionará con el Presidente de la República a través del Ministerio de Hacienda y que tendrá por objeto la coordinación, supervisión y perfeccionamiento de las funciones de personal en los servicios de la administración civil del Estado”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5cd6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219320" y="152280"/>
            <a:ext cx="6858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000000"/>
                </a:solidFill>
                <a:latin typeface="Trebuchet MS"/>
              </a:rPr>
              <a:t>Dirección Nacional del Servicio Civil</a:t>
            </a:r>
            <a:br>
              <a:rPr sz="2800"/>
            </a:br>
            <a:r>
              <a:rPr b="1" i="1" lang="es-MX" sz="2800" spc="-1" strike="noStrike">
                <a:solidFill>
                  <a:srgbClr val="000000"/>
                </a:solidFill>
                <a:latin typeface="Trebuchet MS"/>
              </a:rPr>
              <a:t>Organigram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635280" y="2286000"/>
            <a:ext cx="2016360" cy="800280"/>
          </a:xfrm>
          <a:prstGeom prst="rect">
            <a:avLst/>
          </a:prstGeom>
          <a:gradFill rotWithShape="0">
            <a:gsLst>
              <a:gs pos="0">
                <a:srgbClr val="a82100"/>
              </a:gs>
              <a:gs pos="50000">
                <a:srgbClr val="ff3300"/>
              </a:gs>
              <a:gs pos="100000">
                <a:srgbClr val="a821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Dirección Nacional del Servicio Civ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(DNSC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835280" y="3573360"/>
            <a:ext cx="1257120" cy="685800"/>
          </a:xfrm>
          <a:prstGeom prst="rect">
            <a:avLst/>
          </a:prstGeom>
          <a:gradFill rotWithShape="0">
            <a:gsLst>
              <a:gs pos="0">
                <a:srgbClr val="5e755e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ubdirección de Alta Dirección Públic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372360" y="3581280"/>
            <a:ext cx="1655640" cy="784440"/>
          </a:xfrm>
          <a:prstGeom prst="rect">
            <a:avLst/>
          </a:prstGeom>
          <a:gradFill rotWithShape="0">
            <a:gsLst>
              <a:gs pos="0">
                <a:srgbClr val="5e755e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ubdirección de Personal de la Administración Pública Cent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79640" y="4797360"/>
            <a:ext cx="914400" cy="685800"/>
          </a:xfrm>
          <a:prstGeom prst="rect">
            <a:avLst/>
          </a:prstGeom>
          <a:gradFill rotWithShape="0">
            <a:gsLst>
              <a:gs pos="0">
                <a:srgbClr val="757546"/>
              </a:gs>
              <a:gs pos="100000">
                <a:srgbClr val="ffff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visión de Estud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781680" y="4876920"/>
            <a:ext cx="914400" cy="784080"/>
          </a:xfrm>
          <a:prstGeom prst="rect">
            <a:avLst/>
          </a:prstGeom>
          <a:gradFill rotWithShape="0">
            <a:gsLst>
              <a:gs pos="0">
                <a:srgbClr val="757546"/>
              </a:gs>
              <a:gs pos="100000">
                <a:srgbClr val="ffff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ivisión de Nuevo Trato Labor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429000" y="5119560"/>
            <a:ext cx="1071720" cy="685800"/>
          </a:xfrm>
          <a:prstGeom prst="rect">
            <a:avLst/>
          </a:prstGeom>
          <a:gradFill rotWithShape="0">
            <a:gsLst>
              <a:gs pos="0">
                <a:srgbClr val="757546"/>
              </a:gs>
              <a:gs pos="100000">
                <a:srgbClr val="ffff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ivisión de Planificación y Control de Gest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48360" y="5013360"/>
            <a:ext cx="914400" cy="685800"/>
          </a:xfrm>
          <a:prstGeom prst="rect">
            <a:avLst/>
          </a:prstGeom>
          <a:gradFill rotWithShape="0">
            <a:gsLst>
              <a:gs pos="0">
                <a:srgbClr val="757546"/>
              </a:gs>
              <a:gs pos="100000">
                <a:srgbClr val="ffff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visió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Juríd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09880" y="4586400"/>
            <a:ext cx="18288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09880" y="4586400"/>
            <a:ext cx="0" cy="5331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638680" y="4586400"/>
            <a:ext cx="0" cy="4572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643280" y="3068640"/>
            <a:ext cx="0" cy="1512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38480" y="1066680"/>
            <a:ext cx="1257480" cy="800280"/>
          </a:xfrm>
          <a:prstGeom prst="rect">
            <a:avLst/>
          </a:prstGeom>
          <a:gradFill rotWithShape="0">
            <a:gsLst>
              <a:gs pos="0">
                <a:srgbClr val="a85154"/>
              </a:gs>
              <a:gs pos="50000">
                <a:srgbClr val="ff7c80"/>
              </a:gs>
              <a:gs pos="100000">
                <a:srgbClr val="a8515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NISTERIO DE HACIEN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648320" y="1905120"/>
            <a:ext cx="0" cy="3808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648320" y="3352680"/>
            <a:ext cx="25146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2362320" y="3352680"/>
            <a:ext cx="22860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362320" y="3352680"/>
            <a:ext cx="0" cy="2286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162920" y="3352680"/>
            <a:ext cx="0" cy="2286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362320" y="4267080"/>
            <a:ext cx="0" cy="5335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238880" y="4267080"/>
            <a:ext cx="0" cy="6098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5cd6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-360" y="476280"/>
            <a:ext cx="8459640" cy="56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tículo 2º.- Corresponderá especialmente a la Dirección Nacional del Servicio Civil: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) Participar en el diseño de las políticas de administración de personal del sector público y colaborar con los servicios públicos en la aplicación descentralizada de las mismas, en el marco del proceso de modernización del Estado;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) Promover reformas y medidas tendientes al mejoramiento de la gestión del personal del sector público;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5cd6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0" y="620280"/>
            <a:ext cx="853272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) Prestar asesoría en materias de personal a las autoridades de gobierno, así como también a los subsecretarios y jefes de los servicios no incluidos en el Sistema de Alta Dirección Pública en materias de personal de alto nivel;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) Realizar las acciones necesarias para asegurar el eficiente y eficaz funcionamiento del Sistema de Alta Dirección Pública;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) Constituir y administrar un registro de los cargos de altos directivos públicos que comprenda toda la información relevante de los mismos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5cd6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00000"/>
                </a:solidFill>
                <a:latin typeface="Times New Roman"/>
              </a:rPr>
              <a:t>Sistema de Alta Dirección Públ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...La Alta Dirección Pública estará compuesta por los funcionarios que desempeñen cargos de jefatura de los servicios o en unidades organizativas de éstos y cuyas funciones sean predominantemente de ejecución de políticas públicas y de provisión directa de servicios a la comunidad..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5cd6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Times New Roman"/>
              </a:rPr>
              <a:t>Negativo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16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Subjetivos: incompatibilidades artículo 85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16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Objetivos: prohibiciones, artículo 84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5cd6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7772400" cy="440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ffffff"/>
                </a:solidFill>
                <a:latin typeface="Times New Roman"/>
              </a:rPr>
              <a:t>4.- Capacitación o perfeccionamiento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5cd6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Times New Roman"/>
              </a:rPr>
              <a:t>Fundamento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23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Artículo 38 CP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3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Artículo 26 y siguientes E.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5cd6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Times New Roman"/>
              </a:rPr>
              <a:t>Tipo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9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Para el ascenso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9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Perfeccionamiento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9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Voluntario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5cd6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Times New Roman"/>
              </a:rPr>
              <a:t>Obligacion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21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Asistencia a los curs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21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Permanencia en el servicio por el doble de tiempo de la duración del curso, artículo 31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5cd6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Times New Roman"/>
              </a:rPr>
              <a:t>5. Principio Retributivo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Concepto genérico artículo 3 letra e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Remuneración: Es cualquier contraprestación en dinero que el funcionario tenga derecho a percibir en razón de su empleo o función, como, por ejemplo, sueldo, asignación de zona, asignación profesional y otra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7T14:46:27Z</dcterms:created>
  <dc:creator>Natalia Muñoz</dc:creator>
  <dc:description/>
  <dc:language>en-US</dc:language>
  <cp:lastModifiedBy>Casa</cp:lastModifiedBy>
  <dcterms:modified xsi:type="dcterms:W3CDTF">2007-05-31T18:05:31Z</dcterms:modified>
  <cp:revision>21</cp:revision>
  <dc:subject/>
  <dc:title>Estatuto Administrativo</dc:title>
</cp:coreProperties>
</file>