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FD9-EFB6-4BB6-A3EE-FCF95125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A66-247F-4DE7-9845-1224FC13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FB0-F057-419F-BADC-376D5944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A79-FB6E-4EAA-BCAF-0C0763CC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6F8C-5A6E-417F-9052-A8D9FE13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DC8-2EAE-4413-A9DF-15FEFC35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AA06-1BDB-4A5D-915B-EEEA3747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5005-1E95-430F-A364-55A08CDD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6785-CC8E-4EC5-89BA-AD100FC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2D08-EFA4-4D23-9F57-C752D04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041E-156C-4A78-92BB-DA51D59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1D6-22B5-4A5E-AD2F-2A331935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9295-A114-4CC1-94FA-7A2B074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3888-350D-4FDA-BD22-2450677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BCC5-82F9-4D9B-A982-7C257A5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A8E0-27C4-40C9-9B2F-2B962707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9634-4AB7-4BF2-8075-80155821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0EC-6AEF-469C-AC91-78E0E20E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D26-1B83-4F9F-9C90-3899817F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FA50-FD19-4CD0-82AC-3303B95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A93-F252-4374-A532-20A3954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DF2-5800-4B01-9CC0-F241EB0B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422-6ED5-40AE-AD95-193666B9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ECA-1B6D-4605-BD0F-62D8443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8302-87A3-4FC3-8B65-7597764251B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84C-B2A8-4C2F-824B-29235E7E1B4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Resultados encuesta</a:t>
            </a:r>
            <a:br>
              <a:rPr sz="4400"/>
            </a:b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CURSO PROFESIÓN JURÍDICA (Primer Semestre 2007)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32000" y="2483640"/>
            <a:ext cx="657360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Trabajo de Empre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43440"/>
                <a:tab algn="l" pos="6566040"/>
                <a:tab algn="l" pos="8207280"/>
                <a:tab algn="l" pos="984888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197000"/>
            <a:ext cx="76388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del Trabajo y Seguridad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1290600"/>
            <a:ext cx="754380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punitivo comparado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pena                                                 1 Seguridad ciudadana en aspectos penales               1 Fund. Moral del poder punitivo del E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Criminolog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 Derecho Pen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itos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a la autodeterminación sexual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0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742840" y="685440"/>
            <a:ext cx="3600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Pe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1519200"/>
            <a:ext cx="799164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pt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Internac.de los derechos human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ción de controversias internacion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tación internacion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aciones Internacion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bitraje comercial internacional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400" y="888840"/>
            <a:ext cx="4342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295280"/>
            <a:ext cx="8093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señanza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ínica del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r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de la familia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laboral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penal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  de negociación y media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7760" y="4572000"/>
            <a:ext cx="542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e5ffff"/>
                </a:solidFill>
                <a:uFillTx/>
                <a:latin typeface="Tahoma"/>
              </a:rPr>
              <a:t>                                                        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7280" y="2924280"/>
            <a:ext cx="6697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649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formática Jurídica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e5ffff"/>
                </a:solidFill>
                <a:uFillTx/>
                <a:latin typeface="Tahoma"/>
              </a:rPr>
              <a:t>2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98100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tras asignaturas optativas o electivas que no sepa su ubicación en las áreas anteri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3372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omedi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el área respectiv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.2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en contenido de asignatura mism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alidad del profesor que la impartí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etodología anunciada para su desarrollo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1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tilidad profesional de la asignatur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4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mpatib. horaria con asignaturas obligat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4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Necesidad completar número mayor créditos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5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5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és de la bibliografía ofrecid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8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Facilidad esperada del curs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.7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(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572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Su elección de asignaturas `optativas’ y `electivas’  pudo obedecer a uno o varios de los siguientes criterios. Califíquelos de acuerdo a una escala de 0 a 5 (0 para el criterio que no influyó en absoluto y 5 para el más influyente):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795600"/>
            <a:ext cx="8352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Además de las asignaturas `optativas’ y `electivas’ anteriores, el plan de estudios contempla un cierto número de créditos en `cursos libr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ahoma"/>
              </a:rPr>
              <a:t>a) ¿Cuáles “cursos libres” ha seguido usted?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oga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porte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iom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ailes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ursos de derecho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Otras disciplinas 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135252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9640" y="692280"/>
          <a:ext cx="8077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692280"/>
                    <a:ext cx="8077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050920" y="23616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3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os Lib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2440" indent="0">
              <a:buNone/>
              <a:tabLst>
                <a:tab algn="l" pos="0"/>
                <a:tab algn="l" pos="1257480"/>
                <a:tab algn="l" pos="5105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Interé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, 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gust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, entretenid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9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Horario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Docentes y temas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Relajar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e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Actividad fuera de lo jurídico          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Vinculación a otras facultades        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200"/>
            </a:b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645000"/>
            <a:ext cx="806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Excelente a buenos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br>
              <a:rPr sz="2200"/>
            </a:b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conforme, buena experiencia..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ES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Interesante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Sirven para relajarse 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Conocer otra Facultad (Universidad)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200"/>
            </a:b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Muy básico no cumplió expectativas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200" spc="-1" strike="noStrike">
                <a:solidFill>
                  <a:srgbClr val="e5ffff"/>
                </a:solidFill>
                <a:latin typeface="Tahoma"/>
              </a:rPr>
              <a:t>1 (idio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6120" y="379440"/>
            <a:ext cx="304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b) ¿Por qué los eligió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280" y="3500280"/>
            <a:ext cx="82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e5ffff"/>
                </a:solidFill>
                <a:latin typeface="Tahoma"/>
              </a:rPr>
              <a:t>c) ¿Cuál es su opinión de los cursos libres por usted seguidos?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919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30000"/>
              </a:lnSpc>
              <a:buNone/>
              <a:tabLst>
                <a:tab algn="l" pos="0"/>
                <a:tab algn="l" pos="895320"/>
                <a:tab algn="l" pos="3676680"/>
                <a:tab algn="l" pos="4133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4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El plan de estudio contempla  dos cursos de Clínica  Jurídica obligatorios.</a:t>
            </a:r>
            <a:r>
              <a:rPr b="0" i="1" lang="es-MX" sz="2800" spc="-1" strike="noStrike">
                <a:solidFill>
                  <a:srgbClr val="e5ffff"/>
                </a:solidFill>
                <a:latin typeface="Tahoma"/>
              </a:rPr>
              <a:t>                           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br>
              <a:rPr sz="2000"/>
            </a:b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Usted ha cursa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do: </a:t>
            </a:r>
            <a:br>
              <a:rPr sz="24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0          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8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        Tres: 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 es su opinión de los cursos de Clínica jurídica por usted seguidos?</a:t>
            </a:r>
            <a:br>
              <a:rPr sz="2400"/>
            </a:br>
            <a:br>
              <a:rPr sz="16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a. Valoración posi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11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bueno, importante, interesante,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excelente, útil, necesario)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1200"/>
            </a:b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b. Valoración negativa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7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corto, mal profesor, básico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907920"/>
            <a:ext cx="835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“El plan de estudios de la Escuela de Derecho distingue diversas áreas de conocimiento. En cada una de estas áreas se establecen asignaturas que pueden ser `obligatorias’, `optativas’ y `electivas’. Indique en cada área, cuáles son las asignaturas `optativas’  y `electivas’  que usted ha cursado (incluyendo las que está cursando este semestre)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Optativas  49                 4,5 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Electivas 124               11,3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Total     173               15,7 por alum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920" y="508320"/>
            <a:ext cx="8424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El plan de estudio contempla la realización de dos cursos Talleres de Memoria. Usted ha realizado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25000"/>
              </a:lnSpc>
              <a:buClr>
                <a:srgbClr val="e5ffff"/>
              </a:buClr>
              <a:buFont typeface="Tahoma"/>
              <a:buChar char="-"/>
              <a:tabLst>
                <a:tab algn="l" pos="89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Ning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 - Uno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6</a:t>
            </a:r>
            <a:r>
              <a:rPr b="0" lang="es-ES" sz="2400" spc="-1" strike="noStrike">
                <a:solidFill>
                  <a:srgbClr val="e5ffff"/>
                </a:solidFill>
                <a:latin typeface="Tahoma"/>
              </a:rPr>
              <a:t>; - Dos: </a:t>
            </a:r>
            <a:r>
              <a:rPr b="0" lang="es-MX" sz="2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¿Cuál es su opinión de los talleres de memoria por usted realizados?  No opin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Posi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4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loración  Nega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352440" algn="just">
              <a:lnSpc>
                <a:spcPct val="125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bueno,aprendí, buen profesor)        (dispares, expositivas, mal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8560" indent="0">
              <a:buNone/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6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ursos de la carrera (de cualquier tipo) por usted seguidos le han parecido más importantes para su: (No indique más de dos por cada letra)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CL" sz="1800" spc="-1" strike="noStrike">
                <a:solidFill>
                  <a:srgbClr val="e5ffff"/>
                </a:solidFill>
                <a:latin typeface="Tahoma"/>
              </a:rPr>
              <a:t>a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profesional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ivi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ocesal P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sucesori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ab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ínica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                                                  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. int. de los Dos.Humamnos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        Lógica de las normas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b).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ormación general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Introducción al derecho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Macroeconomí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. Moral, Ciencia política, Género y Derecho, Hist.Inst.Siglo XX, Civil,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Procesal, Comercial, Penal III (cada uno: 1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Otros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685800"/>
            <a:ext cx="71658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c).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esarrollo  de sus va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eoría social, Historia social,D. De Familia, D. Procesal penal,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Clínica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jurídica, Derecho en la biblia, Intr.a la filosofía de la ciencia,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ilosofía Mor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al,sal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d). Interés o preferencia personal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Introduc. al Derecho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Económico, D. Eléctrico, D. Civil, D. Comercial Internac., D. Tributario, D. Int. De los Dos. Humanos, Responsabilidad del Estado, D.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en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, Regulación de los servicios públicos, Litigación ambiental, Introd. al pensamiento de Hegel, Hacia una Constitución por la igualdad, Relaciones internacionales, Filosofía m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723960"/>
                <a:tab algn="l" pos="16192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).</a:t>
            </a:r>
            <a:r>
              <a:rPr b="1" i="1" lang="es-MX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Destrezas y habilidades para el ejercicio de la abogacía</a:t>
            </a:r>
            <a:br>
              <a:rPr sz="1800"/>
            </a:br>
            <a:br>
              <a:rPr sz="1600"/>
            </a:b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Derecho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ormación juríd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strategia judici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1" i="1" lang="es-ES" sz="1800" spc="-1" strike="noStrike">
                <a:solidFill>
                  <a:srgbClr val="e5ffff"/>
                </a:solidFill>
                <a:latin typeface="Tahoma"/>
              </a:rPr>
              <a:t>f) Destrezas y habilidades profesionales en general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 (ver</a:t>
            </a:r>
            <a:r>
              <a:rPr b="0" lang="es-MX" sz="1600" spc="-1" strike="noStrike">
                <a:solidFill>
                  <a:srgbClr val="e5ffff"/>
                </a:solidFill>
                <a:latin typeface="Tahoma"/>
              </a:rPr>
              <a:t> pregunta 13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línica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ivi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itigación ambiental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Filosofía Moral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Hiist.Inst. siglo XX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República y comun. en crisis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inguno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es-E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7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ontenidos o materias que no están en el plan de estudios considera usted indispensables incorporar para su adecuada formación como abogado?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erecho práctic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Salida a terren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Filosofí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Ramos de D. comparado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Idioma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Taller de examen de grado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Economía crític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Sociología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Oralidad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Organización empresarial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0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8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Qué contenidos o materias  que hoy están en el plan de estudios deberían profundizarse para su adecuada formación  profesional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?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Expresión oral y escrita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2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eo. Gen. del D. Y T. de la Justic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Clínicas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Taller de Memor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Otros procedimientos (Adm.lanoral etc)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Laboral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D. Familia</a:t>
            </a:r>
            <a:br>
              <a:rPr sz="2000"/>
            </a:br>
            <a:r>
              <a:rPr b="0" lang="es-CL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Procesal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 aspectos prácticos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Aspectos de litigación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Manejo de fuentes de información</a:t>
            </a:r>
            <a:br>
              <a:rPr sz="2000"/>
            </a:b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D. Penal de la empresa</a:t>
            </a:r>
            <a:br>
              <a:rPr sz="2000"/>
            </a:b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No responde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2440" indent="0" algn="just">
              <a:lnSpc>
                <a:spcPct val="120000"/>
              </a:lnSpc>
              <a:buNone/>
              <a:tabLst>
                <a:tab algn="l" pos="0"/>
                <a:tab algn="l" pos="304812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9.</a:t>
            </a:r>
            <a:r>
              <a:rPr b="0" i="1" lang="es-MX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¿Cuáles han sido las metodologías de enseñanza más utilizada en los cursos que ha seguido? Califíquelas con escala de 0 a 5 (0 para la no utilizada y 5 para la más utilizada)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05120"/>
          <a:ext cx="8305920" cy="4686120"/>
        </p:xfrm>
        <a:graphic>
          <a:graphicData uri="http://schemas.openxmlformats.org/drawingml/2006/table">
            <a:tbl>
              <a:tblPr/>
              <a:tblGrid>
                <a:gridCol w="5029200"/>
                <a:gridCol w="1582920"/>
                <a:gridCol w="1693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e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onferencia del profes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(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étodo de cas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bate con o entr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o de multime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-4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o investig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osiciones de los alum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ctura de bibliografía en bibliote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os prá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(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uestas o entrevis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mulaci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 algn="just">
              <a:buNone/>
              <a:tabLst>
                <a:tab algn="l" pos="0"/>
                <a:tab algn="l" pos="1428840"/>
                <a:tab algn="l" pos="546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MX" sz="2400" spc="-1" strike="noStrike">
                <a:solidFill>
                  <a:srgbClr val="00ccff"/>
                </a:solidFill>
                <a:latin typeface="Tahoma"/>
              </a:rPr>
              <a:t>1</a:t>
            </a: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0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¿Qué cursos han tenido, a su juicio, la metodología de enseñanza más útil para su aprendizaje?  Indíquelos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CURSO 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e5ffff"/>
                </a:solidFill>
                <a:latin typeface="Tahoma"/>
              </a:rPr>
              <a:t> METODOLOGIA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932360" y="1960560"/>
            <a:ext cx="399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asos 5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Clases participativas discusión en  clases 3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nsayos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xposición alumno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lectu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557360"/>
            <a:ext cx="431928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5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e5ffff"/>
                </a:solidFill>
                <a:latin typeface="Tahoma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458280"/>
            <a:ext cx="84978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1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¿Cuáles formas o métodos de evaluación han sido los más utilizados en los cursos que ha seguido? Califíquelos con escala de 0 a 5 (0 para los no utilizados hasta 5 para los más utilizad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romedio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oda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. Interrogación 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. Preg. requiere respuesta por escrit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1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. Preg.  requiere desarrollo escrit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              5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. Pruebas objetiva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. Solución de caso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f.  Aplic. de conocimientos a la práctica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3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g. Trabajos ensayo o investig.  Bibli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1         2-3 (4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h. Trabajos empíricos o en terren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0(8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30000"/>
              </a:lnSpc>
              <a:tabLst>
                <a:tab algn="l" pos="0"/>
                <a:tab algn="l" pos="685800"/>
                <a:tab algn="l" pos="2324160"/>
                <a:tab algn="l" pos="529596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. Evaluac. desempeño en simulaciones      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1023840"/>
            <a:ext cx="8424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2.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¿Qué métodos de evaluación le han parecido más adecuados para su aprendizaj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ORMA DE EVALUAC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ución de Caso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sayos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rrog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ral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ueb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 objetiva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mulación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99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ráfico Nº 1:  TOTAL ASIGNATURAS ELECTIVAS Y OPTATIVA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URSADAS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R LOS ALUMN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TOTAL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65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572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-  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5120" y="2232000"/>
          <a:ext cx="5962680" cy="462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32000"/>
                    <a:ext cx="596268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6040" indent="0">
              <a:buNone/>
              <a:tabLst>
                <a:tab algn="l" pos="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3.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Además de aprender determinados contenidos o materias propios de cada curso, se considera que durante la carrera el alumno debe adquirir determinadas habilidades o destrezas necesarias para ejercer la profesión de abogado. Con la calificación siguiente evalúe usted en que medida las ha desarrollado. </a:t>
            </a:r>
            <a:r>
              <a:rPr b="0" i="1" lang="es-MX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 Muy bien.      4 Bien.    3 Regular.    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2. Mal.  1. Muy mal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727200"/>
                <a:tab algn="l" pos="4219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  Moda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1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 de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(legislación, jurisprudencia, doctrina, etc.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en las bibliotecas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2.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pacidad para encontrar las fuente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</a:t>
            </a:r>
            <a:br>
              <a:rPr sz="1800"/>
            </a:b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recho en Internet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  Habilidad para  manejar códigos, leyes, fallos u otra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fuentes a fin de aplicarlos a un caso concret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-4(5)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4.   Habilidad para interpretar los  distintos sentidos de un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isposición legal utilizando las reglas de hermenéutica.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45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5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Habilidad para identificar hechos relevantes en sus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5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onsecuencias jurídicas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32148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Destreza para  formular (redactar)  n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ales como reglamentos, contratos, etc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4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Habilidad para razonar  y  argumentar  sobre u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18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ma jurídic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Capacidad para  redactar  una resolu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 sentencia 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Capacidad para analizar críticamente una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rgumentación legal  o judicial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Habilidad para el manejo de los principios generales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l  derecho y criterios  de equidad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1. Destreza para manejar la prueba de los hech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nterrogar testigos, formular posiciones, y dirig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otros medios de prueba)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2. Aptitud para evaluar  hechos o normas desde 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tabLst>
                <a:tab algn="l" pos="0"/>
                <a:tab algn="l" pos="257040"/>
                <a:tab algn="l" pos="592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alores o fines del derech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8120"/>
            <a:ext cx="8460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 algn="just">
              <a:buNone/>
              <a:tabLst>
                <a:tab algn="l" pos="0"/>
                <a:tab algn="l" pos="35244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1800"/>
            </a:b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</a:t>
            </a:r>
            <a:r>
              <a:rPr b="1" lang="es-MX" sz="1800" spc="-1" strike="noStrike">
                <a:solidFill>
                  <a:srgbClr val="e5ffff"/>
                </a:solidFill>
                <a:latin typeface="Tahoma"/>
              </a:rPr>
              <a:t>Promedio Moda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. 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1.Organización del trabajo propio y manejo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3-5(4)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del   tiempo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2. Ordenación, registro y utilización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     4(7)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información adquirida.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3. Capacitación   en  la  expresión   escrit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82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(7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(redacción, sintaxis,  ortografía, etc.)      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620640"/>
            <a:ext cx="8497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6040" indent="-446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ccff"/>
                </a:solidFill>
                <a:latin typeface="Tahoma"/>
              </a:rPr>
              <a:t>15.</a:t>
            </a:r>
            <a:r>
              <a:rPr b="0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Además de las habilidades y destrezas de tipo profesional como las antes indicadas, se supone que en la Universidad se adquieren o desarrollan otras habilidades requeridas en las profesiones, y que no siempre son innatas o adquiridas en la enseñanza básica y media. Con el mismo criterio de calificación: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5 Muy bien. 4 Bien. 3 Regular. 2 Mal. 1 Muy mal,</a:t>
            </a:r>
            <a:br>
              <a:rPr sz="2000"/>
            </a:br>
            <a:r>
              <a:rPr b="0" i="1" lang="es-ES" sz="2000" spc="-1" strike="noStrike">
                <a:solidFill>
                  <a:srgbClr val="e5ffff"/>
                </a:solidFill>
                <a:latin typeface="Tahoma"/>
              </a:rPr>
              <a:t>indique cuáles cree usted haber adquirido o desarrollado en la Carrera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907920"/>
            <a:ext cx="7920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4. Capacitación para exponer oralment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82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5. Dominio de otros idioma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. Utilización   de  la  comput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64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correo,  internet,  etc.)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7. Planteamiento de un problema y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55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(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etodología  de investigación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. Trabajo en equipo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9. Manejo de relaciones interperson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3         3-5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10. Liderazgo  para    organizar    y  dirigir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3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352440"/>
                <a:tab algn="l" pos="5029200"/>
                <a:tab algn="l" pos="5462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cursos humanos  y  materiale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680" y="76680"/>
            <a:ext cx="8734320" cy="67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7.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 Respuestas a las preguntas 17 – 18 y 2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Durante sus estudios en la Escuela.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a realizado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- A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tividades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académicas como ayudante alum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- Actividades vinculadas a la profesión o ha ejercido como procurador:como procurado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-539640" algn="just">
              <a:lnSpc>
                <a:spcPct val="115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tividades adicionales al estudiante (no vinculadas a la academia o a la profesió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8</a:t>
            </a:r>
            <a:br>
              <a:rPr sz="2000"/>
            </a:b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1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No responde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84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8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En escala de 0 a 5,  ¿Cuál es su grado de satisfacción con el nivel de formación recibido en la Escuela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Calificación  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Promedio    Moda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a) Formación pers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3.5      3(6)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b) Formación profesional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e5ffff"/>
                </a:solidFill>
                <a:latin typeface="Tahoma"/>
              </a:rPr>
              <a:t>4.3      4(6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9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ccff"/>
                </a:solidFill>
                <a:latin typeface="Tahoma"/>
              </a:rPr>
              <a:t>19.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 Si usted tuviera el poder y  la oportunidad de introducir tres cambios a la Carrera de Derecho de la Universidad de Chile para mejorarla, ¿Cuáles serían?</a:t>
            </a:r>
            <a:r>
              <a:rPr b="0" i="1" lang="es-ES" sz="24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2400"/>
            </a:br>
            <a:br>
              <a:rPr sz="2000"/>
            </a:b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GRAFICO Nº 4:</a:t>
            </a:r>
            <a:r>
              <a:rPr b="1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Cambios a la carrera de Derecho de la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-304920" y="1341360"/>
          <a:ext cx="9448920" cy="600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4920" y="1341360"/>
                    <a:ext cx="944892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311760"/>
            <a:ext cx="8893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alla Curricular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80661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umento de ramos electivos, aumento cs.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amos obligatorios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gl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todología de la investi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806616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1324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2"/>
              <a:tabLst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Metodología de Enseñanza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nfoque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áctico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visitas instituciones, tribunales,  cas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ayor dia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84240"/>
                <a:tab algn="l" pos="73627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762480"/>
            <a:ext cx="849636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) Metodologí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ormas al sistema de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ámenes ora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2440" indent="-352440" algn="just">
              <a:lnSpc>
                <a:spcPct val="130000"/>
              </a:lnSpc>
              <a:tabLst>
                <a:tab algn="l" pos="0"/>
                <a:tab algn="l" pos="988920"/>
                <a:tab algn="l" pos="78008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5142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d) Exa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dificación al exámen de g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895320"/>
                <a:tab algn="l" pos="744552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8098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7560" indent="-547560" algn="just">
              <a:lnSpc>
                <a:spcPct val="100000"/>
              </a:lnSpc>
              <a:buClr>
                <a:srgbClr val="ffffff"/>
              </a:buClr>
              <a:buFont typeface="Tahom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Cuerpo Acadé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cursos para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5475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ón de competencias de acadé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54100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s-ES" sz="1800" spc="-1" strike="noStrike">
                <a:solidFill>
                  <a:srgbClr val="ffffff"/>
                </a:solidFill>
                <a:latin typeface="Tahoma"/>
              </a:rPr>
              <a:t>Facultad y la 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tegración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de la Escuela con otras Facultades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153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GRAFICO Nº 2 : 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SIGNATURAS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otal 1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7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16956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Optativas  -  49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lectivas    -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124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612720" y="1125360"/>
          <a:ext cx="10009080" cy="640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1125360"/>
                    <a:ext cx="1000908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838080"/>
            <a:ext cx="40672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storia de la Filosof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Gral.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ógica de las Norm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de la Justi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0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un alumno cursó los tres primeros  y un alumno cursó los dos primeros)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57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iencias del Derec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0000" y="692280"/>
            <a:ext cx="4464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ignaturas histór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eoría So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ociología del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tropología Juríd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indígena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de las cos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mano instit.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Dº. natural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énero y Derech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é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. de las Cienci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. Idea soc. Dº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samiento Hegel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16572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tabLst>
                <a:tab algn="l" pos="0"/>
                <a:tab algn="l" pos="304812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          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6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403280" y="76464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recho Privado (Civil y Comerci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700280"/>
            <a:ext cx="5792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ucesorio y partición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piedad industr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público económico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udio de títul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al Internacio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Segur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od. a la bioética    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2160720"/>
            <a:ext cx="784872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iencia polí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ública y comunidad en crisi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Urbaníst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y telecomunicaciones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roc. politico chileno Siglos XIX y XX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so  Prof. Walker      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90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      1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31640" y="1052640"/>
            <a:ext cx="3497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úb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25920"/>
            <a:ext cx="42670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Opt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cursos Na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edio Ambi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 Agu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Miner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Regulación Económ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rcado de Valo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gulación Serv. Publ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ercio y Fin. Intern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Bancari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94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848880"/>
            <a:ext cx="454032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Elec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tabili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lit. Económica Contemp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Eléctri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re Competenc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álisis econ. del Derecho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recho del consumidor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62064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conomía y Derecho Económ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660280"/>
            <a:ext cx="8424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0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MX" sz="2200" spc="-1" strike="noStrike" u="sng">
                <a:solidFill>
                  <a:srgbClr val="ffffff"/>
                </a:solidFill>
                <a:uFillTx/>
                <a:latin typeface="Tahoma"/>
              </a:rPr>
              <a:t>                               3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19520" y="68544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recho Proces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1762560"/>
            <a:ext cx="741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prueba civil y penal                                        1 Estrategia judicial en el proceso civil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cedimientos civiles especi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Milit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tigación or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investigación en el nuevo pr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s-MX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tigación ambiental                         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usticia policía loc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35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30:11Z</dcterms:created>
  <dc:creator>lespinoza</dc:creator>
  <dc:description/>
  <dc:language>en-US</dc:language>
  <cp:lastModifiedBy>Lucas Sierra</cp:lastModifiedBy>
  <dcterms:modified xsi:type="dcterms:W3CDTF">2007-04-11T20:10:41Z</dcterms:modified>
  <cp:revision>153</cp:revision>
  <dc:subject/>
  <dc:title>CURSO PROFESIÓN JURÍDICA (primer semestre 2006)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