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3FD3-6378-4E68-9573-D49DCBFA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55F8-5344-41A6-AE21-7FB5A559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B594-A20B-4E92-BD54-A9CFF575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9125-2386-41F6-8A27-9667D871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DA1D-D015-4CFC-B34C-79B41508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F89A-A7B5-43AE-9830-E8820D0E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CDCB-4BFD-458F-AEF4-DEC65714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DCD0-0ECB-4547-AD5F-FBBC4F58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E8D6-02B0-4C7E-9905-8B31724C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A583-CB11-423D-97AA-C96FB159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A0A7-BD9E-473E-9E1D-F1BE96E5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8DFB-EE75-4D76-9C34-4CBBD23B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2F7F-731F-41DC-A2BE-E952E433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CAAB-AF86-4CD0-B541-99EC4911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1D23-8B95-42FE-ABEA-522B2E92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F666-95F0-4534-B9AA-21CF285A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2119-97C6-4AFD-82DD-478D6E073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DB1E-D85A-444B-8C07-B0A4C47D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C28B-361B-4D50-BC6E-EB31E1B7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2387-D10F-4BB8-86B1-1CBFF05D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E894-7751-4D2D-86B9-84FE5B75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E7C3-C66A-4193-8F80-E8F66CAA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6E3D-DB50-49CC-AEA7-28259EE1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579B-86FB-4543-B05A-33315800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46B1-4F2E-4106-AFD6-E83CD33E982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755D-76E6-4FB0-B89C-45C4BAD5A03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Resultados encuesta</a:t>
            </a:r>
            <a:br>
              <a:rPr sz="4400"/>
            </a:b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CURSO PROFESIÓN JURÍDICA (Primer Semestre 2007)</a:t>
            </a: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32000" y="2483640"/>
            <a:ext cx="657360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43440"/>
                <a:tab algn="l" pos="6566040"/>
                <a:tab algn="l" pos="8207280"/>
                <a:tab algn="l" pos="984888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Trabajo de Empres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3440"/>
                <a:tab algn="l" pos="6566040"/>
                <a:tab algn="l" pos="8207280"/>
                <a:tab algn="l" pos="9848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3440"/>
                <a:tab algn="l" pos="6566040"/>
                <a:tab algn="l" pos="8207280"/>
                <a:tab algn="l" pos="9848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3440"/>
                <a:tab algn="l" pos="6566040"/>
                <a:tab algn="l" pos="8207280"/>
                <a:tab algn="l" pos="9848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3440"/>
                <a:tab algn="l" pos="6566040"/>
                <a:tab algn="l" pos="8207280"/>
                <a:tab algn="l" pos="9848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3440"/>
                <a:tab algn="l" pos="6566040"/>
                <a:tab algn="l" pos="8207280"/>
                <a:tab algn="l" pos="984888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71280" y="1197000"/>
            <a:ext cx="76388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Derecho del Trabajo y Seguridad So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62120" y="1290600"/>
            <a:ext cx="754380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público punitivo comparado               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eoría de la pena                                                 1 Seguridad ciudadana en aspectos penales               1 Fund. Moral del poder punitivo del E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1 Criminologí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1 Derecho Penal Internacion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litos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tra la autodeterminación sexual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 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742840" y="685440"/>
            <a:ext cx="3600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iencias Pe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1519200"/>
            <a:ext cx="799164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Opta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Internac.de los derechos humano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ución de controversias internacional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atación internacion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Ele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laciones Internacional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rbitraje comercial internacional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5400" y="888840"/>
            <a:ext cx="4342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Derecho Inter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1295280"/>
            <a:ext cx="80931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nseñanza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línica del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re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línica de la familia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línica  laboral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línica  penal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línica  de negociación y mediación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7760" y="4572000"/>
            <a:ext cx="542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e5ffff"/>
                </a:solidFill>
                <a:uFillTx/>
                <a:latin typeface="Tahoma"/>
              </a:rPr>
              <a:t>Total</a:t>
            </a:r>
            <a:r>
              <a:rPr b="1" lang="es-ES" sz="2200" spc="-1" strike="noStrike" u="sng">
                <a:solidFill>
                  <a:srgbClr val="e5ffff"/>
                </a:solidFill>
                <a:uFillTx/>
                <a:latin typeface="Tahoma"/>
              </a:rPr>
              <a:t>	</a:t>
            </a:r>
            <a:r>
              <a:rPr b="1" lang="es-MX" sz="2200" spc="-1" strike="noStrike" u="sng">
                <a:solidFill>
                  <a:srgbClr val="e5ffff"/>
                </a:solidFill>
                <a:uFillTx/>
                <a:latin typeface="Tahoma"/>
              </a:rPr>
              <a:t>                                                         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7280" y="2924280"/>
            <a:ext cx="66978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649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Informática Jurídica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es-ES" sz="2200" spc="-1" strike="noStrike" u="sng">
                <a:solidFill>
                  <a:srgbClr val="e5ffff"/>
                </a:solidFill>
                <a:uFillTx/>
                <a:latin typeface="Tahoma"/>
              </a:rPr>
              <a:t>Total</a:t>
            </a:r>
            <a:r>
              <a:rPr b="1" lang="es-ES" sz="2200" spc="-1" strike="noStrike" u="sng">
                <a:solidFill>
                  <a:srgbClr val="e5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e5ffff"/>
                </a:solidFill>
                <a:uFillTx/>
                <a:latin typeface="Tahoma"/>
              </a:rPr>
              <a:t>2</a:t>
            </a:r>
            <a:endParaRPr b="0" lang="en-US" sz="2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99640" y="981000"/>
            <a:ext cx="770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Otras asignaturas optativas o electivas que no sepa su ubicación en las áreas anterio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2133720"/>
            <a:ext cx="8915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Promedio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Mo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nterés en el área respectiva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4.2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5(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nterés en contenido de asignatura misma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5(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alidad del profesor que la impartía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4(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Metodología anunciada para su desarrollo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.1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3(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Utilidad profesional de la asignatura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.4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(7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ompatib. horaria con asignaturas obligat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.  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3.5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3-4(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Necesidad completar número mayor créditos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.5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(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nterés de la bibliografía ofrecida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1.8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Facilidad esperada del curso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1.7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(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5720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ccff"/>
                </a:solidFill>
                <a:latin typeface="Tahoma"/>
              </a:rPr>
              <a:t>2.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“Su elección de asignaturas `optativas’ y `electivas’  pudo obedecer a uno o varios de los siguientes criterios. Califíquelos de acuerdo a una escala de 0 a 5 (0 para el criterio que no influyó en absoluto y 5 para el más influyente):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795600"/>
            <a:ext cx="8352000" cy="54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3.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“Además de las asignaturas `optativas’ y `electivas’ anteriores, el plan de estudios contempla un cierto número de créditos en `cursos libres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ahoma"/>
              </a:rPr>
              <a:t>a) ¿Cuáles “cursos libres” ha seguido usted?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Yoga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Deportes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Idiomas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Bailes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ursos de derecho 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Otras disciplinas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MX" sz="2200" spc="-1" strike="noStrike" u="sng">
                <a:solidFill>
                  <a:srgbClr val="ffffff"/>
                </a:solidFill>
                <a:uFillTx/>
                <a:latin typeface="Tahoma"/>
              </a:rPr>
              <a:t>                               3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539640" y="692280"/>
          <a:ext cx="807732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692280"/>
                    <a:ext cx="80773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2050920" y="23616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Gráfico Nº 3: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Cursos Lib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397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2440" indent="0">
              <a:buNone/>
              <a:tabLst>
                <a:tab algn="l" pos="0"/>
                <a:tab algn="l" pos="1257480"/>
                <a:tab algn="l" pos="5105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Interé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s, 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gust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o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, entretenido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9</a:t>
            </a:r>
            <a:br>
              <a:rPr sz="2200"/>
            </a:b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Horario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200"/>
            </a:b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Docentes y temas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Relajar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se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Actividad fuera de lo jurídico          </a:t>
            </a: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2200"/>
            </a:b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Vinculación a otras facultades        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200"/>
            </a:br>
            <a:br>
              <a:rPr sz="2200"/>
            </a:br>
            <a:br>
              <a:rPr sz="1600"/>
            </a:br>
            <a:endParaRPr b="0" lang="en-US" sz="2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3645000"/>
            <a:ext cx="8065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Excelente a buenos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4</a:t>
            </a:r>
            <a:br>
              <a:rPr sz="2200"/>
            </a:b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Muy conforme, buena experiencia..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4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Interesantes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3</a:t>
            </a:r>
            <a:br>
              <a:rPr sz="2200"/>
            </a:b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Sirven para relajarse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Formación general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2200"/>
            </a:b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Conocer otra Facultad (Universidad)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2200"/>
            </a:b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Muy básico no cumplió expectativas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1 (idiom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6120" y="379440"/>
            <a:ext cx="304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e5ffff"/>
                </a:solidFill>
                <a:latin typeface="Tahoma"/>
              </a:rPr>
              <a:t>b) ¿Por qué los eligió?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8280" y="3500280"/>
            <a:ext cx="82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e5ffff"/>
                </a:solidFill>
                <a:latin typeface="Tahoma"/>
              </a:rPr>
              <a:t>c) ¿Cuál es su opinión de los cursos libres por usted seguidos?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69192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30000"/>
              </a:lnSpc>
              <a:buNone/>
              <a:tabLst>
                <a:tab algn="l" pos="0"/>
                <a:tab algn="l" pos="895320"/>
                <a:tab algn="l" pos="3676680"/>
                <a:tab algn="l" pos="4133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i="1" lang="es-MX" sz="2400" spc="-1" strike="noStrike">
                <a:solidFill>
                  <a:srgbClr val="00ccff"/>
                </a:solidFill>
                <a:latin typeface="Tahoma"/>
              </a:rPr>
              <a:t>4.</a:t>
            </a: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El plan de estudio contempla  dos cursos de Clínica  Jurídica obligatorios.</a:t>
            </a:r>
            <a:r>
              <a:rPr b="0" i="1" lang="es-MX" sz="2800" spc="-1" strike="noStrike">
                <a:solidFill>
                  <a:srgbClr val="e5ffff"/>
                </a:solidFill>
                <a:latin typeface="Tahoma"/>
              </a:rPr>
              <a:t>                               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MX" sz="2000" spc="-1" strike="noStrike">
                <a:solidFill>
                  <a:srgbClr val="e5ffff"/>
                </a:solidFill>
                <a:latin typeface="Tahoma"/>
              </a:rPr>
              <a:t>                        </a:t>
            </a:r>
            <a:br>
              <a:rPr sz="2000"/>
            </a:br>
            <a:br>
              <a:rPr sz="2000"/>
            </a:b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Usted ha cursa</a:t>
            </a: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do: </a:t>
            </a:r>
            <a:br>
              <a:rPr sz="2400"/>
            </a:b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Ninguno: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0          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 Uno: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8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        Dos: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         Tres: 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2000"/>
            </a:b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¿Cuál es su opinión de los cursos de Clínica jurídica por usted seguidos?</a:t>
            </a:r>
            <a:br>
              <a:rPr sz="2400"/>
            </a:br>
            <a:br>
              <a:rPr sz="1600"/>
            </a:b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a. Valoración positiva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11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(bueno, importante, interesante,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excelente, útil, necesario)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400"/>
            </a:br>
            <a:br>
              <a:rPr sz="1200"/>
            </a:b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b. Valoración negativa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7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corto, mal profesor, básico)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9640" y="907920"/>
            <a:ext cx="83534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ccff"/>
                </a:solidFill>
                <a:latin typeface="Tahoma"/>
              </a:rPr>
              <a:t>1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“El plan de estudios de la Escuela de Derecho distingue diversas áreas de conocimiento. En cada una de estas áreas se establecen asignaturas que pueden ser `obligatorias’, `optativas’ y `electivas’. Indique en cada área, cuáles son las asignaturas `optativas’  y `electivas’  que usted ha cursado (incluyendo las que está cursando este semestre)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Optativas  49                 4,5  por alum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Electivas 124               11,3 por alum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Total     173               15,7 por alum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0920" y="508320"/>
            <a:ext cx="84247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ccff"/>
                </a:solidFill>
                <a:latin typeface="Tahoma"/>
              </a:rPr>
              <a:t>5.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El plan de estudio contempla la realización de dos cursos Talleres de Memoria. Usted ha realizado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just">
              <a:lnSpc>
                <a:spcPct val="125000"/>
              </a:lnSpc>
              <a:buClr>
                <a:srgbClr val="e5ffff"/>
              </a:buClr>
              <a:buFont typeface="Tahoma"/>
              <a:buChar char="-"/>
              <a:tabLst>
                <a:tab algn="l" pos="89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Ninguno: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3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;  - Uno: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6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; - Dos: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¿Cuál es su opinión de los talleres de memoria por usted realizados?  No opina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aloración Positiv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 4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aloración  Negativ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bueno,aprendí, buen profesor)        (dispares, expositivas, mal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28560" indent="0">
              <a:buNone/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i="1" lang="es-MX" sz="2400" spc="-1" strike="noStrike">
                <a:solidFill>
                  <a:srgbClr val="00ccff"/>
                </a:solidFill>
                <a:latin typeface="Tahoma"/>
              </a:rPr>
              <a:t>6.</a:t>
            </a: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¿Qué cursos de la carrera (de cualquier tipo) por usted seguidos le han parecido más importantes para su: (No indique más de dos por cada letra)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r>
              <a:rPr b="0" i="1" lang="es-CL" sz="1800" spc="-1" strike="noStrike">
                <a:solidFill>
                  <a:srgbClr val="e5ffff"/>
                </a:solidFill>
                <a:latin typeface="Tahoma"/>
              </a:rPr>
              <a:t>a). </a:t>
            </a:r>
            <a:r>
              <a:rPr b="1" i="1" lang="es-ES" sz="1800" spc="-1" strike="noStrike">
                <a:solidFill>
                  <a:srgbClr val="e5ffff"/>
                </a:solidFill>
                <a:latin typeface="Tahoma"/>
              </a:rPr>
              <a:t>Formación profesional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Procesa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5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ivi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5 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P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rocesal P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ena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Derecho sucesorio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Laboral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Clínica              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  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Introducción al Derecho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                                                      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D. int. de los Dos.Humamnos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              Lógica de las normas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br>
              <a:rPr sz="1800"/>
            </a:br>
            <a:r>
              <a:rPr b="0" i="1" lang="es-ES" sz="1800" spc="-1" strike="noStrike">
                <a:solidFill>
                  <a:srgbClr val="e5ffff"/>
                </a:solidFill>
                <a:latin typeface="Tahoma"/>
              </a:rPr>
              <a:t>b). </a:t>
            </a:r>
            <a:r>
              <a:rPr b="1" i="1" lang="es-ES" sz="1800" spc="-1" strike="noStrike">
                <a:solidFill>
                  <a:srgbClr val="e5ffff"/>
                </a:solidFill>
                <a:latin typeface="Tahoma"/>
              </a:rPr>
              <a:t>Formación general</a:t>
            </a:r>
            <a:r>
              <a:rPr b="1" i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Introducción al derecho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Macroeconomía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Fil. Moral, Ciencia política, Género y Derecho, Hist.Inst.Siglo XX, Civil,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Procesal, Comercial, Penal III (cada uno: 1)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 Otros 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685800"/>
            <a:ext cx="716580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c). </a:t>
            </a:r>
            <a:r>
              <a:rPr b="1" i="1" lang="es-ES" sz="2000" spc="-1" strike="noStrike">
                <a:solidFill>
                  <a:srgbClr val="e5ffff"/>
                </a:solidFill>
                <a:latin typeface="Tahoma"/>
              </a:rPr>
              <a:t>Desarrollo  de sus val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D. Procesal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D. Penal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Teoría social, Historia social,D. De Familia, D. Procesal penal, 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Clínica 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jurídica, Derecho en la biblia, Intr.a la filosofía de la ciencia,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Filosofía Mor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al,sal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No responde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i="1" lang="es-ES" sz="2000" spc="-1" strike="noStrike">
                <a:solidFill>
                  <a:srgbClr val="e5ffff"/>
                </a:solidFill>
                <a:latin typeface="Tahoma"/>
              </a:rPr>
              <a:t>d). Interés o preferencia personal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Introduc. al Derecho 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D. Económico, D. Eléctrico, D. Civil, D. Comercial Internac., D. Tributario, D. Int. De los Dos. Humanos, Responsabilidad del Estado, D.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Penal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, Regulación de los servicios públicos, Litigación ambiental, Introd. al pensamiento de Hegel, Hacia una Constitución por la igualdad, Relaciones internacionales, Filosofía mo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424720" cy="57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7239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e</a:t>
            </a:r>
            <a:r>
              <a:rPr b="1" i="1" lang="es-ES" sz="1800" spc="-1" strike="noStrike">
                <a:solidFill>
                  <a:srgbClr val="e5ffff"/>
                </a:solidFill>
                <a:latin typeface="Tahoma"/>
              </a:rPr>
              <a:t>).</a:t>
            </a:r>
            <a:r>
              <a:rPr b="1" i="1" lang="es-MX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es-ES" sz="1800" spc="-1" strike="noStrike">
                <a:solidFill>
                  <a:srgbClr val="e5ffff"/>
                </a:solidFill>
                <a:latin typeface="Tahoma"/>
              </a:rPr>
              <a:t>Destrezas y habilidades para el ejercicio de la abogacía</a:t>
            </a:r>
            <a:br>
              <a:rPr sz="1800"/>
            </a:br>
            <a:br>
              <a:rPr sz="1600"/>
            </a:br>
            <a:r>
              <a:rPr b="0" lang="es-MX" sz="1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línica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5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Derecho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Procesal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In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formación jurídica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Estrategia judicial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Ninguno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No responde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s-ES" sz="1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1" i="1" lang="es-ES" sz="1800" spc="-1" strike="noStrike">
                <a:solidFill>
                  <a:srgbClr val="e5ffff"/>
                </a:solidFill>
                <a:latin typeface="Tahoma"/>
              </a:rPr>
              <a:t>f) Destrezas y habilidades profesionales en general</a:t>
            </a:r>
            <a:r>
              <a:rPr b="0" lang="es-ES" sz="1600" spc="-1" strike="noStrike">
                <a:solidFill>
                  <a:srgbClr val="e5ffff"/>
                </a:solidFill>
                <a:latin typeface="Tahoma"/>
              </a:rPr>
              <a:t>  (ver</a:t>
            </a:r>
            <a:r>
              <a:rPr b="0" lang="es-MX" sz="1600" spc="-1" strike="noStrike">
                <a:solidFill>
                  <a:srgbClr val="e5ffff"/>
                </a:solidFill>
                <a:latin typeface="Tahoma"/>
              </a:rPr>
              <a:t> pregunta 13)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línica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Civil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Procesal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Litigación ambiental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Filosofía Moral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Hiist.Inst. siglo XX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República y comun. en crisis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Ninguno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No responde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0" lang="es-ES" sz="16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137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6040" indent="0"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7.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 ¿Qué contenidos o materias que no están en el plan de estudios considera usted indispensables incorporar para su adecuada formación como abogado?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Ramos de derecho práctico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Salida a terreno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Filosofía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Ramos de D. comparado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Idioma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Taller de examen de grado</a:t>
            </a:r>
            <a:br>
              <a:rPr sz="2000"/>
            </a:b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Economía crítica</a:t>
            </a:r>
            <a:br>
              <a:rPr sz="2000"/>
            </a:b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Sociología</a:t>
            </a:r>
            <a:br>
              <a:rPr sz="2000"/>
            </a:b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Oralidad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Organización empresarial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No responde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04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i="1" lang="es-MX" sz="2400" spc="-1" strike="noStrike">
                <a:solidFill>
                  <a:srgbClr val="00ccff"/>
                </a:solidFill>
                <a:latin typeface="Tahoma"/>
              </a:rPr>
              <a:t>8.</a:t>
            </a: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¿Qué contenidos o materias  que hoy están en el plan de estudios deberían profundizarse para su adecuada formación  profesional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?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Expresión oral y escrita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Teo. Gen. del D. Y T. de la Justicia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Clínicas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Taller de Memoria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Otros procedimientos (Adm.lanoral etc)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D. Laboral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D. Familia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Procesal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 aspectos prácticos</a:t>
            </a:r>
            <a:br>
              <a:rPr sz="2000"/>
            </a:b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Aspectos de litigación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Manejo de fuentes de información</a:t>
            </a:r>
            <a:br>
              <a:rPr sz="2000"/>
            </a:b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D. Penal de la empresa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No responde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4960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2440" indent="0" algn="just">
              <a:lnSpc>
                <a:spcPct val="120000"/>
              </a:lnSpc>
              <a:buNone/>
              <a:tabLst>
                <a:tab algn="l" pos="0"/>
                <a:tab algn="l" pos="3048120"/>
                <a:tab algn="l" pos="5467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ccff"/>
                </a:solidFill>
                <a:latin typeface="Tahoma"/>
              </a:rPr>
              <a:t>9.</a:t>
            </a: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¿Cuáles han sido las metodologías de enseñanza más utilizada en los cursos que ha seguido? Califíquelas con escala de 0 a 5 (0 para la no utilizada y 5 para la más utilizada).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905120"/>
          <a:ext cx="8305920" cy="4686120"/>
        </p:xfrm>
        <a:graphic>
          <a:graphicData uri="http://schemas.openxmlformats.org/drawingml/2006/table">
            <a:tbl>
              <a:tblPr/>
              <a:tblGrid>
                <a:gridCol w="5029200"/>
                <a:gridCol w="1582920"/>
                <a:gridCol w="1693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me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ase 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conferencia del profes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(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étodo de cas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(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bate con o entre los alum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(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o de multimed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-4(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abajos o investigacio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(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posiciones de los alum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(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ctura de bibliografía en bibliotec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(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abajos prácti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(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cuestas o entrevist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(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mulacio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9640" indent="0" algn="just">
              <a:buNone/>
              <a:tabLst>
                <a:tab algn="l" pos="0"/>
                <a:tab algn="l" pos="1428840"/>
                <a:tab algn="l" pos="5467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i="1" lang="es-MX" sz="2400" spc="-1" strike="noStrike">
                <a:solidFill>
                  <a:srgbClr val="00ccff"/>
                </a:solidFill>
                <a:latin typeface="Tahoma"/>
              </a:rPr>
              <a:t>1</a:t>
            </a: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0.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 ¿Qué cursos han tenido, a su juicio, la metodología de enseñanza más útil para su aprendizaje?  Indíquelos.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i="1" lang="es-ES" sz="2000" spc="-1" strike="noStrike">
                <a:solidFill>
                  <a:srgbClr val="e5ffff"/>
                </a:solidFill>
                <a:latin typeface="Tahoma"/>
              </a:rPr>
              <a:t>CURSO </a:t>
            </a:r>
            <a:r>
              <a:rPr b="1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i="1" lang="es-ES" sz="2000" spc="-1" strike="noStrike">
                <a:solidFill>
                  <a:srgbClr val="e5ffff"/>
                </a:solidFill>
                <a:latin typeface="Tahoma"/>
              </a:rPr>
              <a:t> METODOLOGI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932360" y="1960560"/>
            <a:ext cx="39956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Casos 5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Clases participativas discusión en  clases 3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Ensayos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E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xposición alumnos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lecturas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1557360"/>
            <a:ext cx="431928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5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5ffff"/>
                </a:solidFill>
                <a:latin typeface="Tahoma"/>
              </a:rPr>
              <a:t>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458280"/>
            <a:ext cx="84978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6040" indent="-446040" algn="just">
              <a:lnSpc>
                <a:spcPct val="10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11.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¿Cuáles formas o métodos de evaluación han sido los más utilizados en los cursos que ha seguido? Califíquelos con escala de 0 a 5 (0 para los no utilizados hasta 5 para los más utilizad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0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0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Promedio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oda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. Interrogación oral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3 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(8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. Preg. requiere respuesta por escrit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1 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. Preg.  requiere desarrollo escrito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              5(4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. Pruebas objetiva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5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4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. Solución de casos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8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4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.  Aplic. de conocimientos a la práctica    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3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4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g. Trabajos ensayo o investig.  Bibliog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1         2-3 (4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h. Trabajos empíricos o en terreno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 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0(8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i. Evaluac. desempeño en simulaciones     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   1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(5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4000" y="1023840"/>
            <a:ext cx="842472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6040" indent="-446040"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ccff"/>
                </a:solidFill>
                <a:latin typeface="Tahoma"/>
              </a:rPr>
              <a:t>12.</a:t>
            </a:r>
            <a:r>
              <a:rPr b="0" i="1" lang="es-ES" sz="2000" spc="-1" strike="noStrike">
                <a:solidFill>
                  <a:srgbClr val="ffffff"/>
                </a:solidFill>
                <a:latin typeface="Tahoma"/>
              </a:rPr>
              <a:t> ¿Qué métodos de evaluación le han parecido más adecuados para su aprendizaj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FORMA DE EVALUA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ución de Caso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nsayos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nterrogación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ral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rueba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s objetivas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Simulación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99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Gráfico Nº 1:  TOTAL ASIGNATURAS ELECTIVAS Y OPTATIVA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CURSADAS 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OR LOS ALUMN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TOTAL 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165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OPTATIVAS  -  49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572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ELECTIVAS   -  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124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05120" y="2232000"/>
          <a:ext cx="5962680" cy="462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2232000"/>
                    <a:ext cx="596268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8200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6040" indent="0">
              <a:buNone/>
              <a:tabLst>
                <a:tab algn="l" pos="0"/>
                <a:tab algn="l" pos="421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s-ES" sz="2000" spc="-1" strike="noStrike">
                <a:solidFill>
                  <a:srgbClr val="00ccff"/>
                </a:solidFill>
                <a:latin typeface="Tahoma"/>
              </a:rPr>
              <a:t>13.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 Además de aprender determinados contenidos o materias propios de cada curso, se considera que durante la carrera el alumno debe adquirir determinadas habilidades o destrezas necesarias para ejercer la profesión de abogado. Con la calificación siguiente evalúe usted en que medida las ha desarrollado. </a:t>
            </a:r>
            <a:r>
              <a:rPr b="0" i="1" lang="es-MX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5  Muy bien.      4 Bien.    3 Regular.    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 2. Mal.  1. Muy mal</a:t>
            </a:r>
            <a:r>
              <a:rPr b="0" i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727200"/>
                <a:tab algn="l" pos="421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                       </a:t>
            </a: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Promedio 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    Moda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1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apacidad para encontrar las fuentes de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derecho (legislación, jurisprudencia, doctrina, etc.)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2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(4)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en las bibliotecas.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2.  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apacidad para encontrar las fuentes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del 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derecho en Internet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45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4(5)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3.   Habilidad para  manejar códigos, leyes, fallos u otras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fuentes a fin de aplicarlos a un caso concreto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64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-4(5)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4.   Habilidad para interpretar los  distintos sentidos de una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disposición legal utilizando las reglas de hermenéutica.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45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(4)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5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Habilidad para identificar hechos relevantes en sus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82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4(5)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onsecuencias jurídicas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4000" y="321480"/>
            <a:ext cx="856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6. Destreza para  formular (redactar)  nor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ales como reglamentos, contratos, etc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45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7. Habilidad para razonar  y  argumentar  sobre un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18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(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ema jurídico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8. Capacidad para  redactar  una resolución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64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 sentencia  judicial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9. Capacidad para analizar críticamente una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64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(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rgumentación legal  o judicial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10. Habilidad para el manejo de los principios generales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55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el  derecho y criterios  de equidad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11. Destreza para manejar la prueba de los hechos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(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nterrogar testigos, formular posiciones, y dirigi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tros medios de prueba)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12. Aptitud para evaluar  hechos o normas desde  los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64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(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valores o fines del derecho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8120"/>
            <a:ext cx="84600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 algn="just">
              <a:buNone/>
              <a:tabLst>
                <a:tab algn="l" pos="0"/>
                <a:tab algn="l" pos="35244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1800"/>
            </a:b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                                                           </a:t>
            </a: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Promedio Moda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. 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1.Organización del trabajo propio y manejo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4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  3-5(4)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del   tiempo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2. Ordenación, registro y utilización de la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4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     4(7)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información adquirida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3. Capacitación   en  la  expresión   escrita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82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4(7)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(redacción, sintaxis,  ortografía, etc.)    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620640"/>
            <a:ext cx="84978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6040" indent="-446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ccff"/>
                </a:solidFill>
                <a:latin typeface="Tahoma"/>
              </a:rPr>
              <a:t>15.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Además de las habilidades y destrezas de tipo profesional como las antes indicadas, se supone que en la Universidad se adquieren o desarrollan otras habilidades requeridas en las profesiones, y que no siempre son innatas o adquiridas en la enseñanza básica y media. Con el mismo criterio de calificación: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000"/>
            </a:b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5 Muy bien. 4 Bien. 3 Regular. 2 Mal. 1 Muy mal,</a:t>
            </a:r>
            <a:br>
              <a:rPr sz="2000"/>
            </a:b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indique cuáles cree usted haber adquirido o desarrollado en la Carrera de Derech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00000" y="907920"/>
            <a:ext cx="79200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4. Capacitación para exponer oralmente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82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5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5. Dominio de otros idiomas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(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6. Utilización   de  la  computación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64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correo,  internet,  etc.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7. Planteamiento de un problema y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55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(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etodología  de investigación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8. Trabajo en equipo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3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9. Manejo de relaciones interpersonales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3         3-5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10. Liderazgo  para    organizar    y  dirigir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3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recursos humanos  y  materiales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5680" y="76680"/>
            <a:ext cx="8734320" cy="67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17.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 Respuestas a las preguntas 17 – 18 y 2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Durante sus estudios en la Escuela.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a realizado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- A</a:t>
            </a:r>
            <a:r>
              <a:rPr b="0" i="1" lang="es-ES" sz="2000" spc="-1" strike="noStrike">
                <a:solidFill>
                  <a:srgbClr val="ffffff"/>
                </a:solidFill>
                <a:latin typeface="Tahoma"/>
              </a:rPr>
              <a:t>ctividades 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académicas como ayudante alumn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Si 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i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o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o responde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- Actividades vinculadas a la profesión o ha ejercido como procurador:como procurador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Si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o responde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ctividades adicionales al estudiante (no vinculadas a la academia o a la profesión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just">
              <a:lnSpc>
                <a:spcPct val="115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Si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8</a:t>
            </a:r>
            <a:br>
              <a:rPr sz="2000"/>
            </a:b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No 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just">
              <a:lnSpc>
                <a:spcPct val="115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No responde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0920" y="1197000"/>
            <a:ext cx="784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96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18.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 En escala de 0 a 5,  ¿Cuál es su grado de satisfacción con el nivel de formación recibido en la Escuela?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i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Calificación  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Promedio    Moda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a) Formación persona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5      3(6)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b) Formación profesiona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4.3      4(6)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9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19.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 Si usted tuviera el poder y  la oportunidad de introducir tres cambios a la Carrera de Derecho de la Universidad de Chile para mejorarla, ¿Cuáles serían?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400"/>
            </a:br>
            <a:br>
              <a:rPr sz="2000"/>
            </a:b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GRAFICO Nº 4: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ambios a la carrera de Derecho de la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Universidad de Chile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-304920" y="1341360"/>
          <a:ext cx="9448920" cy="600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04920" y="1341360"/>
                    <a:ext cx="944892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50920" y="311760"/>
            <a:ext cx="889308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ahoma"/>
              <a:buAutoNum type="alphaLcParenR"/>
              <a:tabLst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Malla Curricular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ahoma"/>
              <a:buAutoNum type="alphaLcParenR"/>
              <a:tabLst>
                <a:tab algn="l" pos="80661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umento de ramos electivos, aumento cs. so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Ramos obligatorios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ngl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etodología de la investig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Orato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Derechos Huma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413244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ahoma"/>
              <a:buAutoNum type="alphaLcParenR" startAt="2"/>
              <a:tabLst>
                <a:tab algn="l" pos="984240"/>
                <a:tab algn="l" pos="736272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Metodología de Enseñanza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84240"/>
                <a:tab algn="l" pos="736272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nfoque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ráctico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(visitas instituciones, tribunales,  casos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84240"/>
                <a:tab algn="l" pos="7362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84240"/>
                <a:tab algn="l" pos="736272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ayor dial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84240"/>
                <a:tab algn="l" pos="7362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762480"/>
            <a:ext cx="8496360" cy="17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tabLst>
                <a:tab algn="l" pos="0"/>
                <a:tab algn="l" pos="988920"/>
                <a:tab algn="l" pos="780084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c) Metodología de 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988920"/>
                <a:tab algn="l" pos="7800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30000"/>
              </a:lnSpc>
              <a:tabLst>
                <a:tab algn="l" pos="0"/>
                <a:tab algn="l" pos="988920"/>
                <a:tab algn="l" pos="780084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formas al sistema de 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30000"/>
              </a:lnSpc>
              <a:tabLst>
                <a:tab algn="l" pos="0"/>
                <a:tab algn="l" pos="988920"/>
                <a:tab algn="l" pos="780084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xámenes oral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30000"/>
              </a:lnSpc>
              <a:tabLst>
                <a:tab algn="l" pos="0"/>
                <a:tab algn="l" pos="988920"/>
                <a:tab algn="l" pos="7800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25142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2080" indent="-262080" algn="just">
              <a:lnSpc>
                <a:spcPct val="100000"/>
              </a:lnSpc>
              <a:tabLst>
                <a:tab algn="l" pos="0"/>
                <a:tab algn="l" pos="895320"/>
                <a:tab algn="l" pos="744552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d) Examen de G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895320"/>
                <a:tab algn="l" pos="74455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895320"/>
                <a:tab algn="l" pos="74455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dificación al exámen de g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895320"/>
                <a:tab algn="l" pos="74455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8098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47560" indent="-547560" algn="just">
              <a:lnSpc>
                <a:spcPct val="100000"/>
              </a:lnSpc>
              <a:buClr>
                <a:srgbClr val="ffffff"/>
              </a:buClr>
              <a:buFont typeface="Tahoma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Cuerpo Académ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547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547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oncursos para académ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547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visión de competencias de académ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541008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i="1" lang="es-MX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Facultad y la Univers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ayor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ntegración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e la Escuela con otras Facultade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153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16956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GRAFICO Nº 2 : 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ASIGNATURAS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Total 1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7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6956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Optativas  -  49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Electivas    -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124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-612720" y="1125360"/>
          <a:ext cx="10009080" cy="640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12720" y="1125360"/>
                    <a:ext cx="10009080" cy="64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838080"/>
            <a:ext cx="406728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tabLst>
                <a:tab algn="l" pos="0"/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Opta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tabLst>
                <a:tab algn="l" pos="0"/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istoria de la Filosofí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eoría Gral. Derech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ógica de las Norm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eoría de la Justici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0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tabLst>
                <a:tab algn="l" pos="0"/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un alumno cursó los tres primeros  y un alumno cursó los dos primeros)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228600"/>
            <a:ext cx="5797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iencias del Derech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0000" y="692280"/>
            <a:ext cx="446400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tabLst>
                <a:tab algn="l" pos="0"/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Elec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tabLst>
                <a:tab algn="l" pos="0"/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signaturas históric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eoría Soci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ociología del Derech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ntropología Jurídi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indígena  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omano de las cos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omano instit.            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rod. Dº. natural      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énero y Derech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ioéti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. de las Cienci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. Idea soc. Dº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ensamiento Hegel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616572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tabLst>
                <a:tab algn="l" pos="0"/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Total          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                       6</a:t>
            </a:r>
            <a:r>
              <a:rPr b="1" lang="es-MX" sz="2200" spc="-1" strike="noStrike" u="sng">
                <a:solidFill>
                  <a:srgbClr val="ffffff"/>
                </a:solidFill>
                <a:uFillTx/>
                <a:latin typeface="Tahoma"/>
              </a:rPr>
              <a:t>5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403280" y="764640"/>
            <a:ext cx="6624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Derecho Privado (Civil y Comerci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700280"/>
            <a:ext cx="57927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Sucesorio y partición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piedad industri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público económico 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tudio de título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ercial Internacion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Seguro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rod. a la bioética               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2160720"/>
            <a:ext cx="784872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iencia políti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pública y comunidad en crisi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Urbanístic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y telecomunicaciones                     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proc. politico chileno Siglos XIX y XX         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rso  Prof. Walker                                    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      1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131640" y="1052640"/>
            <a:ext cx="3497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Derecho Públ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925920"/>
            <a:ext cx="426708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Opta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Recursos Natur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Medio Ambient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de Agu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Miner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Regulación Económ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rcado de Valor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gulación Serv. Publ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ercio y Fin. Intern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Bancari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75080" y="848880"/>
            <a:ext cx="454032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Elec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tabilidad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olit. Económica Contemp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Eléctric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re Competenci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nálisis econ. del Derecho    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del consumidor       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620640"/>
            <a:ext cx="626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Economía y Derecho Económic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660280"/>
            <a:ext cx="842472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MX" sz="2200" spc="-1" strike="noStrike" u="sng">
                <a:solidFill>
                  <a:srgbClr val="ffffff"/>
                </a:solidFill>
                <a:uFillTx/>
                <a:latin typeface="Tahoma"/>
              </a:rPr>
              <a:t>                               3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819520" y="685440"/>
            <a:ext cx="3673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Derecho Proces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1762560"/>
            <a:ext cx="741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prueba civil y penal                                        1 Estrategia judicial en el proceso civil        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cedimientos civiles especial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Justicia Militar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tigación or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investigación en el nuevo pr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s-MX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en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tigación ambiental                              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Justicia policía loc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22:30:11Z</dcterms:created>
  <dc:creator>lespinoza</dc:creator>
  <dc:description/>
  <dc:language>en-US</dc:language>
  <cp:lastModifiedBy>Lucas Sierra</cp:lastModifiedBy>
  <dcterms:modified xsi:type="dcterms:W3CDTF">2007-04-11T20:10:41Z</dcterms:modified>
  <cp:revision>153</cp:revision>
  <dc:subject/>
  <dc:title>CURSO PROFESIÓN JURÍDICA (primer semestre 2006)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