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F06-DD9C-4EE8-8112-470D9DAD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071-7DCB-46DE-9751-D5EBE50F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1FD-7837-4C4E-83A2-0A70F6DD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C3D-9CF4-4C18-A0A9-C0C1D94E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42E1-B496-493C-9E19-B7BE5C43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CF75-E72A-4D5B-AFC5-02060A08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B8E8-6110-49A0-920B-F8F2FAA4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5C98-73A8-4350-A814-34F806CE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AFE9-67F9-40A2-93ED-9456C4E3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5907-0FD7-456E-AC9A-27444DEA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371F-947F-4EAD-B49B-3D470F8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29D-F4A2-487B-B374-2CE35BE8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9BBA-297D-48F3-9142-09972038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357D-7235-48F4-89DF-B1DD3B7A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FFDF-AEAF-40A0-8D8F-252E2CAE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7F39-3482-45F5-81BB-C1F27773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A7A7-1937-4334-9660-8648FE0C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CEA-FA04-4A18-892D-491421FA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F9A-AA6B-4064-9168-2020F33E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352-D991-4E63-AE66-25E09AFC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C86-3F10-4B0A-B31F-A14508B9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29C-066D-4D39-B29C-9B9EC1C5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9A9-876C-46D1-99B8-E68ADB20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39E-AE0E-44D0-AF20-A994B98B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96B8-A3FD-402F-BD47-EE2B56199F9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86AD-A03E-4A98-A743-C1B8B92C937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Resultados encuesta</a:t>
            </a:r>
            <a:br>
              <a:rPr sz="4400"/>
            </a:b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CURSO PROFESIÓN JURÍDICA (Primer Semestre 2007)</a:t>
            </a: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32000" y="2483640"/>
            <a:ext cx="65736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Trabajo de Empres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280" y="1197000"/>
            <a:ext cx="7638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del Trabajo y Seguridad So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1290600"/>
            <a:ext cx="754380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público punitivo comparado    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de la pena                                                 1 Seguridad ciudadana en aspectos penales               1 Fund. Moral del poder punitivo del E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 Criminolog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 Derecho Penal Internacio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ito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a la autodeterminación sexual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 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742840" y="685440"/>
            <a:ext cx="3600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iencias Pe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19200"/>
            <a:ext cx="799164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pt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Internac.de los derechos human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ción de controversias internaciona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tación internacion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acione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bitraje comercial internacional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5400" y="888840"/>
            <a:ext cx="4342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295280"/>
            <a:ext cx="8093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señanza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línica del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r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de la familia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laboral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penal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de negociación y mediación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7760" y="4572000"/>
            <a:ext cx="542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e5ffff"/>
                </a:solidFill>
                <a:uFillTx/>
                <a:latin typeface="Tahoma"/>
              </a:rPr>
              <a:t>                                                         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280" y="2924280"/>
            <a:ext cx="6697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649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Informática Jurídica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2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9640" y="981000"/>
            <a:ext cx="770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tras asignaturas optativas o electivas que no sepa su ubicación en las áreas anteri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13372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omedio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en el área respectiv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.2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en contenido de asignatura mism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alidad del profesor que la impartí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etodología anunciada para su desarrollo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1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tilidad profesional de la asignatur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mpatib. horaria con asignaturas obligat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.5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-4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ecesidad completar número mayor créditos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5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de la bibliografía ofrecid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8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acilidad esperada del curso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7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572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2.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Su elección de asignaturas `optativas’ y `electivas’  pudo obedecer a uno o varios de los siguientes criterios. Califíquelos de acuerdo a una escala de 0 a 5 (0 para el criterio que no influyó en absoluto y 5 para el más influyente):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795600"/>
            <a:ext cx="835200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3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“Además de las asignaturas `optativas’ y `electivas’ anteriores, el plan de estudios contempla un cierto número de créditos en `cursos libre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ahoma"/>
              </a:rPr>
              <a:t>a) ¿Cuáles “cursos libres” ha seguido usted?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Yoga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porte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ioma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ailes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ursos de derecho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Otras disciplinas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39640" y="692280"/>
          <a:ext cx="80773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692280"/>
                    <a:ext cx="8077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050920" y="23616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Gráfico Nº 3: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Cursos Lib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2440" indent="0">
              <a:buNone/>
              <a:tabLst>
                <a:tab algn="l" pos="0"/>
                <a:tab algn="l" pos="125748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Interé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, 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gust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, entretenid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9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Horari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Docentes y temas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Relajar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e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Actividad fuera de lo jurídico          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Vinculación a otras facultades       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645000"/>
            <a:ext cx="806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Excelente a buenos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4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Muy conforme, buena experiencia..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Interesantes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3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irven para relajarse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Formación general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Conocer otra Facultad (Universidad)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Muy básico no cumplió expectativas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 (idio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6120" y="37944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e5ffff"/>
                </a:solidFill>
                <a:latin typeface="Tahoma"/>
              </a:rPr>
              <a:t>b) ¿Por qué los eligió?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280" y="3500280"/>
            <a:ext cx="82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e5ffff"/>
                </a:solidFill>
                <a:latin typeface="Tahoma"/>
              </a:rPr>
              <a:t>c) ¿Cuál es su opinión de los cursos libres por usted seguidos?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69192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30000"/>
              </a:lnSpc>
              <a:buNone/>
              <a:tabLst>
                <a:tab algn="l" pos="0"/>
                <a:tab algn="l" pos="895320"/>
                <a:tab algn="l" pos="3676680"/>
                <a:tab algn="l" pos="413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4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El plan de estudio contempla  dos cursos de Clínica  Jurídica obligatorios.</a:t>
            </a:r>
            <a:r>
              <a:rPr b="0" i="1" lang="es-MX" sz="2800" spc="-1" strike="noStrike">
                <a:solidFill>
                  <a:srgbClr val="e5ffff"/>
                </a:solidFill>
                <a:latin typeface="Tahoma"/>
              </a:rPr>
              <a:t>                               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e5ffff"/>
                </a:solidFill>
                <a:latin typeface="Tahoma"/>
              </a:rPr>
              <a:t>                        </a:t>
            </a:r>
            <a:br>
              <a:rPr sz="2000"/>
            </a:br>
            <a:br>
              <a:rPr sz="2000"/>
            </a:b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Usted ha cursa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do: </a:t>
            </a:r>
            <a:br>
              <a:rPr sz="24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Ning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0          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8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       Dos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        Tres: 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Cuál es su opinión de los cursos de Clínica jurídica por usted seguidos?</a:t>
            </a:r>
            <a:br>
              <a:rPr sz="2400"/>
            </a:br>
            <a:br>
              <a:rPr sz="16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a. Valoración positiva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11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(bueno, importante, interesante,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excelente, útil, necesario)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400"/>
            </a:br>
            <a:br>
              <a:rPr sz="12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b. Valoración negativa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7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corto, mal profesor, básico)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9640" y="907920"/>
            <a:ext cx="8353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ccff"/>
                </a:solidFill>
                <a:latin typeface="Tahoma"/>
              </a:rPr>
              <a:t>1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“El plan de estudios de la Escuela de Derecho distingue diversas áreas de conocimiento. En cada una de estas áreas se establecen asignaturas que pueden ser `obligatorias’, `optativas’ y `electivas’. Indique en cada área, cuáles son las asignaturas `optativas’  y `electivas’  que usted ha cursado (incluyendo las que está cursando este semestre)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Optativas  49                 4,5 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Electivas 124               11,3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Total     173               15,7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508320"/>
            <a:ext cx="8424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ccff"/>
                </a:solidFill>
                <a:latin typeface="Tahoma"/>
              </a:rPr>
              <a:t>5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El plan de estudio contempla la realización de dos cursos Talleres de Memoria. Usted ha realizado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25000"/>
              </a:lnSpc>
              <a:buClr>
                <a:srgbClr val="e5ffff"/>
              </a:buClr>
              <a:buFont typeface="Tahoma"/>
              <a:buChar char="-"/>
              <a:tabLst>
                <a:tab algn="l" pos="8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Ning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;  - 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6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; - Dos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¿Cuál es su opinión de los talleres de memoria por usted realizados?  No opina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loración Posi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4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loración  Nega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bueno,aprendí, buen profesor)        (dispares, expositivas, mal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6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Qué cursos de la carrera (de cualquier tipo) por usted seguidos le han parecido más importantes para su: (No indique más de dos por cada letra)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CL" sz="1800" spc="-1" strike="noStrike">
                <a:solidFill>
                  <a:srgbClr val="e5ffff"/>
                </a:solidFill>
                <a:latin typeface="Tahoma"/>
              </a:rPr>
              <a:t>a).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ormación profesional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ivi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5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rocesal P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erecho sucesori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abor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línica          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  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Introducción al Derech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                                                  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. int. de los Dos.Humamnos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        Lógica de las normas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b).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ormación general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Introducción al derecho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Macroeconomí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il. Moral, Ciencia política, Género y Derecho, Hist.Inst.Siglo XX, Civil,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Procesal, Comercial, Penal III (cada uno: 1)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Otros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685800"/>
            <a:ext cx="71658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c). 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Desarrollo  de sus va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roces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en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Teoría social, Historia social,D. De Familia, D. Procesal penal, 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Clínica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jurídica, Derecho en la biblia, Intr.a la filosofía de la ciencia,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Filosofía Mor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al,sal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d). Interés o preferencia personal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Introduc. al Derecho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Económico, D. Eléctrico, D. Civil, D. Comercial Internac., D. Tributario, D. Int. De los Dos. Humanos, Responsabilidad del Estado, D.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en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, Regulación de los servicios públicos, Litigación ambiental, Introd. al pensamiento de Hegel, Hacia una Constitución por la igualdad, Relaciones internacionales, Filosofía mo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7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7239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).</a:t>
            </a:r>
            <a:r>
              <a:rPr b="1" i="1" lang="es-MX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Destrezas y habilidades para el ejercicio de la abogacía</a:t>
            </a:r>
            <a:br>
              <a:rPr sz="1800"/>
            </a:br>
            <a:br>
              <a:rPr sz="1600"/>
            </a:b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lín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erecho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In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ormación juríd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strategia judici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inguno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) Destrezas y habilidades profesionales en general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 (ver</a:t>
            </a: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 pregunta 13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lín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ivil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itigación ambiental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ilosofía Mor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Hiist.Inst. siglo XX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República y comun. en crisis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inguno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6040" indent="0"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7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¿Qué contenidos o materias que no están en el plan de estudios considera usted indispensables incorporar para su adecuada formación como abogado?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Ramos de derecho práctic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Salida a terren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Filosofía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Ramos de D. comparad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Idioma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Taller de examen de grado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Economía crítica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Sociología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Oralidad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Organización empresarial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0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8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Qué contenidos o materias  que hoy están en el plan de estudios deberían profundizarse para su adecuada formación  profesional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?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Expresión oral y escrita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Teo. Gen. del D. Y T. de la Justic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Clínicas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Taller de Memor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Otros procedimientos (Adm.lanoral etc)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D. Laboral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D. Famil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 aspectos prácticos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Aspectos de litigación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Manejo de fuentes de información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enal de la empresa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96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2440" indent="0" algn="just">
              <a:lnSpc>
                <a:spcPct val="120000"/>
              </a:lnSpc>
              <a:buNone/>
              <a:tabLst>
                <a:tab algn="l" pos="0"/>
                <a:tab algn="l" pos="3048120"/>
                <a:tab algn="l" pos="546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9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Cuáles han sido las metodologías de enseñanza más utilizada en los cursos que ha seguido? Califíquelas con escala de 0 a 5 (0 para la no utilizada y 5 para la más utilizada)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05120"/>
          <a:ext cx="8305920" cy="4686120"/>
        </p:xfrm>
        <a:graphic>
          <a:graphicData uri="http://schemas.openxmlformats.org/drawingml/2006/table">
            <a:tbl>
              <a:tblPr/>
              <a:tblGrid>
                <a:gridCol w="5029200"/>
                <a:gridCol w="1582920"/>
                <a:gridCol w="169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e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conferencia del profes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(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étodo de cas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bate con o entre los alum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o de multime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4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bajos o investiga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osiciones de los alum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(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ctura de bibliografía en bibliote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bajos práct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uestas o entrevis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ula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 algn="just">
              <a:buNone/>
              <a:tabLst>
                <a:tab algn="l" pos="0"/>
                <a:tab algn="l" pos="1428840"/>
                <a:tab algn="l" pos="546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1</a:t>
            </a: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0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¿Qué cursos han tenido, a su juicio, la metodología de enseñanza más útil para su aprendizaje?  Indíquelos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CURSO 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 METODOLOGI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1960560"/>
            <a:ext cx="3995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asos 5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lases participativas discusión en  clases 3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nsayos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xposición alumnos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lectura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557360"/>
            <a:ext cx="43192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5ffff"/>
                </a:solidFill>
                <a:latin typeface="Tahoma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458280"/>
            <a:ext cx="8497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1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¿Cuáles formas o métodos de evaluación han sido los más utilizados en los cursos que ha seguido? Califíquelos con escala de 0 a 5 (0 para los no utilizados hasta 5 para los más utilizad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medio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oda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. Interrogación ora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3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(8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. Preg. requiere respuesta por escrit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1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. Preg.  requiere desarrollo escrit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              5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. Pruebas objetiva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. Solución de caso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8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.  Aplic. de conocimientos a la práctica   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3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. Trabajos ensayo o investig.  Bibliog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1         2-3 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. Trabajos empíricos o en terren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0(8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. Evaluac. desempeño en simulaciones    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(5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1023840"/>
            <a:ext cx="8424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2.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 ¿Qué métodos de evaluación le han parecido más adecuados para su aprendizaj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FORMA DE EVALU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ución de Cas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sayos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terrogación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ra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ueba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 objetiva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imulación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99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Gráfico Nº 1:  TOTAL ASIGNATURAS ELECTIVAS Y OPTATIVA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CURSADAS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R LOS ALUMN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TOTAL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65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PTATIVAS  -  49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LECTIVAS   - 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24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5120" y="2232000"/>
          <a:ext cx="5962680" cy="462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232000"/>
                    <a:ext cx="596268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6040" indent="0">
              <a:buNone/>
              <a:tabLst>
                <a:tab algn="l" pos="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3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Además de aprender determinados contenidos o materias propios de cada curso, se considera que durante la carrera el alumno debe adquirir determinadas habilidades o destrezas necesarias para ejercer la profesión de abogado. Con la calificación siguiente evalúe usted en que medida las ha desarrollado. </a:t>
            </a:r>
            <a:r>
              <a:rPr b="0" i="1" lang="es-MX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5  Muy bien.      4 Bien.    3 Regular.    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2. Mal.  1. Muy mal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72720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                       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Promedio 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    Moda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1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pacidad para encontrar las fuentes de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recho (legislación, jurisprudencia, doctrina, etc.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2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(4)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n las bibliotecas.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.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pacidad para encontrar las fuente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l 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recho en Internet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45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5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3.   Habilidad para  manejar códigos, leyes, fallos u otra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fuentes a fin de aplicarlos a un caso concreto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-4(5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4.   Habilidad para interpretar los  distintos sentidos de un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isposición legal utilizando las reglas de hermenéutica.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45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5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Habilidad para identificar hechos relevantes en su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82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5)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onsecuencias jurídicas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32148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. Destreza para  formular (redactar)  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ales como reglamentos, contratos, etc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4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7. Habilidad para razonar  y  argumentar  sobre u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18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ema jurídic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. Capacidad para  redactar  una resolu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 sentencia  judicial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9. Capacidad para analizar críticamente una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rgumentación legal  o judicial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0. Habilidad para el manejo de los principios generale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l  derecho y criterios  de equidad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1. Destreza para manejar la prueba de los hech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nterrogar testigos, formular posiciones, y dirig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tros medios de prueba)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2. Aptitud para evaluar  hechos o normas desde  l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alores o fines del derech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8120"/>
            <a:ext cx="8460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 algn="just">
              <a:buNone/>
              <a:tabLst>
                <a:tab algn="l" pos="0"/>
                <a:tab algn="l" pos="35244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1800"/>
            </a:b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Promedio Moda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. 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.Organización del trabajo propio y manej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3-5(4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l   tiempo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2. Ordenación, registro y utilización de l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4(7)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información adquirida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3. Capacitación   en  la  expresión   escrit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82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7)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(redacción, sintaxis,  ortografía, etc.)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620640"/>
            <a:ext cx="8497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5.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Además de las habilidades y destrezas de tipo profesional como las antes indicadas, se supone que en la Universidad se adquieren o desarrollan otras habilidades requeridas en las profesiones, y que no siempre son innatas o adquiridas en la enseñanza básica y media. Con el mismo criterio de calificación: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5 Muy bien. 4 Bien. 3 Regular. 2 Mal. 1 Muy mal,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indique cuáles cree usted haber adquirido o desarrollado en la Carrera de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907920"/>
            <a:ext cx="7920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4. Capacitación para exponer oralmente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82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5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5. Dominio de otros idioma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. Utilización   de  la  comput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correo,  internet,  etc.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7. Planteamiento de un problema y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etodología  de investigación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. Trabajo en equip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3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9. Manejo de relaciones interpersona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3         3-5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0. Liderazgo  para    organizar    y  dirigir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3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cursos humanos  y  materia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5680" y="76680"/>
            <a:ext cx="8734320" cy="67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7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Respuestas a las preguntas 17 – 18 y 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Durante sus estudios en la Escuela.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a realizado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- A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ctividades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académicas como ayudante alum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i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spond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- Actividades vinculadas a la profesión o ha ejercido como procurador:como procurado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sponde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ctividades adicionales al estudiante (no vinculadas a la academia o a la profesió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8</a:t>
            </a:r>
            <a:br>
              <a:rPr sz="2000"/>
            </a:b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No responde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84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8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En escala de 0 a 5,  ¿Cuál es su grado de satisfacción con el nivel de formación recibido en la Escuela?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Calificación  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Promedio    Moda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a) Formación perso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5      3(6)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b) Formación profesio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.3      4(6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9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9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Si usted tuviera el poder y  la oportunidad de introducir tres cambios a la Carrera de Derecho de la Universidad de Chile para mejorarla, ¿Cuáles serían?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400"/>
            </a:br>
            <a:br>
              <a:rPr sz="2000"/>
            </a:b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GRAFICO Nº 4: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mbios a la carrera de Derecho de l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-304920" y="1341360"/>
          <a:ext cx="9448920" cy="600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04920" y="1341360"/>
                    <a:ext cx="944892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311760"/>
            <a:ext cx="889308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Malla Curricular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80661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umento de ramos electivos, aumento cs.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amos obligatorios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g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todología de la investig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ra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1324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 startAt="2"/>
              <a:tabLst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Metodología de Enseñanza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foque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áctico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(visitas instituciones, tribunales,  casos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ayor dia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762480"/>
            <a:ext cx="84963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c) Metodología de 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formas al sistema de 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xámenes ora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5142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d) Examen de 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dificación al exámen de 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8098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7560" indent="-54756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Cuerpo Acadé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cursos para acadé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visión de competencias de acadé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4100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i="1" lang="es-MX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Facultad y la Univers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tegración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 la Escuela con otras Facultad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16956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GRAFICO Nº 2 : 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SIGNATURAS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otal 1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7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6956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ptativas  -  49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lectivas    -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24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612720" y="1125360"/>
          <a:ext cx="10009080" cy="640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12720" y="1125360"/>
                    <a:ext cx="1000908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838080"/>
            <a:ext cx="406728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pt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istoria de la Filosof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Gral.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ógica de las Norm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de la Justi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0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un alumno cursó los tres primeros  y un alumno cursó los dos primeros)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"/>
            <a:ext cx="57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iencias del Derec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0000" y="692280"/>
            <a:ext cx="446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signaturas históri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Soc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ociología del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tropología Juríd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indígena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mano de las cos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mano instit.      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rod. Dº. natural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énero y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oét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. de las Cienci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. Idea soc. Dº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nsamiento Hegel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1657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          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6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5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03280" y="76464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recho Privado (Civil y Comerci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700280"/>
            <a:ext cx="5792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Sucesorio y partición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iedad industr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público económico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udio de títu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ercial Internacio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Segur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rod. a la bioética    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2160720"/>
            <a:ext cx="7848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iencia polít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pública y comunidad en crisi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Urbanísti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y telecomunicaciones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proc. politico chileno Siglos XIX y XX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so  Prof. Walker               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      1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131640" y="1052640"/>
            <a:ext cx="3497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Púb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25920"/>
            <a:ext cx="42670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pt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Recursos Natu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Medio Ambie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de Agu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Miner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Regulación Econó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rcado de Val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gulación Serv. Publ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ercio y Fin. Intern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Bancari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75080" y="848880"/>
            <a:ext cx="454032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tabili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lit. Económica Contemp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Eléctri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re Competen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álisis econ. del Derecho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del consumidor   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620640"/>
            <a:ext cx="62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conomía y Derecho Económ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660280"/>
            <a:ext cx="84247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3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19520" y="685440"/>
            <a:ext cx="3673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Proces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76256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rueba civil y penal                                        1 Estrategia judicial en el proceso civil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dimientos civiles especi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usticia Milita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tigación or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vestigación en el nuevo pr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s-MX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tigación ambiental         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usticia policía loc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30:11Z</dcterms:created>
  <dc:creator>lespinoza</dc:creator>
  <dc:description/>
  <dc:language>en-US</dc:language>
  <cp:lastModifiedBy>Lucas Sierra</cp:lastModifiedBy>
  <dcterms:modified xsi:type="dcterms:W3CDTF">2007-04-11T20:10:41Z</dcterms:modified>
  <cp:revision>153</cp:revision>
  <dc:subject/>
  <dc:title>CURSO PROFESIÓN JURÍDICA (primer semestre 2006)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