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358-A835-436B-8913-2662C98C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76A-5394-4861-9B16-C8F702F5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5F0-18BA-4FD8-9E59-2D53AAF9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E8E-C795-4C21-9B96-55683D5E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16D-AA27-405A-8763-2D114A6B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8DD-7CAC-4537-9EE7-FBCEB1DD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16B-3FC7-46CA-8A4A-AC55626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B0F-7A08-440A-B4C8-DC4E582B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DA6-E27D-40AC-9B6E-14D7F7DF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6AC-DD20-4F10-A877-B6CA2572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C67-4C00-448F-9547-65BA555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42E-72FF-4C70-B3C1-4C6391E1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ACCB-C306-4414-AB6B-404D2BD98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5834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ítulo I.  Int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431640"/>
            <a:ext cx="939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A DEL DERECHO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udio de la evolución del Derecho Occidental a través del conocimiento de los cambios producidos en sus normas e instituciones jurídicas y en sus principios (valores) y concepciones sobre el derecho como parte del proceso histórico de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CIDAD DEL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CEPTO DE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stum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- Normas jurídicas             Jurisprudencia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Jurisprudencia Doctr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echos de la realida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.-Instituciones jurídicas      Valoración social del h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rmativa jdca.  del hecho según valo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.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.-Concepciones sobre 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3284640"/>
            <a:ext cx="73080" cy="129672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4869000"/>
            <a:ext cx="144720" cy="10810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5"/>
                </a:lnTo>
                <a:cubicBezTo>
                  <a:pt x="10800" y="10435"/>
                  <a:pt x="5400" y="11335"/>
                  <a:pt x="0" y="11335"/>
                </a:cubicBezTo>
                <a:cubicBezTo>
                  <a:pt x="5400" y="11335"/>
                  <a:pt x="10800" y="12235"/>
                  <a:pt x="10800" y="131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333360"/>
            <a:ext cx="896472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continental europeo o roma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ccidental                                 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Derecho del Common law o anglosaj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en común:            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ertas instituciones jurí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ism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rten la concepción científica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ieren:                            Menor influencia de ciert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erentes valor de las fuentes  formale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90972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361800"/>
            <a:ext cx="813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FORMATIVOS DEL DERECHO OCCID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- Derech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- Derecho ger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- Derecho can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- Doctrina del derecho común, “ius commu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- Concepción católic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Concepción racionalist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- Concepción positivista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- Concepciones socialistas sobre 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20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IODIFICACIÓN DE LA HISTORIA DEL DERECHO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-EDAD ANTIGUA. 218 a.C – 476 d.C. Romanización e influenci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istianismo en el derecho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-TEMPRANA EDAD MEDIA. 476 – 711. Aporte germano y canónico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occidental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- ALTA EDAD MEDIA. 711 – 1217. Etapa de variedad jurídica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del derecho 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- BAJA EDAD MEDIA. 1217 – 1474/1492. Unificación d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recepción del derecho común (ius comm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-TIEMPOS MODERNOS. 1492 - 1810.Proyección del derecho castel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América y formación del derecho ind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- ETAPA CONTEMPORÁNEA. 1810 --- Derecho chileno. Recep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cionalismo y la codificación y evolución a travé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sitivismo y so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3:39:03Z</dcterms:created>
  <dc:creator>mfigueroa</dc:creator>
  <dc:description/>
  <dc:language>en-US</dc:language>
  <cp:lastModifiedBy>mfigueroa</cp:lastModifiedBy>
  <dcterms:modified xsi:type="dcterms:W3CDTF">2007-03-14T15:57:37Z</dcterms:modified>
  <cp:revision>12</cp:revision>
  <dc:subject/>
  <dc:title>Capítulo I. Introducción</dc:title>
</cp:coreProperties>
</file>