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FCA-1F73-4808-801F-3C907CDB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1F2-81D4-4BED-B53D-D812F0E7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640-F026-44E2-BC25-8D526AD3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82C-AB22-4D8C-B8E8-08293D6D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8C43-8A63-48F8-8B86-87F2D599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943-8AA9-476A-97C6-F332326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615-CB36-4FF8-BB22-20F0B82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BE7-DDDF-4053-B409-E6A0F9EC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9F4-4572-4CED-8FB1-F1FCA587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603-1893-49D9-9E2A-ADAFAB23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42C-250B-416A-B6D5-D0A58F08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523-4E81-410C-9CA0-D3CDA88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7C02-DB50-4501-A107-57F0D207A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Baja Edad Media. 1217 –  1492  (1474).  Etapa de Unificación del Derecho Mediante la recepción del Derecho Comú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Surgimiento económico de Europa Occid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Desarrollo de las ciudades y surgimiento de la burguesí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su poder urb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Renacimiento cultural y surgimiento de las Univer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del derecho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La presencia del Islám en el Mediterra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Conflictos entre Papado e Imperio y autonomía de Españ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laterra y Francia frente al Impe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Características  de España en esta etap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Características de la reconquista bajomediev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Reconquista sin repoblación e integr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andes ciudades a los reinos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Consolidación del feudal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 Cambios en la sociedad y 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1   Monarquía más fuerte y en proces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gración en Coronas. Municipios y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rg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2520"/>
            <a:ext cx="914400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Reorganización político administrativa del Estado castel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Centralización del po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ontrol de las autonomías municipales. Correg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s de control del estamento nobil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funcionamiento de las Cor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Organización de la jurisdicción real de segunda Inst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cillerías  o Reales Audiencias territor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Organización de la administración del Es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ocratización de la 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personalización de los c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ción legal de funciones y atrib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abilidad ante el monarca por el ejercicio del cargo (visitas y residenc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La estructura del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Consejo de Estado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Rey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err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ribunal de la Co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C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4437000"/>
            <a:ext cx="216000" cy="2232000"/>
          </a:xfrm>
          <a:custGeom>
            <a:avLst/>
            <a:gdLst>
              <a:gd name="textAreaLeft" fmla="*/ 63360 w 216000"/>
              <a:gd name="textAreaRight" fmla="*/ 216360 w 21600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4076640"/>
            <a:ext cx="73080" cy="1224000"/>
          </a:xfrm>
          <a:custGeom>
            <a:avLst/>
            <a:gdLst>
              <a:gd name="textAreaLeft" fmla="*/ 21240 w 73080"/>
              <a:gd name="textAreaRight" fmla="*/ 73440 w 7308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1280" y="228600"/>
            <a:ext cx="786456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785080" cy="5432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-10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poca de los descubr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4936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ormacion del ius commune. Fuentes de Derech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ges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recopil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urisprudencia doctrinal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udicia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lásica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. II a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. II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stituta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Jurisprudencia doctrinal  clásica.(hasta II d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o                              s.II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dex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Compi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it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eriales.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tclásico.Desde el s.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vellas:Comp Constit. Imp. D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tclásico I.Bizan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1268280"/>
            <a:ext cx="504720" cy="4537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68"/>
                </a:lnTo>
                <a:cubicBezTo>
                  <a:pt x="10800" y="9468"/>
                  <a:pt x="5400" y="10368"/>
                  <a:pt x="0" y="10368"/>
                </a:cubicBezTo>
                <a:cubicBezTo>
                  <a:pt x="5400" y="10368"/>
                  <a:pt x="10800" y="11268"/>
                  <a:pt x="10800" y="121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1080" y="504720"/>
            <a:ext cx="9144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mación del ius commune. Fuentes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creto de Gracian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cop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ánones conciliares h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rech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nónic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cretales de Gregorio I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cop.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cretales papales. 1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5 lib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iber Sextu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c. Decret pa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iber Septimu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c. Decret. pap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xtravagant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c. Decret.papales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44720" y="1413000"/>
            <a:ext cx="144360" cy="4752720"/>
          </a:xfrm>
          <a:custGeom>
            <a:avLst/>
            <a:gdLst>
              <a:gd name="textAreaLeft" fmla="*/ 42480 w 144360"/>
              <a:gd name="textAreaRight" fmla="*/ 144360 w 144360"/>
              <a:gd name="textAreaTop" fmla="*/ 198000 h 4752720"/>
              <a:gd name="textAreaBottom" fmla="*/ 4554720 h 47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5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Formación del ius commune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.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Fuente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Textos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Etapa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Género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Materiale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Liter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gesto                            Glosarios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ne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tituta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Glosa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osa Ord.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Romano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dex                               Magna Glosa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curs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vellas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l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creto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Comentari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ctatus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bal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Canónico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aciano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( Mos italicu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   Allegationes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rtol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mentaria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ssofer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cretales                                Consiglia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uan And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pales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colá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cretales Gregorio I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ude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iber Sex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iber Septimu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travagantes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1413000"/>
            <a:ext cx="71640" cy="1368360"/>
          </a:xfrm>
          <a:custGeom>
            <a:avLst/>
            <a:gdLst>
              <a:gd name="textAreaLeft" fmla="*/ 20880 w 71640"/>
              <a:gd name="textAreaRight" fmla="*/ 72000 w 7164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3789360"/>
            <a:ext cx="71280" cy="1727280"/>
          </a:xfrm>
          <a:custGeom>
            <a:avLst/>
            <a:gdLst>
              <a:gd name="textAreaLeft" fmla="*/ 20880 w 71280"/>
              <a:gd name="textAreaRight" fmla="*/ 71640 w 71280"/>
              <a:gd name="textAreaTop" fmla="*/ 44280 h 1727280"/>
              <a:gd name="textAreaBottom" fmla="*/ 168300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56"/>
                  <a:pt x="0" y="1111"/>
                </a:cubicBezTo>
                <a:lnTo>
                  <a:pt x="0" y="20489"/>
                </a:lnTo>
                <a:cubicBezTo>
                  <a:pt x="0" y="2104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1268280"/>
            <a:ext cx="142560" cy="1081080"/>
          </a:xfrm>
          <a:custGeom>
            <a:avLst/>
            <a:gdLst>
              <a:gd name="textAreaLeft" fmla="*/ 41760 w 142560"/>
              <a:gd name="textAreaRight" fmla="*/ 142920 w 142560"/>
              <a:gd name="textAreaTop" fmla="*/ 22680 h 1081080"/>
              <a:gd name="textAreaBottom" fmla="*/ 10584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9"/>
                  <a:pt x="0" y="918"/>
                </a:cubicBezTo>
                <a:lnTo>
                  <a:pt x="0" y="20682"/>
                </a:lnTo>
                <a:cubicBezTo>
                  <a:pt x="0" y="2114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93080" y="1268280"/>
            <a:ext cx="215640" cy="1368720"/>
          </a:xfrm>
          <a:custGeom>
            <a:avLst/>
            <a:gdLst>
              <a:gd name="textAreaLeft" fmla="*/ 63360 w 215640"/>
              <a:gd name="textAreaRight" fmla="*/ 216000 w 215640"/>
              <a:gd name="textAreaTop" fmla="*/ 56880 h 1368720"/>
              <a:gd name="textAreaBottom" fmla="*/ 131184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3284640"/>
            <a:ext cx="71280" cy="2305080"/>
          </a:xfrm>
          <a:custGeom>
            <a:avLst/>
            <a:gdLst>
              <a:gd name="textAreaLeft" fmla="*/ 20880 w 71280"/>
              <a:gd name="textAreaRight" fmla="*/ 71640 w 7128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3360"/>
            <a:ext cx="914400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I.-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Formación jus commune</a:t>
            </a: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Fuentes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Texto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Etapa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Género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Materiale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Liter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Glos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osari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ne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osa Ord.                A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tc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Accur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Rec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mbardía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Comentario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mentaria            Bal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Feudal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ctatus                   Bart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legationes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Humanismo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cision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lc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Jurídico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aestiones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u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(Mos Gallicu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      Practica forense     Cuj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legationes            Nebr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glia                 Covarru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133720"/>
            <a:ext cx="71280" cy="718920"/>
          </a:xfrm>
          <a:custGeom>
            <a:avLst/>
            <a:gdLst>
              <a:gd name="textAreaLeft" fmla="*/ 20880 w 71280"/>
              <a:gd name="textAreaRight" fmla="*/ 71640 w 71280"/>
              <a:gd name="textAreaTop" fmla="*/ 29880 h 718920"/>
              <a:gd name="textAreaBottom" fmla="*/ 689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4292640"/>
            <a:ext cx="216000" cy="1800360"/>
          </a:xfrm>
          <a:custGeom>
            <a:avLst/>
            <a:gdLst>
              <a:gd name="textAreaLeft" fmla="*/ 63360 w 216000"/>
              <a:gd name="textAreaRight" fmla="*/ 216360 w 216000"/>
              <a:gd name="textAreaTop" fmla="*/ 74880 h 1800360"/>
              <a:gd name="textAreaBottom" fmla="*/ 172548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4360" y="4292640"/>
            <a:ext cx="71640" cy="1657440"/>
          </a:xfrm>
          <a:custGeom>
            <a:avLst/>
            <a:gdLst>
              <a:gd name="textAreaLeft" fmla="*/ 20880 w 71640"/>
              <a:gd name="textAreaRight" fmla="*/ 72000 w 71640"/>
              <a:gd name="textAreaTop" fmla="*/ 68760 h 1657440"/>
              <a:gd name="textAreaBottom" fmla="*/ 158868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87640" y="1052640"/>
            <a:ext cx="71640" cy="4032000"/>
          </a:xfrm>
          <a:custGeom>
            <a:avLst/>
            <a:gdLst>
              <a:gd name="textAreaLeft" fmla="*/ 20880 w 71640"/>
              <a:gd name="textAreaRight" fmla="*/ 72000 w 71640"/>
              <a:gd name="textAreaTop" fmla="*/ 167760 h 4032000"/>
              <a:gd name="textAreaBottom" fmla="*/ 3864240 h 40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1484280"/>
            <a:ext cx="71640" cy="720720"/>
          </a:xfrm>
          <a:custGeom>
            <a:avLst/>
            <a:gdLst>
              <a:gd name="textAreaLeft" fmla="*/ 20880 w 71640"/>
              <a:gd name="textAreaRight" fmla="*/ 72000 w 7164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2637000"/>
            <a:ext cx="71640" cy="93636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936360"/>
              <a:gd name="textAreaBottom" fmla="*/ 89748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1413000"/>
            <a:ext cx="144360" cy="792000"/>
          </a:xfrm>
          <a:custGeom>
            <a:avLst/>
            <a:gdLst>
              <a:gd name="textAreaLeft" fmla="*/ 42480 w 144360"/>
              <a:gd name="textAreaRight" fmla="*/ 144360 w 14436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2637000"/>
            <a:ext cx="144360" cy="863280"/>
          </a:xfrm>
          <a:custGeom>
            <a:avLst/>
            <a:gdLst>
              <a:gd name="textAreaLeft" fmla="*/ 42480 w 144360"/>
              <a:gd name="textAreaRight" fmla="*/ 144360 w 144360"/>
              <a:gd name="textAreaTop" fmla="*/ 35640 h 863280"/>
              <a:gd name="textAreaBottom" fmla="*/ 82764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56080" y="83664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57160" y="3276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57160" y="3276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1240"/>
            <a:ext cx="9117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Recepción del Derecho Común en Españ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 Concep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Incorporación de la doctrina del ius commune como 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 legislación y de la jurisprudencia judicial y administ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vía legal u org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Tipos de recep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Por vía jurisprudencial o inorg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 a)    Derecho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.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Recepción por vía leg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3. b)    Derech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péculo -  Fuero Real –Siete Partidas (12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denamiento de Alcalá de Henares de 13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3. a)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Ordenamiento de Montalvo de 1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Territorial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Leyes de Toro de 1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eva Recopilación de Leyes de Castilla 15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vísima Recop. De leyes de Castilla 18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ero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3. b)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Fuero Juzgo ( Liber Judiciorum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Municipal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Fueros Tipo: Soria, Cuenca,  Sepúlv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1700280"/>
            <a:ext cx="71280" cy="576360"/>
          </a:xfrm>
          <a:custGeom>
            <a:avLst/>
            <a:gdLst>
              <a:gd name="textAreaLeft" fmla="*/ 20880 w 71280"/>
              <a:gd name="textAreaRight" fmla="*/ 71640 w 71280"/>
              <a:gd name="textAreaTop" fmla="*/ 23760 h 576360"/>
              <a:gd name="textAreaBottom" fmla="*/ 552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2637000"/>
            <a:ext cx="71640" cy="792000"/>
          </a:xfrm>
          <a:custGeom>
            <a:avLst/>
            <a:gdLst>
              <a:gd name="textAreaLeft" fmla="*/ 20880 w 71640"/>
              <a:gd name="textAreaRight" fmla="*/ 72000 w 7164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3500280"/>
            <a:ext cx="144720" cy="1873440"/>
          </a:xfrm>
          <a:custGeom>
            <a:avLst/>
            <a:gdLst>
              <a:gd name="textAreaLeft" fmla="*/ 42480 w 144720"/>
              <a:gd name="textAreaRight" fmla="*/ 145080 w 144720"/>
              <a:gd name="textAreaTop" fmla="*/ 77760 h 1873440"/>
              <a:gd name="textAreaBottom" fmla="*/ 179568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5805360"/>
            <a:ext cx="71280" cy="719280"/>
          </a:xfrm>
          <a:custGeom>
            <a:avLst/>
            <a:gdLst>
              <a:gd name="textAreaLeft" fmla="*/ 20880 w 71280"/>
              <a:gd name="textAreaRight" fmla="*/ 71640 w 71280"/>
              <a:gd name="textAreaTop" fmla="*/ 29880 h 719280"/>
              <a:gd name="textAreaBottom" fmla="*/ 689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4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Recepción inorgánica. Acción de la monarquía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1.- El Ordenamiento d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Establece orden de pr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lcalá de Hena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Excluye recepción jurispru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 13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pta jurisprudencia doctrinal h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2.- Pragmática  de  Jua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Bartolo ( 1314- 1357) y Juan And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I . ( 1427 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(1270 – 13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teria civil            1º Bart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3.- Pragmática de los Rey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2º Baldo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atólicos (1499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                      Materia canónica   1º Juan And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º Nicolás Tudes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4.- Leyes de Toro (150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.             Confirma orden de prelación de 13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cluye  recepción doctr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981000"/>
            <a:ext cx="71640" cy="792360"/>
          </a:xfrm>
          <a:custGeom>
            <a:avLst/>
            <a:gdLst>
              <a:gd name="textAreaLeft" fmla="*/ 20880 w 71640"/>
              <a:gd name="textAreaRight" fmla="*/ 72000 w 71640"/>
              <a:gd name="textAreaTop" fmla="*/ 32760 h 792360"/>
              <a:gd name="textAreaBottom" fmla="*/ 75960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2205000"/>
            <a:ext cx="73080" cy="936720"/>
          </a:xfrm>
          <a:custGeom>
            <a:avLst/>
            <a:gdLst>
              <a:gd name="textAreaLeft" fmla="*/ 21240 w 73080"/>
              <a:gd name="textAreaRight" fmla="*/ 73440 w 7308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342900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5661000"/>
            <a:ext cx="71280" cy="576360"/>
          </a:xfrm>
          <a:custGeom>
            <a:avLst/>
            <a:gdLst>
              <a:gd name="textAreaLeft" fmla="*/ 20880 w 71280"/>
              <a:gd name="textAreaRight" fmla="*/ 71640 w 71280"/>
              <a:gd name="textAreaTop" fmla="*/ 23760 h 576360"/>
              <a:gd name="textAreaBottom" fmla="*/ 552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35000"/>
            <a:ext cx="9144000" cy="6677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Ordenamiento de Alcalá de Henares de 13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Crea  ordenamiento jurídico (prel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Temas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2.- Resuelve conflicto entre re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que regula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legal y  jurisprudencial del 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mu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Establece primacía del derech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ritorial sobre el derecho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Pone en vigencia las Siete Part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º  Las leyes del propio Ordenamiento (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gislación posterior a 1348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º  Fuero Real y fueros municipales 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Orden de Prel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se prueben en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º  Código de las Siete Part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º  El 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4221000"/>
            <a:ext cx="144360" cy="2087640"/>
          </a:xfrm>
          <a:custGeom>
            <a:avLst/>
            <a:gdLst>
              <a:gd name="textAreaLeft" fmla="*/ 42480 w 144360"/>
              <a:gd name="textAreaRight" fmla="*/ 144360 w 14436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836640"/>
            <a:ext cx="144360" cy="2521080"/>
          </a:xfrm>
          <a:custGeom>
            <a:avLst/>
            <a:gdLst>
              <a:gd name="textAreaLeft" fmla="*/ 42480 w 144360"/>
              <a:gd name="textAreaRight" fmla="*/ 144360 w 144360"/>
              <a:gd name="textAreaTop" fmla="*/ 104760 h 2521080"/>
              <a:gd name="textAreaBottom" fmla="*/ 241632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2520"/>
            <a:ext cx="914400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El gobierno de los reyes católicos. 1474- 1504-15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Unificación terri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onquista de Granada y la expulsión política del Islá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Arial"/>
              </a:rPr>
              <a:t>Unificación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 pacto político entre las Coronas de Castilla y de Arag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Unificación relig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forma de la Inquisi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ulsión de los ju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ulsión religiosa de los “moro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Unificación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rdenamiento de Montalvo 14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agmática de Madrid 14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yes de Toro 15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Expansión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itulaciones Matrimoniales  de Fernando e Isabel 14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ulas Papales de donación a los portugueses 1450-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atado de Alcaçobas 14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itulaciones de Santa Fe 14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ulas papales de donación a los castellanos 14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atado de Tordesillas 14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Reorganización político administrativa del Estado castell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09:10:24Z</dcterms:created>
  <dc:creator>mfigueroa</dc:creator>
  <dc:description/>
  <dc:language>en-US</dc:language>
  <cp:lastModifiedBy>WinuE</cp:lastModifiedBy>
  <dcterms:modified xsi:type="dcterms:W3CDTF">2007-05-22T20:13:37Z</dcterms:modified>
  <cp:revision>13</cp:revision>
  <dc:subject/>
  <dc:title>Diapositiva 1</dc:title>
</cp:coreProperties>
</file>