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119-DF63-4030-95DF-995A9138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766-B892-46FB-9196-DCEFFD95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79C-82DE-45EE-9659-25EDC473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695-C7CB-4A3E-BBB8-F54CAAF3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F7C-3CFE-4D5A-95C7-2E72625D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8C7-6733-456F-9B85-780021C9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D2F-3D66-4443-9CB1-0CF3D852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DA0-BB0F-45C3-8546-9BCA4F15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713-754D-4DB6-8F95-143B7DE7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012-AC3E-46BE-9C11-D4E6E7C2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147-109D-4373-B70A-12BDAA3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54E-48D0-4EFB-B949-6967568A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4A8C-0042-4EA8-9A77-12797F99B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820000" cy="460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5969160"/>
            <a:ext cx="88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ansión del Islám desde la muerte de Mahoma 632,  hasta la sublevación contra los califas Omeyas, 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539640" y="5013360"/>
            <a:ext cx="144720" cy="287280"/>
          </a:xfrm>
          <a:custGeom>
            <a:avLst/>
            <a:gdLst>
              <a:gd name="textAreaLeft" fmla="*/ 36000 w 144720"/>
              <a:gd name="textAreaRight" fmla="*/ 108720 w 144720"/>
              <a:gd name="textAreaTop" fmla="*/ 36000 h 287280"/>
              <a:gd name="textAreaBottom" fmla="*/ 251280 h 287280"/>
            </a:gdLst>
            <a:ahLst/>
            <a:rect l="textAreaLeft" t="textAreaTop" r="textAreaRight" b="textAreaBottom"/>
            <a:pathLst>
              <a:path w="21600" h="42825">
                <a:moveTo>
                  <a:pt x="0" y="0"/>
                </a:moveTo>
                <a:lnTo>
                  <a:pt x="21600" y="0"/>
                </a:lnTo>
                <a:lnTo>
                  <a:pt x="21600" y="42825"/>
                </a:lnTo>
                <a:lnTo>
                  <a:pt x="0" y="42825"/>
                </a:lnTo>
                <a:close/>
              </a:path>
              <a:path fill="lightenLess" w="21600" h="4282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42825">
                <a:moveTo>
                  <a:pt x="21600" y="0"/>
                </a:moveTo>
                <a:lnTo>
                  <a:pt x="21600" y="42825"/>
                </a:lnTo>
                <a:lnTo>
                  <a:pt x="16200" y="37425"/>
                </a:lnTo>
                <a:lnTo>
                  <a:pt x="16200" y="5400"/>
                </a:lnTo>
                <a:close/>
              </a:path>
              <a:path fill="darkenLess" w="21600" h="42825">
                <a:moveTo>
                  <a:pt x="21600" y="42825"/>
                </a:moveTo>
                <a:lnTo>
                  <a:pt x="0" y="42825"/>
                </a:lnTo>
                <a:lnTo>
                  <a:pt x="5400" y="37425"/>
                </a:lnTo>
                <a:lnTo>
                  <a:pt x="16200" y="37425"/>
                </a:lnTo>
                <a:close/>
              </a:path>
              <a:path fill="lighten" w="21600" h="42825">
                <a:moveTo>
                  <a:pt x="0" y="42825"/>
                </a:moveTo>
                <a:lnTo>
                  <a:pt x="0" y="0"/>
                </a:lnTo>
                <a:lnTo>
                  <a:pt x="5400" y="5400"/>
                </a:lnTo>
                <a:lnTo>
                  <a:pt x="5400" y="37425"/>
                </a:lnTo>
                <a:close/>
              </a:path>
              <a:path fill="darken" w="21600" h="42825">
                <a:moveTo>
                  <a:pt x="6775" y="17387"/>
                </a:moveTo>
                <a:lnTo>
                  <a:pt x="14825" y="21412"/>
                </a:lnTo>
                <a:lnTo>
                  <a:pt x="6775" y="25437"/>
                </a:lnTo>
                <a:close/>
              </a:path>
            </a:pathLst>
          </a:custGeom>
          <a:solidFill>
            <a:srgbClr val="dc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1320" y="5033880"/>
            <a:ext cx="21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la muerte de Mahoma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539640" y="537372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32212">
                <a:moveTo>
                  <a:pt x="0" y="0"/>
                </a:moveTo>
                <a:lnTo>
                  <a:pt x="21600" y="0"/>
                </a:lnTo>
                <a:lnTo>
                  <a:pt x="21600" y="32212"/>
                </a:lnTo>
                <a:lnTo>
                  <a:pt x="0" y="32212"/>
                </a:lnTo>
                <a:close/>
              </a:path>
              <a:path fill="lightenLess" w="21600" h="32212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32212">
                <a:moveTo>
                  <a:pt x="21600" y="0"/>
                </a:moveTo>
                <a:lnTo>
                  <a:pt x="21600" y="32212"/>
                </a:lnTo>
                <a:lnTo>
                  <a:pt x="21600" y="32212"/>
                </a:lnTo>
                <a:lnTo>
                  <a:pt x="21600" y="0"/>
                </a:lnTo>
                <a:close/>
              </a:path>
              <a:path fill="darkenLess" w="21600" h="32212">
                <a:moveTo>
                  <a:pt x="21600" y="32212"/>
                </a:moveTo>
                <a:lnTo>
                  <a:pt x="0" y="32212"/>
                </a:lnTo>
                <a:lnTo>
                  <a:pt x="0" y="32212"/>
                </a:lnTo>
                <a:lnTo>
                  <a:pt x="21600" y="32212"/>
                </a:lnTo>
                <a:close/>
              </a:path>
              <a:path fill="lighten" w="21600" h="32212">
                <a:moveTo>
                  <a:pt x="0" y="32212"/>
                </a:moveTo>
                <a:lnTo>
                  <a:pt x="0" y="0"/>
                </a:lnTo>
                <a:lnTo>
                  <a:pt x="0" y="0"/>
                </a:lnTo>
                <a:lnTo>
                  <a:pt x="0" y="32212"/>
                </a:lnTo>
                <a:close/>
              </a:path>
              <a:path fill="darken" w="21600" h="32212">
                <a:moveTo>
                  <a:pt x="2750" y="8056"/>
                </a:moveTo>
                <a:lnTo>
                  <a:pt x="18850" y="16106"/>
                </a:lnTo>
                <a:lnTo>
                  <a:pt x="2750" y="24156"/>
                </a:lnTo>
                <a:close/>
              </a:path>
            </a:pathLst>
          </a:custGeom>
          <a:solidFill>
            <a:srgbClr val="e5c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 flipV="1">
            <a:off x="468360" y="5660280"/>
            <a:ext cx="216000" cy="144360"/>
          </a:xfrm>
          <a:custGeom>
            <a:avLst/>
            <a:gdLst>
              <a:gd name="textAreaLeft" fmla="*/ 36000 w 216000"/>
              <a:gd name="textAreaRight" fmla="*/ 180000 w 216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26893" y="5400"/>
                </a:lnTo>
                <a:lnTo>
                  <a:pt x="5400" y="5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26893" y="16200"/>
                </a:lnTo>
                <a:lnTo>
                  <a:pt x="26893" y="5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6893" y="16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293" h="21600">
                <a:moveTo>
                  <a:pt x="12121" y="6775"/>
                </a:moveTo>
                <a:lnTo>
                  <a:pt x="20171" y="10800"/>
                </a:lnTo>
                <a:lnTo>
                  <a:pt x="12121" y="14825"/>
                </a:lnTo>
                <a:close/>
              </a:path>
            </a:pathLst>
          </a:custGeom>
          <a:solidFill>
            <a:srgbClr val="f6e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600" y="5321160"/>
            <a:ext cx="15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bu Baker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610240"/>
            <a:ext cx="10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sta 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32184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Características del derecho fo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Recoge elemento germánico consuetudinario y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omano vul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Es derecho no cient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Casu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Prevalece sobre el derecho real con excepció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s de Corte” y de la segunda instanci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Derecho dinámico, en permanente recre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Sus normas provienen de: a) Costumbre jurídica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gislación del Concejo municipal  c) jurisprud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 tribunal de los alcal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La posibilidad de reconocimiento del fuero gene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itación de los fueros más per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.- Contienen principios de igualación de los est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- Contienen normas sobre tolerancia relig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Es un derecho de aplicación local que tiene caráct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ivilegio. Normas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 Contienen normas de Dº civil, penal, procesal, comer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32184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Características del derecho fo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Recoge elemento germánico consuetudinario y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omano vul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Es derecho no cient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Casu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Prevalece sobre el derecho real con excepció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s de Corte” y de la segunda instanci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Derecho dinámico, en permanente recre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Sus normas provienen de: a) Costumbre jurídica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gislación del Concejo municipal  c) jurisprud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 tribunal de los alcal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La posibilidad de reconocimiento del fuero gene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itación de los fueros más per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.- Contienen principios de igualación de los est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- Contienen normas sobre tolerancia relig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Es un derecho de aplicación local que tiene caráct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ivilegio. Normas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 Contienen normas de Dº civil, penal, procesal, comer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Carta Magna leones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Decretos de la Curia de León de 1188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Aprobada en las primeras “Cortes” con participación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mento de los 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Contiene garantías con carácter territorial para los 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Tiene carácter pac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 Entre  sus normas garanti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Inviolabilidad del hogar     b) legítima def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Habeas corpus    d) lugares de d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) Sanción de delitos cometidos por 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) Denegación o retardo malicioso en administrar just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) Derecho a conocer acusaciones y sanción de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use sin fund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) Obligación de comparecer ante la justicia, incluso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) Prenda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) Normas destinadas a dar autonomía a los ju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725688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El Estado en los reinos cristianos alto medievales</a:t>
            </a: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Caracter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 Idea de reposición del reino visigodo de Es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 Monarquía electiva que se convierte en hered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 Evolución desde un concepto patrimonial  a u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erson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 Participación política de los estamentos nobili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-  Las Cortes: Inicio de la participació0n política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Estru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jo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ia  Reg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ord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157720"/>
            <a:ext cx="142920" cy="1295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7"/>
                </a:lnTo>
                <a:cubicBezTo>
                  <a:pt x="10800" y="9487"/>
                  <a:pt x="5400" y="10387"/>
                  <a:pt x="0" y="10387"/>
                </a:cubicBezTo>
                <a:cubicBezTo>
                  <a:pt x="5400" y="10387"/>
                  <a:pt x="10800" y="11287"/>
                  <a:pt x="10800" y="1218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4653000"/>
            <a:ext cx="215640" cy="1081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260280"/>
          <a:ext cx="91440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4000" y="632952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ce de la reconquista crist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4720" y="0"/>
            <a:ext cx="82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2200" y="461880"/>
            <a:ext cx="84978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376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9400"/>
            <a:ext cx="9144000" cy="667764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Alta Edad Media. 711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-  1217. Etapa de variedad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Presencia islámica en occidente y aislamiento de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ccidental. Al Andal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solidación de los reinos germanos de Occidente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Inicio del Sacro Imperio Romano Ger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Separación de la Iglesia romana y la biza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Consolidación del feudalismo como institución económ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lítica  y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Las cruzadas y la reconquista de los santos lug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Estructura estamental de la sociedad y estatutos juríd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erenciados.(estamentales, religiosos, municipa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.- Influencia del germanismo en el derecho consuetudi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-  La lucha por el acceso a los privilegios jurídicos ( fu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autonomías municipales y feud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 Reconquista cristiana en España y re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Formación de los reinos cristianos de la reconquista.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ino de Castilla y su liderazgo en la empres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onqu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16796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 altomedieval en los reinos cristianos del área astur-leon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stilla         Fueros de albedrí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Territorial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ón            _   Liber judici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_   Decretos de la Cur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ón 11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mentales:      Nobleza l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s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Nobleza eclesiá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Person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ligiosos:           Cristianos - Judí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sulm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. extensos -  F.br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s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Fueros muni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Locales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F. 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s feud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69228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628640"/>
            <a:ext cx="73080" cy="863640"/>
          </a:xfrm>
          <a:custGeom>
            <a:avLst/>
            <a:gdLst>
              <a:gd name="textAreaLeft" fmla="*/ 21240 w 73080"/>
              <a:gd name="textAreaRight" fmla="*/ 73440 w 7308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292428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5229360"/>
            <a:ext cx="71280" cy="107928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01336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2781360"/>
            <a:ext cx="73080" cy="863640"/>
          </a:xfrm>
          <a:custGeom>
            <a:avLst/>
            <a:gdLst>
              <a:gd name="textAreaLeft" fmla="*/ 21240 w 73080"/>
              <a:gd name="textAreaRight" fmla="*/ 73440 w 7308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005360"/>
            <a:ext cx="71280" cy="792000"/>
          </a:xfrm>
          <a:custGeom>
            <a:avLst/>
            <a:gdLst>
              <a:gd name="textAreaLeft" fmla="*/ 20880 w 71280"/>
              <a:gd name="textAreaRight" fmla="*/ 71640 w 7128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41360"/>
            <a:ext cx="9144000" cy="579456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FEUDALISMO - ALTA EDAD MEDI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Concepto: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ón de carácter político, económico, social y juríd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e en relaciones voluntarias de fidelidad entre nobles por las cuales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ñor y el vasallo se comprometen a darse mutua protección y ayuda,  la qu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e del señor consiste en el beneficio feudal   y en la inmunidad del fe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a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Elementos del feudalism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Bene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Vasallaj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Sólo entre nobles. Derechos y deb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íprocos. Condicional. Encomend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Beneficio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ierras en propiedad o usufru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Inmunid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ransferencia al vasallo de atribucio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ernar, impartir justicia, legislar y cob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060640"/>
            <a:ext cx="142920" cy="936720"/>
          </a:xfrm>
          <a:custGeom>
            <a:avLst/>
            <a:gdLst>
              <a:gd name="textAreaLeft" fmla="*/ 42120 w 142920"/>
              <a:gd name="textAreaRight" fmla="*/ 143280 w 14292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424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Municipio altomediev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Autonomías y derecho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local.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oncepto de municipi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titución de derecho público constituida por los vecinos de una villa, pueblo o ciudad  que se autogobiernan y generan su propio derecho dentro de su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jo     reg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structura del municipi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cal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Fueros municipal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    Normas jurídicas formadas por costumbre local,  jurisprudencia de los alcaldes y  ley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ctadas por el concejo municipal que rigen en el territorio de un municipio y que en el caso de obtener reconocimiento del rey o del señor feudal, constituyen un fuero o privilegio de los vecinos del lugar que se hace inmune al poder central o feudal.                         Extensos y br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Fu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po o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256536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2492280"/>
            <a:ext cx="216000" cy="3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6"/>
                </a:lnTo>
                <a:cubicBezTo>
                  <a:pt x="10800" y="10616"/>
                  <a:pt x="5400" y="11516"/>
                  <a:pt x="0" y="11516"/>
                </a:cubicBezTo>
                <a:cubicBezTo>
                  <a:pt x="5400" y="11516"/>
                  <a:pt x="10800" y="12416"/>
                  <a:pt x="10800" y="133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5877000"/>
            <a:ext cx="144720" cy="981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5560 h 981000"/>
              <a:gd name="textAreaBottom" fmla="*/ 95544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5:28:56Z</dcterms:created>
  <dc:creator>mfigueroa</dc:creator>
  <dc:description/>
  <dc:language>en-US</dc:language>
  <cp:lastModifiedBy>mfigueroa</cp:lastModifiedBy>
  <dcterms:modified xsi:type="dcterms:W3CDTF">2007-05-15T13:16:34Z</dcterms:modified>
  <cp:revision>23</cp:revision>
  <dc:subject/>
  <dc:title>Diapositiva 1</dc:title>
</cp:coreProperties>
</file>